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034-E42E-49E4-8C1C-422B0688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E3D-50C9-490A-A8BF-85873A36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63E-C2DD-4B9A-B273-6968502F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F5D-A2E3-4635-BB3B-8B148DDA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341-E76B-458D-A972-6299ECC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E26-91E0-4057-8155-71F26D9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83B-9421-4AFE-AA37-6299D53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27B-7C9D-44C4-82C5-FD98D6E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0EB-B14F-47CA-A37E-A58EE84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B7E-AD9A-45F8-885E-8AE2B3B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515-4E03-47C6-AE8B-81B0B8C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841-C756-4295-9DDB-4DFFEC2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6494-7DC1-40C9-8318-0C2A66FED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585720" y="738360"/>
            <a:ext cx="8339040" cy="439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076720" y="4362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鲁 迅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762120" y="6094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识记与理解：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9640" y="1700280"/>
            <a:ext cx="860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．给下列加横线的字注音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阿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长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）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疤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诘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问（            ）   惧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震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惊（            ）   粗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拙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憎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恶（            ）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说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惶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急（            ）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438280" y="56386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04000" y="4365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xù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443640" y="2349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huā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252520" y="2349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há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556000" y="43657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zē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340000" y="50846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uá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732720" y="3716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zhuó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411280" y="3645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zhè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732720" y="3068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à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484360" y="30686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jié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621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．选词填空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）这种敬意，虽然也逐渐（冷淡、淡薄、冷漠）起来，但完全（消失、消灭、消亡），大概是在知道她谋害了我的隐鼠之后。那时就极严重地（询问、审问、诘问 ），而且当面叫她阿长。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9480" y="358128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）这（就、也、又）使我发生新的敬意了，别人不肯做，或不能做的事，她（却、也、还）能够做成功。她确有伟大的神力。谋害隐鼠的怨恨，从此（基本、完全、全部）消灭了。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638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淡薄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484360" y="177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消失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00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又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62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却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20000" y="4292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完全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7407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诘问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刻画人物形象，常用的有肖像描写、语言描写、动作描写、心理描写。指出下列各旬运用了什么描写方法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2133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她生得黄胖而矮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09480" y="2666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最讨厌的是常喜欢切切察察，向人们低声絮说些什么事，还竖起第二个手指，在空中上下摇动，或者点着对手或自己的鼻尖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85800" y="3917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她穿着新的蓝布衫回来了，一见面，就将一包书递给我，高兴地说道：“哥儿，有画儿的‘二哼经’，我给你买来了！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       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0364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肖像描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443640" y="350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动作描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58920" y="54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语言描写、外貌描写、动作描写、神态描写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09480" y="457200"/>
            <a:ext cx="79250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．判断正误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朝花夕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是一本散文集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从百草园到三味书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也出自这本集子。（           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2362320"/>
            <a:ext cx="8076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文中的“我”表示的是采用第一人称叙述，并非真的是指少年鲁迅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鲁迅，原名周树人，是我国伟大的文学家、思想家和革命家。著作有杂文、小说、散文、诗歌等，收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鲁迅全集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里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5122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从题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阿长与山海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可知，课文详写的是阿长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山海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送“我”这一件事，其余的都是略写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867280" y="15573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对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835280" y="602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错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716360" y="2852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错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364000" y="4508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对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3132000" y="2708280"/>
            <a:ext cx="2438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55640" y="4149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今天我们就一起走进鲁迅先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看看长妈妈是个怎样的人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55640" y="10526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在鲁迅先生的散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从百草园到三味书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个人，这个人是谁呢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?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1159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导  入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8" name="Picture 2" descr="NewsMedia_124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280" y="254160"/>
            <a:ext cx="5140440" cy="324648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鲁迅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〔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88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～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3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〕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中国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文学家、思想家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革命家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原名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周树人，字豫才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浙江绍兴人。出身于破落封建家庭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0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去日本留学，原在仙台医学院学医， 后从事文艺工作，企图用以改变国民精神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，首次用“鲁迅”的笔名，发表中国现代文学史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第一篇白话小说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小说集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呐喊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、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彷徨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论文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 散文诗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野草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散文集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杂文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热风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专集。其中，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中篇小说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000" y="476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初读本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括文章围绕阿长写了哪些事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重点写的是什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71640" y="1773360"/>
            <a:ext cx="5833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：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阿长这个称呼的由来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切察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毛病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摆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的睡相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令人厌烦的种种规矩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往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我买心仪已久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BD05851_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45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-776880" y="3733920"/>
            <a:ext cx="8227080" cy="3124080"/>
          </a:xfrm>
          <a:prstGeom prst="rect">
            <a:avLst/>
          </a:prstGeom>
          <a:solidFill>
            <a:srgbClr val="ff99ff">
              <a:alpha val="50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连真正的名字也没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相貌平平甚至有些丑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多事，切切察察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不拘小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麻烦规矩多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愚昧，无知，迷信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心地善良，仁慈，善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于帮助别人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304920" y="380880"/>
            <a:ext cx="198108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99691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精读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4360" y="1557360"/>
            <a:ext cx="7772400" cy="167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精读并按以下句式说话</a:t>
            </a:r>
            <a:r>
              <a:rPr b="1" lang="en-US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文章＿＿＿＿片断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识到长妈妈是个＿＿＿＿＿＿＿＿的劳动妇女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2209680" y="3733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Picture 8" descr="SP_002"/>
          <p:cNvPicPr/>
          <p:nvPr/>
        </p:nvPicPr>
        <p:blipFill>
          <a:blip r:embed="rId3"/>
          <a:stretch/>
        </p:blipFill>
        <p:spPr>
          <a:xfrm>
            <a:off x="0" y="582300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题研究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再次默读课文，思考下列问题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、文章中“我”对长妈妈的感情是始终如一的吗？如果不是，说说前后有何变化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、课文前半部分，作者大写他如何“恶”“讨厌”阿长，在这些充满贬义的文字后面，你能感受到作者对阿长的什么样的感情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45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“不大佩服她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——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特别敬意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这种敬意“逐渐淡薄，最终完全消失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——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发生新的敬意”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“憎恶”“讨厌”是儿时的心理，先生在具体的描写中却流露着同情与怀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623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3" name="Picture 8" descr="j0281904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187280" y="692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者先写他“憎恶”、“讨厌”阿长，但在结尾处却说“仁厚黑暗的地母啊，愿在你怀里永安她的魂灵”，抒发出一种深沉的怀念之情。你是怎样理解作者的感情的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26920" y="364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章运用了先抑后扬的写法，是为了突出作者对长妈妈的敬佩和怀念之请。先写了她名字的来由，讨厌她的絮叨、对“我”的管束严格、繁多的礼节，其实这一切都是为了反衬后文“我”对她的敬佩和怀念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7928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PMingLiU"/>
              </a:rPr>
              <a:t>小  结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D00178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143000" y="60156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当阿长来问</a:t>
            </a:r>
            <a:r>
              <a:rPr b="1" lang="en-US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山海经</a:t>
            </a:r>
            <a:r>
              <a:rPr b="1" lang="en-US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是怎么一回事时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是怎样想的？这种想法表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的什么心理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当阿长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哥儿，有画儿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‘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三哼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’</a:t>
            </a:r>
            <a:r>
              <a:rPr b="1" lang="en-US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给你买来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有什么反应？表现出怎样的心情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这又使我发生新的敬意了，别人不肯做，或不能做的事，他却能够做成功。他确有伟大的神力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为什么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她确有伟大的神力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这四本书，乃是我最初得到，最为心爱的宝物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为什么这么说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9" name="Picture 4" descr="maoyi"/>
          <p:cNvPicPr/>
          <p:nvPr/>
        </p:nvPicPr>
        <p:blipFill>
          <a:blip r:embed="rId2"/>
          <a:stretch/>
        </p:blipFill>
        <p:spPr>
          <a:xfrm>
            <a:off x="7605720" y="5257800"/>
            <a:ext cx="1311120" cy="1403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研读阿长给我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部分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5080" y="531828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eeppt.com/moban/kejian/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38080" y="457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            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147400 w 9144000"/>
              <a:gd name="textAreaRight" fmla="*/ 6996600 w 9144000"/>
              <a:gd name="textAreaTop" fmla="*/ 1610280 h 6858000"/>
              <a:gd name="textAreaBottom" fmla="*/ 524772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拓展想象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假设阿长现在还健在，她读了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鲁迅这篇文章，会对鲁迅说什么？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 请同学们紧扣课文内容与人物性格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特征，放飞想象的翅膀，赋予人物新的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时代特色，代长妈妈说些话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2:12:2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0:12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