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8.gif" ContentType="image/gif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0.jpeg" ContentType="image/jpeg"/>
  <Override PartName="/ppt/media/image2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6E0-5575-4872-A337-5A56C7B9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419-2904-4152-B3FE-3F95FD3A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D579-EAE9-4460-A883-37437B28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805-25C7-4B83-BD41-0CDD89D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0B4-2261-4E9B-BF30-2FF07890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7AE-E147-409C-B7EF-C032D136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BBB-8B7A-463C-8245-3D512CBB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1DC-9E7C-4355-98FF-329F917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E591-5603-4BD9-8950-D5DFB627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950-36C7-432B-B014-802D3D3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2F68-E2D7-45F0-B197-514E2D2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C78-E505-4F26-9DFA-ADC1BFB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2A84-5831-41D9-9C1A-EB3F2F3B2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ww.yuhou.com/contact/tmlink.html" TargetMode="External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900000" y="1268280"/>
            <a:ext cx="76294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阿西莫夫短文两篇</a:t>
            </a:r>
            <a:endParaRPr b="0" lang="en-US" sz="4400" spc="-1" strike="noStrike">
              <a:ln w="0">
                <a:noFill/>
              </a:ln>
              <a:solidFill>
                <a:srgbClr val="3366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jianglong_b8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179280" y="333360"/>
            <a:ext cx="28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剑龙</a:t>
            </a:r>
            <a:endParaRPr b="1" i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banlong_b1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WordArt 3"/>
          <p:cNvSpPr txBox="1"/>
          <p:nvPr/>
        </p:nvSpPr>
        <p:spPr>
          <a:xfrm>
            <a:off x="1143000" y="762120"/>
            <a:ext cx="316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板龙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1336320" y="1890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隶书"/>
              </a:rPr>
              <a:t>霸王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jilong_b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755640" y="404640"/>
            <a:ext cx="1800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戟龙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babydinosaur1"/>
          <p:cNvPicPr/>
          <p:nvPr/>
        </p:nvPicPr>
        <p:blipFill>
          <a:blip r:embed="rId1"/>
          <a:stretch/>
        </p:blipFill>
        <p:spPr>
          <a:xfrm>
            <a:off x="0" y="228600"/>
            <a:ext cx="9067680" cy="662940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179280" y="260280"/>
            <a:ext cx="244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小角龙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hadrosaurs1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481040" y="132408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imes New Roman"/>
              </a:rPr>
              <a:t>恐龙无处不在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初读课文，独立思考：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40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经典行书简"/>
                <a:ea typeface="经典行书简"/>
              </a:rPr>
              <a:t>本文要说明的内容是什么</a:t>
            </a:r>
            <a:r>
              <a:rPr b="1" lang="en-US" sz="4000" spc="-1" strike="noStrike">
                <a:solidFill>
                  <a:srgbClr val="ff3300"/>
                </a:solidFill>
                <a:latin typeface="经典行书简"/>
                <a:ea typeface="经典行书简"/>
              </a:rPr>
              <a:t>?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复件 66"/>
          <p:cNvPicPr/>
          <p:nvPr/>
        </p:nvPicPr>
        <p:blipFill>
          <a:blip r:embed="rId1"/>
          <a:stretch/>
        </p:blipFill>
        <p:spPr>
          <a:xfrm>
            <a:off x="7905600" y="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2708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依据在南极发现恐龙化石的事实，证明了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板块构造</a:t>
            </a:r>
            <a:r>
              <a:rPr b="0" lang="en-US" sz="4800" spc="-1" strike="noStrike">
                <a:solidFill>
                  <a:srgbClr val="00ff00"/>
                </a:solidFill>
                <a:latin typeface="Arial"/>
                <a:ea typeface="华文行楷"/>
              </a:rPr>
              <a:t>”</a:t>
            </a: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理论的正确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1_clr"/>
          <p:cNvPicPr/>
          <p:nvPr/>
        </p:nvPicPr>
        <p:blipFill>
          <a:blip r:embed="rId2"/>
          <a:stretch/>
        </p:blipFill>
        <p:spPr>
          <a:xfrm>
            <a:off x="762120" y="620640"/>
            <a:ext cx="925560" cy="979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dizi01"/>
          <p:cNvPicPr/>
          <p:nvPr/>
        </p:nvPicPr>
        <p:blipFill>
          <a:blip r:embed="rId3"/>
          <a:stretch/>
        </p:blipFill>
        <p:spPr>
          <a:xfrm>
            <a:off x="0" y="451476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dizi11"/>
          <p:cNvPicPr/>
          <p:nvPr/>
        </p:nvPicPr>
        <p:blipFill>
          <a:blip r:embed="rId1"/>
          <a:stretch/>
        </p:blipFill>
        <p:spPr>
          <a:xfrm>
            <a:off x="0" y="0"/>
            <a:ext cx="9325080" cy="2205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228960" y="2133360"/>
            <a:ext cx="84582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经典行书简"/>
              </a:rPr>
              <a:t>阅读课文，分组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3047760"/>
            <a:ext cx="9524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为什么说恐龙无处不在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在南极发现恐龙化石说明了什么问题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什么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板块构造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理论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什么是“泛大陆” ？复述“泛大陆” 分离成七大洲的过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2"/>
          <p:cNvPicPr/>
          <p:nvPr/>
        </p:nvPicPr>
        <p:blipFill>
          <a:blip r:embed="rId2"/>
          <a:stretch/>
        </p:blipFill>
        <p:spPr>
          <a:xfrm>
            <a:off x="0" y="228600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99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阿根廷南极研究所的专家在南极发现一些化石骨骼，而这些骨骼属于鸟臀目恐龙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球的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其他大陆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都发现有恐龙化石。这些古老的爬行动物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南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出现，说明恐龙确实遍布于世界各地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9280" y="765000"/>
            <a:ext cx="8425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1. </a:t>
            </a:r>
            <a:r>
              <a:rPr b="1" lang="zh-CN" sz="48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为什么说恐龙无处不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5867280" y="11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0880" y="533520"/>
            <a:ext cx="4681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本文选自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新疆域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作者阿西莫夫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2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99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，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美国著名的科普作家和科学幻想小说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他发表的科幻小说和科普作品至今已有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多部，是公认的当今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美国科幻小说家的泰斗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阿西莫夫1"/>
          <p:cNvPicPr/>
          <p:nvPr/>
        </p:nvPicPr>
        <p:blipFill>
          <a:blip r:embed="rId1"/>
          <a:stretch/>
        </p:blipFill>
        <p:spPr>
          <a:xfrm>
            <a:off x="5292720" y="380880"/>
            <a:ext cx="3346560" cy="55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说明是大陆在漂移而不是恐龙自己在迁移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8820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2. </a:t>
            </a:r>
            <a:r>
              <a:rPr b="1" lang="zh-CN" sz="44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在南极发现恐龙化石说明了么问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南极洲◎"/>
          <p:cNvPicPr/>
          <p:nvPr/>
        </p:nvPicPr>
        <p:blipFill>
          <a:blip r:embed="rId1"/>
          <a:stretch/>
        </p:blipFill>
        <p:spPr>
          <a:xfrm>
            <a:off x="5219640" y="1700280"/>
            <a:ext cx="3924360" cy="309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霸王龙4"/>
          <p:cNvPicPr/>
          <p:nvPr/>
        </p:nvPicPr>
        <p:blipFill>
          <a:blip r:embed="rId2"/>
          <a:stretch/>
        </p:blipFill>
        <p:spPr>
          <a:xfrm>
            <a:off x="0" y="1700280"/>
            <a:ext cx="3492360" cy="304632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3708360" y="3284640"/>
            <a:ext cx="1079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94172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经典行书简"/>
                <a:ea typeface="经典行书简"/>
              </a:rPr>
              <a:t>3. </a:t>
            </a:r>
            <a:r>
              <a:rPr b="1" lang="zh-CN" sz="4800" spc="-1" strike="noStrike">
                <a:solidFill>
                  <a:srgbClr val="3333cc"/>
                </a:solidFill>
                <a:latin typeface="经典行书简"/>
                <a:ea typeface="经典行书简"/>
              </a:rPr>
              <a:t>什么是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经典行书简"/>
              </a:rPr>
              <a:t>“</a:t>
            </a:r>
            <a:r>
              <a:rPr b="1" lang="zh-CN" sz="4800" spc="-1" strike="noStrike">
                <a:solidFill>
                  <a:srgbClr val="3333cc"/>
                </a:solidFill>
                <a:latin typeface="经典行书简"/>
                <a:ea typeface="经典行书简"/>
              </a:rPr>
              <a:t>板块构造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经典行书简"/>
              </a:rPr>
              <a:t>”</a:t>
            </a:r>
            <a:r>
              <a:rPr b="1" lang="zh-CN" sz="4800" spc="-1" strike="noStrike">
                <a:solidFill>
                  <a:srgbClr val="3333cc"/>
                </a:solidFill>
                <a:latin typeface="经典行书简"/>
                <a:ea typeface="经典行书简"/>
              </a:rPr>
              <a:t>理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十年前，人们发现地壳是由一些紧密拼合在一起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又在缓慢移动的大板块构成的。一些板块被拉开，而另一些则挤压在一起，一个板块也许会缓慢地向另一个板块下面俯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diplodocs1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50000">
              <a:srgbClr val="ccccff"/>
            </a:gs>
            <a:gs pos="100000">
              <a:srgbClr val="5e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9640" y="533520"/>
            <a:ext cx="82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什么是“泛大陆” ？复述“泛大陆” 分离成七大洲的过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41120" y="2470320"/>
            <a:ext cx="824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亿年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完整的泛大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亿年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泛大陆分裂成四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万年以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完全分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petersaurs1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354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发现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244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找出答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4000" y="4464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经典行书简"/>
              </a:rPr>
              <a:t>得出结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14600" y="30312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南极发现恐龙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恐龙并不适应南极气候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它们是如何越过大洋到另一个大陆上去的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14600" y="198900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是大陆在漂移而不是恐龙自己在迁移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提出大陆板块构造理论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泛大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形成时，恐龙在不同地区舒适地生活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后来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泛大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又分成四个部分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所以每一块大陆都携带着自己的恐龙而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514600" y="446400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恐龙无处不在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是支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板块构造理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的新的有力证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124080" y="5715000"/>
            <a:ext cx="4343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说明顺序：逻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066680" y="1523880"/>
            <a:ext cx="381240" cy="1067040"/>
          </a:xfrm>
          <a:prstGeom prst="downArrow">
            <a:avLst>
              <a:gd name="adj1" fmla="val 50000"/>
              <a:gd name="adj2" fmla="val 69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1066680" y="3505320"/>
            <a:ext cx="381240" cy="1128600"/>
          </a:xfrm>
          <a:prstGeom prst="downArrow">
            <a:avLst>
              <a:gd name="adj1" fmla="val 50000"/>
              <a:gd name="adj2" fmla="val 740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想一想：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这篇文章告诉我们一个什么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27" descr="3_clr(1)"/>
          <p:cNvPicPr/>
          <p:nvPr/>
        </p:nvPicPr>
        <p:blipFill>
          <a:blip r:embed="rId2"/>
          <a:stretch/>
        </p:blipFill>
        <p:spPr>
          <a:xfrm>
            <a:off x="2438280" y="380880"/>
            <a:ext cx="838440" cy="95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04480" y="2989080"/>
            <a:ext cx="19033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恐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南极洲！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18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975280" y="29718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华文行楷"/>
              </a:rPr>
              <a:t>板块理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3352680" y="3352680"/>
            <a:ext cx="17798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1476360" y="3716280"/>
            <a:ext cx="0" cy="1297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68360" y="49528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华文行楷"/>
              </a:rPr>
              <a:t>生物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7308720" y="3573360"/>
            <a:ext cx="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6400800" y="4800600"/>
            <a:ext cx="19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华文行楷"/>
              </a:rPr>
              <a:t>地质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2819520" y="5257800"/>
            <a:ext cx="2971800" cy="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1" descr="c00006"/>
          <p:cNvPicPr/>
          <p:nvPr/>
        </p:nvPicPr>
        <p:blipFill>
          <a:blip r:embed="rId2"/>
          <a:stretch/>
        </p:blipFill>
        <p:spPr>
          <a:xfrm>
            <a:off x="0" y="0"/>
            <a:ext cx="363528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2"/>
          <p:cNvSpPr/>
          <p:nvPr/>
        </p:nvSpPr>
        <p:spPr>
          <a:xfrm>
            <a:off x="2700360" y="472428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紧密联系 相互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同科学领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南极洲！"/>
          <p:cNvPicPr/>
          <p:nvPr/>
        </p:nvPicPr>
        <p:blipFill>
          <a:blip r:embed="rId1"/>
          <a:stretch/>
        </p:blipFill>
        <p:spPr>
          <a:xfrm>
            <a:off x="-304920" y="0"/>
            <a:ext cx="9982440" cy="6934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11280" y="1268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行楷"/>
              </a:rPr>
              <a:t>不同科学领域之间是紧密相连的。在一个科学领域的发现肯定会对其他领域产生影响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429000" y="3639960"/>
            <a:ext cx="3048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议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是全篇行文的逻辑基础，起到总领全文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侏罗纪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看看作者的行文思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4_clr"/>
          <p:cNvPicPr/>
          <p:nvPr/>
        </p:nvPicPr>
        <p:blipFill>
          <a:blip r:embed="rId2"/>
          <a:stretch/>
        </p:blipFill>
        <p:spPr>
          <a:xfrm>
            <a:off x="1066680" y="0"/>
            <a:ext cx="9813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分析文章结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560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幼圆"/>
                <a:ea typeface="幼圆"/>
              </a:rPr>
              <a:t>全文共</a:t>
            </a:r>
            <a:r>
              <a:rPr b="1" lang="en-US" sz="3600" spc="-1" strike="noStrike">
                <a:solidFill>
                  <a:srgbClr val="00ff00"/>
                </a:solidFill>
                <a:latin typeface="幼圆"/>
                <a:ea typeface="幼圆"/>
              </a:rPr>
              <a:t>15</a:t>
            </a:r>
            <a:r>
              <a:rPr b="1" lang="zh-CN" sz="3600" spc="-1" strike="noStrike">
                <a:solidFill>
                  <a:srgbClr val="00ff00"/>
                </a:solidFill>
                <a:latin typeface="幼圆"/>
                <a:ea typeface="幼圆"/>
              </a:rPr>
              <a:t>个自然段，共分三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第一部分</a:t>
            </a:r>
            <a:r>
              <a:rPr b="1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(1)</a:t>
            </a: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：用一个科学观点引出说明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第二部分</a:t>
            </a:r>
            <a:r>
              <a:rPr b="1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(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幼圆"/>
              </a:rPr>
              <a:t>—</a:t>
            </a:r>
            <a:r>
              <a:rPr b="1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14)</a:t>
            </a: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：阐述说明内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第三部分</a:t>
            </a:r>
            <a:r>
              <a:rPr b="1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(15)</a:t>
            </a:r>
            <a:r>
              <a:rPr b="1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：总结说明内容，结束全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685800" y="1905120"/>
            <a:ext cx="304920" cy="3429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3320" y="2623320"/>
            <a:ext cx="789840" cy="21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总分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揣摩语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（</a:t>
            </a:r>
            <a:r>
              <a:rPr b="1" lang="en-US" sz="36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1</a:t>
            </a:r>
            <a:r>
              <a:rPr b="1" lang="zh-CN" sz="36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）青蛙和蟾蜍是人人皆知的现代两栖动物</a:t>
            </a: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905120"/>
            <a:ext cx="793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如果抽象地说现代两栖动物，不加以举例，读者可能一时想不到是指哪些动物。现代两栖动物很多，举“青蛙”和“蟾蜍”，是因为它们“人人皆知”，人们非常熟悉。“青蛙”和“蟾蜍”不能在南极生存，犹如当年恐龙不能适应南极的生态气候一样，因为它们属同一个家族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举例帮助读者理解，使读者更容易接受作者的观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2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8240" y="4437000"/>
            <a:ext cx="1355760" cy="242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klzy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（</a:t>
            </a:r>
            <a:r>
              <a:rPr b="1" lang="en-US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2</a:t>
            </a: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）如果看一张地图，并假定把非洲和南美洲拼合在一起，你就会看到它们拼合得多么天衣无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这一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补充交代了大陆漂移学说的一个最显而易见的证据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即南美洲和非洲海岸线惊人的互补性，这不是能用巧合来解释的，只能说明它们原来在一起。当然，大陆漂移学说还有很多深层证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map"/>
          <p:cNvPicPr/>
          <p:nvPr/>
        </p:nvPicPr>
        <p:blipFill>
          <a:blip r:embed="rId1"/>
          <a:stretch/>
        </p:blipFill>
        <p:spPr>
          <a:xfrm>
            <a:off x="0" y="4267080"/>
            <a:ext cx="434340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地球板块构造图03"/>
          <p:cNvPicPr/>
          <p:nvPr/>
        </p:nvPicPr>
        <p:blipFill>
          <a:blip r:embed="rId2"/>
          <a:stretch/>
        </p:blipFill>
        <p:spPr>
          <a:xfrm>
            <a:off x="4648320" y="4267080"/>
            <a:ext cx="44956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我们的太阳系"/>
          <p:cNvPicPr/>
          <p:nvPr/>
        </p:nvPicPr>
        <p:blipFill>
          <a:blip r:embed="rId1"/>
          <a:stretch/>
        </p:blipFill>
        <p:spPr>
          <a:xfrm>
            <a:off x="0" y="0"/>
            <a:ext cx="8915400" cy="6994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我们的太阳系"/>
          <p:cNvPicPr/>
          <p:nvPr/>
        </p:nvPicPr>
        <p:blipFill>
          <a:blip r:embed="rId2"/>
          <a:stretch/>
        </p:blipFill>
        <p:spPr>
          <a:xfrm>
            <a:off x="152280" y="-152280"/>
            <a:ext cx="8915400" cy="699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我们的太阳系"/>
          <p:cNvPicPr/>
          <p:nvPr/>
        </p:nvPicPr>
        <p:blipFill>
          <a:blip r:embed="rId3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0"/>
          <p:cNvSpPr txBox="1"/>
          <p:nvPr/>
        </p:nvSpPr>
        <p:spPr>
          <a:xfrm>
            <a:off x="1116000" y="1413000"/>
            <a:ext cx="5905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被压扁的沙子</a:t>
            </a:r>
            <a:endParaRPr b="1" lang="en-US" sz="2400" spc="-1" strike="noStrike">
              <a:ln w="9360">
                <a:solidFill>
                  <a:srgbClr val="ffcc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牛比"/>
          <p:cNvPicPr/>
          <p:nvPr/>
        </p:nvPicPr>
        <p:blipFill>
          <a:blip r:embed="rId1"/>
          <a:stretch/>
        </p:blipFill>
        <p:spPr>
          <a:xfrm>
            <a:off x="0" y="0"/>
            <a:ext cx="9524880" cy="750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地震"/>
          <p:cNvPicPr/>
          <p:nvPr/>
        </p:nvPicPr>
        <p:blipFill>
          <a:blip r:embed="rId1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7453440" y="5516640"/>
            <a:ext cx="16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地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火山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6999120" y="566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火山爆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牛比海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7802640" y="549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海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2" descr="龙卷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7544880" y="5805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楷体_GB2312"/>
              </a:rPr>
              <a:t>龙卷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经典行书简"/>
              </a:rPr>
              <a:t>初读课文，独立思考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402240" cy="13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经典行书简"/>
                <a:ea typeface="经典行书简"/>
              </a:rPr>
              <a:t>本文要说明的对象是什么</a:t>
            </a:r>
            <a:r>
              <a:rPr b="1" lang="en-US" sz="4000" spc="-1" strike="noStrike">
                <a:solidFill>
                  <a:srgbClr val="ff3300"/>
                </a:solidFill>
                <a:latin typeface="经典行书简"/>
                <a:ea typeface="经典行书简"/>
              </a:rPr>
              <a:t>?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复件 66"/>
          <p:cNvPicPr/>
          <p:nvPr/>
        </p:nvPicPr>
        <p:blipFill>
          <a:blip r:embed="rId1"/>
          <a:stretch/>
        </p:blipFill>
        <p:spPr>
          <a:xfrm>
            <a:off x="7905600" y="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19320" y="2971800"/>
            <a:ext cx="50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华文行楷"/>
                <a:ea typeface="华文行楷"/>
              </a:rPr>
              <a:t>恐龙灭绝的原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6" descr="1_clr"/>
          <p:cNvPicPr/>
          <p:nvPr/>
        </p:nvPicPr>
        <p:blipFill>
          <a:blip r:embed="rId2"/>
          <a:stretch/>
        </p:blipFill>
        <p:spPr>
          <a:xfrm>
            <a:off x="1116000" y="62064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dizi01"/>
          <p:cNvPicPr/>
          <p:nvPr/>
        </p:nvPicPr>
        <p:blipFill>
          <a:blip r:embed="rId3"/>
          <a:stretch/>
        </p:blipFill>
        <p:spPr>
          <a:xfrm>
            <a:off x="0" y="4514760"/>
            <a:ext cx="9144000" cy="234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dizi11"/>
          <p:cNvPicPr/>
          <p:nvPr/>
        </p:nvPicPr>
        <p:blipFill>
          <a:blip r:embed="rId1"/>
          <a:stretch/>
        </p:blipFill>
        <p:spPr>
          <a:xfrm>
            <a:off x="0" y="0"/>
            <a:ext cx="9325080" cy="2205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经典行书简"/>
              </a:rPr>
              <a:t>阅读课文，分组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920" y="3352680"/>
            <a:ext cx="8088480" cy="31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作者提到恐龙灭绝的两种理论，你能找出来吗？你赞成哪一种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这篇文章中作者的看法是什么？根据又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2"/>
          <p:cNvPicPr/>
          <p:nvPr/>
        </p:nvPicPr>
        <p:blipFill>
          <a:blip r:embed="rId2"/>
          <a:stretch/>
        </p:blipFill>
        <p:spPr>
          <a:xfrm>
            <a:off x="1308240" y="2924280"/>
            <a:ext cx="539640" cy="51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牛比"/>
          <p:cNvPicPr/>
          <p:nvPr/>
        </p:nvPicPr>
        <p:blipFill>
          <a:blip r:embed="rId1"/>
          <a:stretch/>
        </p:blipFill>
        <p:spPr>
          <a:xfrm>
            <a:off x="0" y="1676520"/>
            <a:ext cx="4800600" cy="51814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380880" y="22860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作者提到恐龙灭绝的两种理论，你能找出来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80880" y="3048120"/>
            <a:ext cx="91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撞击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5" descr="火山"/>
          <p:cNvPicPr/>
          <p:nvPr/>
        </p:nvPicPr>
        <p:blipFill>
          <a:blip r:embed="rId2"/>
          <a:stretch/>
        </p:blipFill>
        <p:spPr>
          <a:xfrm>
            <a:off x="4648320" y="1676520"/>
            <a:ext cx="4495680" cy="5181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6384960" y="4662360"/>
            <a:ext cx="260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火山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heterodontosau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762840" y="2602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彩云"/>
              </a:rPr>
              <a:t>异齿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65040" y="304920"/>
            <a:ext cx="8239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撞击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可能是由于一个巨大的小行星或慧星对地球撞击的结果。这种撞击也许深入到了地壳中，引起火山喷发，造成大火或潮汐大浪。许多尘埃进入了平流层中，结果造成在很长一段时间阳光无法抵达地球表面。这也许是导致所有恐龙和许多地球生物灭绝的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68360" y="4343400"/>
            <a:ext cx="8207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火山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如果地球突然经历了一个火山爆发期，许多火山大致同时爆发，那么也可能造成一个足以使生物大量灭绝的灾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57200" y="380880"/>
            <a:ext cx="838188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经典行书简"/>
                <a:ea typeface="经典行书简"/>
              </a:rPr>
              <a:t>这篇文章中作者的看法是什么？根据又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33520" y="1752480"/>
            <a:ext cx="8305560" cy="14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ff00"/>
                </a:solidFill>
                <a:latin typeface="Tahoma"/>
                <a:ea typeface="华文行楷"/>
              </a:rPr>
              <a:t>造成恐龙灭绝的原因不是火山活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Tahoma"/>
                <a:ea typeface="华文行楷"/>
              </a:rPr>
              <a:t>而应该是撞击。</a:t>
            </a:r>
            <a:r>
              <a:rPr b="0" lang="zh-CN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2860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证据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因为在恐龙灭绝的那个年代的岩石层中，发现了斯石英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压扁的沙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28600" y="5334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证据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斯石英只在被撞击后才形成，所以如果是火山爆发吞没了恐龙，就不会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斯石英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存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494172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被压扁的沙子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</a:rPr>
              <a:t>的段落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全文可分为两大部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部分（</a:t>
            </a:r>
            <a:r>
              <a:rPr b="0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—</a:t>
            </a:r>
            <a:r>
              <a:rPr b="0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），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撞击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火山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两种观点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：提出恐龙灭绝的问题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举例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提出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撞击说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举例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提出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火山说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部分（</a:t>
            </a:r>
            <a:r>
              <a:rPr b="0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—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全文完），通过对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被压扁的沙子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的分析，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证明外星撞击导致恐龙灭绝，支持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撞击说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638680" y="54100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由果到因逻辑顺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揣摩语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）万一哪天某个星体要撞击地球，我们也许会知道如何来避免这种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3808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用一句半开玩笑的话强调说明天文学研究的现实意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5" descr="牛比"/>
          <p:cNvPicPr/>
          <p:nvPr/>
        </p:nvPicPr>
        <p:blipFill>
          <a:blip r:embed="rId1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揣摩语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4479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2</a:t>
            </a:r>
            <a:r>
              <a:rPr b="1" lang="zh-CN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）即非常纯的沙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838080" y="28195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解释什么是二氧化硅，强调只有非常纯的沙子才能称作“二氧化硅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地震"/>
          <p:cNvPicPr/>
          <p:nvPr/>
        </p:nvPicPr>
        <p:blipFill>
          <a:blip r:embed="rId1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华文彩云"/>
                <a:ea typeface="华文彩云"/>
              </a:rPr>
              <a:t>揣摩语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114300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（</a:t>
            </a:r>
            <a:r>
              <a:rPr b="1" lang="en-US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3</a:t>
            </a:r>
            <a:r>
              <a:rPr b="1" lang="zh-CN" sz="40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）你也可以在真空中对金刚石加热，从而把它恢复到原始碳的状态，但谁愿意这样做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经典行书简"/>
                <a:ea typeface="经典行书简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04920" y="350532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句话以金刚石经过高温加热可以变为普通的碳，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类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斯石英经过高温加热可以变成普通的沙子，括号中的文字起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类比说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的作用。作者随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幽默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一下，也表现了作者思维的活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c01109"/>
          <p:cNvPicPr/>
          <p:nvPr/>
        </p:nvPicPr>
        <p:blipFill>
          <a:blip r:embed="rId1"/>
          <a:stretch/>
        </p:blipFill>
        <p:spPr>
          <a:xfrm>
            <a:off x="1905120" y="4373640"/>
            <a:ext cx="5867280" cy="2484360"/>
          </a:xfrm>
          <a:prstGeom prst="rect">
            <a:avLst/>
          </a:prstGeom>
          <a:ln w="0">
            <a:noFill/>
          </a:ln>
        </p:spPr>
      </p:pic>
      <p:sp>
        <p:nvSpPr>
          <p:cNvPr id="226" name="WordArt 3"/>
          <p:cNvSpPr txBox="1"/>
          <p:nvPr/>
        </p:nvSpPr>
        <p:spPr>
          <a:xfrm>
            <a:off x="2362320" y="380880"/>
            <a:ext cx="4572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比较阅读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0" y="2438280"/>
            <a:ext cx="9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说明顺序、说明方法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隶书"/>
              </a:rPr>
              <a:t>说明角度、说明语言、中心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143000" y="106668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两篇文章都采用的都是</a:t>
            </a:r>
            <a:r>
              <a:rPr b="0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逻辑顺序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，重在说明事理，在短小的篇幅内，将抽象的科学知识层层剖析，既严谨又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深入浅出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地解释清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52280" y="0"/>
            <a:ext cx="40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华文行楷"/>
                <a:ea typeface="华文行楷"/>
              </a:rPr>
              <a:t>说明顺序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小行星2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600200" y="18288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都采用了多种说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143000" y="2971800"/>
            <a:ext cx="688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举例子、作比较、打比方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列数字、作诠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85600" y="41112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华文行楷"/>
                <a:ea typeface="华文行楷"/>
              </a:rPr>
              <a:t>说明方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小行星2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533520" y="914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都谈到了恐龙的灭绝，但选用的材料不同，所说明的主要问题也不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52280" y="0"/>
            <a:ext cx="38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华文行楷"/>
                <a:ea typeface="华文行楷"/>
              </a:rPr>
              <a:t>说明角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533520" y="228600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前者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谈到恐龙的化石无处不在，是为了证明另一种科学理论（“板块构造”理论）的正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后者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恐龙的灭绝则成为探讨的主题，“被压扁的沙子”则成了证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228600" y="558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由此可见，作者具有多角度、多侧面看问题的科学思维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ceratopsias1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95280" y="260280"/>
            <a:ext cx="6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隶书"/>
                <a:ea typeface="隶书"/>
              </a:rPr>
              <a:t>三角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228600" y="4111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华文行楷"/>
                <a:ea typeface="华文行楷"/>
              </a:rPr>
              <a:t>说明语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048120" y="2057400"/>
            <a:ext cx="30477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准确简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浅显易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小行星2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</a:rPr>
              <a:t>主题思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课文所选两篇就同一问题从不同角度思考，从而发现新的论据或得出新的结论。文章给了我们一个有益的启示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不同领域的科学发现可以互相启发，从而有新的发现；要学会从不同角度思考问题的方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小行星2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hadrosau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52272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鸭嘴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proceratopsias1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WordArt 3"/>
          <p:cNvSpPr txBox="1"/>
          <p:nvPr/>
        </p:nvSpPr>
        <p:spPr>
          <a:xfrm>
            <a:off x="5796000" y="4941720"/>
            <a:ext cx="2663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原角龙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petersaur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3"/>
          <p:cNvSpPr txBox="1"/>
          <p:nvPr/>
        </p:nvSpPr>
        <p:spPr>
          <a:xfrm rot="5400000">
            <a:off x="-361440" y="4114080"/>
            <a:ext cx="237636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华文新魏"/>
              </a:rPr>
              <a:t>翼龙</a:t>
            </a:r>
            <a:endParaRPr b="1" i="1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diplodoc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WordArt 3"/>
          <p:cNvSpPr txBox="1"/>
          <p:nvPr/>
        </p:nvSpPr>
        <p:spPr>
          <a:xfrm>
            <a:off x="0" y="-2666880"/>
            <a:ext cx="40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梁龙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4:04:59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27:23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