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1EE-19C0-4809-80FD-8360C0B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2D1-A7E1-4B34-A1D7-3F5A3D8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DD1-5B29-44F8-AEAF-5EC0EC6C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131-709C-477D-AFBF-C537BA83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7F8-7313-4099-8AB3-AD2462D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ED9-0B9F-4538-9C0D-BC2FD3B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743-97A6-403E-8E7D-B0AFFBD4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41B-ADE0-4269-BB11-100B02F2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C5A-8E89-4097-8866-DF176B1C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F11-4AA3-4E25-A8AA-4ED47DB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62D-4D96-4889-9940-F066465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47D-63E7-403D-8EF6-B13E3C8E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094C-3327-4773-B755-FD9AAB68AD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90D0-FB56-46D7-B15B-83C1A1EB34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633120" y="314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标题</a:t>
            </a:r>
            <a:r>
              <a:rPr b="0" lang="en-US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752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752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735360" y="3619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答辩人：某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699939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59994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699939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59994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564984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600696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30540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51996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6864480" y="-73980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64984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01020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630720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2140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86736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64984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00696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30540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51996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64480" y="-73980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22" descr=""/>
          <p:cNvPicPr/>
          <p:nvPr/>
        </p:nvPicPr>
        <p:blipFill>
          <a:blip r:embed="rId2"/>
          <a:stretch/>
        </p:blipFill>
        <p:spPr>
          <a:xfrm>
            <a:off x="1933560" y="1131840"/>
            <a:ext cx="234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"/>
                            </p:stCondLst>
                            <p:childTnLst>
                              <p:par>
                                <p:cTn id="432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400"/>
                            </p:stCondLst>
                            <p:childTnLst>
                              <p:par>
                                <p:cTn id="4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9840" y="5162400"/>
            <a:ext cx="3349440" cy="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2400"/>
            <a:ext cx="3349800" cy="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6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40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-69840" y="5162400"/>
            <a:ext cx="1041480" cy="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"/>
          <p:cNvSpPr/>
          <p:nvPr/>
        </p:nvSpPr>
        <p:spPr>
          <a:xfrm flipV="1">
            <a:off x="971640" y="2641680"/>
            <a:ext cx="1800000" cy="25207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2"/>
          <p:cNvSpPr/>
          <p:nvPr/>
        </p:nvSpPr>
        <p:spPr>
          <a:xfrm>
            <a:off x="6732720" y="2660760"/>
            <a:ext cx="934920" cy="25016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>
            <a:off x="7667640" y="5162400"/>
            <a:ext cx="1584360" cy="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97F-F168-4C91-8419-F1FF12F0BCE7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 rot="19164600">
            <a:off x="-847800" y="318960"/>
            <a:ext cx="36003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4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0" name="椭圆​​ 24"/>
            <p:cNvSpPr/>
            <p:nvPr/>
          </p:nvSpPr>
          <p:spPr>
            <a:xfrm>
              <a:off x="718020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25"/>
            <p:cNvSpPr/>
            <p:nvPr/>
          </p:nvSpPr>
          <p:spPr>
            <a:xfrm>
              <a:off x="84643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​​ 26"/>
            <p:cNvSpPr/>
            <p:nvPr/>
          </p:nvSpPr>
          <p:spPr>
            <a:xfrm>
              <a:off x="695628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​​ 22"/>
            <p:cNvSpPr/>
            <p:nvPr/>
          </p:nvSpPr>
          <p:spPr>
            <a:xfrm flipV="1">
              <a:off x="728964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3"/>
            <p:cNvSpPr/>
            <p:nvPr/>
          </p:nvSpPr>
          <p:spPr>
            <a:xfrm flipV="1">
              <a:off x="857340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8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8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6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1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4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8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09" name="椭圆​​ 24"/>
            <p:cNvSpPr/>
            <p:nvPr/>
          </p:nvSpPr>
          <p:spPr>
            <a:xfrm>
              <a:off x="71737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25"/>
            <p:cNvSpPr/>
            <p:nvPr/>
          </p:nvSpPr>
          <p:spPr>
            <a:xfrm>
              <a:off x="845784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26"/>
            <p:cNvSpPr/>
            <p:nvPr/>
          </p:nvSpPr>
          <p:spPr>
            <a:xfrm>
              <a:off x="694980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​​ 22"/>
            <p:cNvSpPr/>
            <p:nvPr/>
          </p:nvSpPr>
          <p:spPr>
            <a:xfrm flipV="1">
              <a:off x="728316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3"/>
            <p:cNvSpPr/>
            <p:nvPr/>
          </p:nvSpPr>
          <p:spPr>
            <a:xfrm flipV="1">
              <a:off x="856692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 rot="2700000">
            <a:off x="6352920" y="539640"/>
            <a:ext cx="360036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8" name="椭圆​​ 24"/>
            <p:cNvSpPr/>
            <p:nvPr/>
          </p:nvSpPr>
          <p:spPr>
            <a:xfrm>
              <a:off x="142884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5"/>
            <p:cNvSpPr/>
            <p:nvPr/>
          </p:nvSpPr>
          <p:spPr>
            <a:xfrm>
              <a:off x="271260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​​ 26"/>
            <p:cNvSpPr/>
            <p:nvPr/>
          </p:nvSpPr>
          <p:spPr>
            <a:xfrm>
              <a:off x="1204920" y="-902520"/>
              <a:ext cx="193032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​​ 22"/>
            <p:cNvSpPr/>
            <p:nvPr/>
          </p:nvSpPr>
          <p:spPr>
            <a:xfrm flipV="1">
              <a:off x="1537920" y="-1765800"/>
              <a:ext cx="100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3"/>
            <p:cNvSpPr/>
            <p:nvPr/>
          </p:nvSpPr>
          <p:spPr>
            <a:xfrm flipV="1">
              <a:off x="2821680" y="-1765800"/>
              <a:ext cx="360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071800" y="24447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下载网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eep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-108000" y="533520"/>
            <a:ext cx="471024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124000" y="1963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燕尾形 14"/>
          <p:cNvSpPr/>
          <p:nvPr/>
        </p:nvSpPr>
        <p:spPr>
          <a:xfrm>
            <a:off x="-147636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4"/>
          <p:cNvSpPr/>
          <p:nvPr/>
        </p:nvSpPr>
        <p:spPr>
          <a:xfrm>
            <a:off x="48862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9:01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