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黑体"/>
              </a:rPr>
              <a:t>把铁路修到拉萨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天路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879480" y="995400"/>
            <a:ext cx="7580160" cy="283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青藏铁路已于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2006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日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9:00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全线通车。青藏铁路由青海省西宁市至西藏自治区拉萨市，全长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1956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公里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  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青藏铁路由青海省西宁市至西藏自治区拉萨市，全长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1956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公里。青藏铁路是目前世界上海拔最高的铁路，沿线常年平均气温在零摄氏度以下，空气中的含氧量仅为平原地区的一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990720" y="990720"/>
            <a:ext cx="7086600" cy="2775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   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位于青藏高原可可西里边缘风火山的风火山隧道，全长</a:t>
            </a:r>
            <a:r>
              <a:rPr b="1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1338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米，轨面海拔</a:t>
            </a:r>
            <a:r>
              <a:rPr b="1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4905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米，是青藏铁路重点难点控制工程，也是世界上海拔最高的隧道，举世瞩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0310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755640" y="1052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黑体"/>
                <a:ea typeface="黑体"/>
              </a:rPr>
              <a:t>　    </a:t>
            </a:r>
            <a:r>
              <a:rPr b="1" lang="en-US" sz="4000" spc="-1" strike="noStrike">
                <a:solidFill>
                  <a:srgbClr val="ffcc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cc00"/>
                </a:solidFill>
                <a:latin typeface="黑体"/>
                <a:ea typeface="黑体"/>
              </a:rPr>
              <a:t>自由读文，注意读准生字字音，思考：青藏铁路是一条怎样的铁路？在课文中找出有关的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0">
    <p:strips dir="ru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755640" y="907920"/>
            <a:ext cx="741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、要把铁路修到拉萨去，确实不是一件简单的事，那么在修建过程中，建设者都遇到了哪些困难，又是怎样克服的呢？请画出相关语句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，并体会含义深刻的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0">
    <p:strips dir="ru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7d7ea78333badfcbe667b31fa7a20d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把铁路修到拉萨去，确实不是一件简单的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95280" y="25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正在修建的是一条世界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海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最高、线路最长的高原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冻土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铁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24000" y="42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高原冻土给施工带来了哪些阻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8000">
    <p:strips dir="ru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80880" y="457200"/>
            <a:ext cx="8382240" cy="198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冻土层最厚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、最薄处仅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施工稍有不慎，就会导致大塌方。风火山地区自然条件严酷，这里平均海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左右，年均气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7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寒季最低气温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41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空气中氧气含量只有内地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%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左右，被喻之为“生命禁区”。风火山隧道有部级以上科研项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，是青藏铁路科研项目最多的高原冻土隧道，工程难度之大前所未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8000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36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从“昼夜”和“反复”，你体会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◇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科技人员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昼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在隧洞里实地观察，发现冰岩温度变化的规律。经过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反复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观测、分析和实验，他们终于找到了喷射混凝土的最佳温度，制服了逞凶一时的冻土。”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8000">
    <p:strips dir="ru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恶劣的天气和极度缺氧轮番向这支队伍进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哪些词语体现了科技人员的艰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8000">
    <p:strips dir="ru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611280" y="6922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     “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把铁路修到拉萨去！”这句话在课文中反复出现了很多次，默读课文，在课文中画出这句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11280" y="2997360"/>
            <a:ext cx="7993080" cy="13129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</a:rPr>
              <a:t>想想面对着风火山这只拦路虎，筑路大军会在什么时候说“把铁路修到拉萨去！”这句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8000">
    <p:strips dir="ru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"/>
                            </p:stCondLst>
                            <p:childTnLst>
                              <p:par>
                                <p:cTn id="4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59_78567_13e8871e3878f7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611280" y="1341360"/>
            <a:ext cx="7993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面对着困难，他们会怎么样说这句话？有感情地朗读“把铁路修到拉萨去”，要读出怎样的语气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坚定有力，显示筑路大军在困难面前不惧怕，不后退的决心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strips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395280" y="1413000"/>
            <a:ext cx="820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战胜困难的时刻，他们会怎么样说这句话？要读出怎样的语气？有感情地朗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喜悦自豪，充满信心的语气。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trips dir="ru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qzspecial_03"/>
          <p:cNvPicPr/>
          <p:nvPr/>
        </p:nvPicPr>
        <p:blipFill>
          <a:blip r:embed="rId1"/>
          <a:stretch/>
        </p:blipFill>
        <p:spPr>
          <a:xfrm>
            <a:off x="179280" y="692280"/>
            <a:ext cx="8785440" cy="1512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U1010P1T1D10286514F21DT20060629115915"/>
          <p:cNvPicPr/>
          <p:nvPr/>
        </p:nvPicPr>
        <p:blipFill>
          <a:blip r:embed="rId2"/>
          <a:stretch/>
        </p:blipFill>
        <p:spPr>
          <a:xfrm>
            <a:off x="179280" y="2133720"/>
            <a:ext cx="8785440" cy="4402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trips dir="ru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9819_047820"/>
          <p:cNvPicPr/>
          <p:nvPr/>
        </p:nvPicPr>
        <p:blipFill>
          <a:blip r:embed="rId1"/>
          <a:stretch/>
        </p:blipFill>
        <p:spPr>
          <a:xfrm>
            <a:off x="2050920" y="476280"/>
            <a:ext cx="5069160" cy="6048360"/>
          </a:xfrm>
          <a:prstGeom prst="rect">
            <a:avLst/>
          </a:prstGeom>
          <a:ln w="0">
            <a:noFill/>
          </a:ln>
        </p:spPr>
      </p:pic>
    </p:spTree>
  </p:cSld>
  <p:transition spd="slow" advTm="68000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2720" y="4643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日，青藏铁路全线通车。这是从格尔木出发的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青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次列车穿越风火山。</a:t>
            </a:r>
            <a:r>
              <a:rPr b="1" lang="zh-CN" sz="18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20060701165631994c4"/>
          <p:cNvPicPr/>
          <p:nvPr/>
        </p:nvPicPr>
        <p:blipFill>
          <a:blip r:embed="rId1"/>
          <a:stretch/>
        </p:blipFill>
        <p:spPr>
          <a:xfrm>
            <a:off x="826920" y="250920"/>
            <a:ext cx="7490160" cy="4033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95280" y="43671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日，青藏铁路全线通车。这是从格尔木出发的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青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次列车将要驶入风火山隧道。海拔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4905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米的风火山隧道是世界上海拔最高的冻土隧道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200607011657123da6a"/>
          <p:cNvPicPr/>
          <p:nvPr/>
        </p:nvPicPr>
        <p:blipFill>
          <a:blip r:embed="rId1"/>
          <a:stretch/>
        </p:blipFill>
        <p:spPr>
          <a:xfrm>
            <a:off x="1187280" y="333360"/>
            <a:ext cx="6912000" cy="3816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青藏铁路列车通过拉萨河特大桥"/>
          <p:cNvPicPr/>
          <p:nvPr/>
        </p:nvPicPr>
        <p:blipFill>
          <a:blip r:embed="rId1"/>
          <a:stretch/>
        </p:blipFill>
        <p:spPr>
          <a:xfrm>
            <a:off x="900000" y="836640"/>
            <a:ext cx="6985080" cy="4621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826920" y="551664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青藏铁路列车通过拉萨河特大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trips dir="ru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xin_291003091052500272722"/>
          <p:cNvPicPr/>
          <p:nvPr/>
        </p:nvPicPr>
        <p:blipFill>
          <a:blip r:embed="rId1"/>
          <a:stretch/>
        </p:blipFill>
        <p:spPr>
          <a:xfrm>
            <a:off x="1187280" y="981000"/>
            <a:ext cx="6696360" cy="4535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95280" y="566100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拉萨河特大桥上的守卫战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trips dir="ru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314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trips dir="ru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685800" y="685800"/>
            <a:ext cx="7772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　　结合自己的感受，写一写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59_78567_112ce5e199dd10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762120" y="838080"/>
            <a:ext cx="7238880" cy="416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这是一条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的路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——————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这是一条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的路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——————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85800" y="380880"/>
            <a:ext cx="6629400" cy="53665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赞青藏铁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格尔木飞架到拉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条天路是最高海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条吉祥的天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条织了四十年的哈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哈达上那神秘的可可西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藏羚羊世代的栖息之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天鹅.wma" descr=""/>
          <p:cNvPicPr/>
          <p:nvPr/>
        </p:nvPicPr>
        <p:blipFill>
          <a:blip r:embed="rId1"/>
          <a:stretch/>
        </p:blipFill>
        <p:spPr>
          <a:xfrm>
            <a:off x="860436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00000" y="4941720"/>
            <a:ext cx="5624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7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685800" y="380880"/>
            <a:ext cx="7772400" cy="57726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昆仑和唐古拉的关山迢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儿有神话的风沙和遗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延绵的沱沱河水流淌不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孕育出长江和黄河的迤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条美丽的哈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缀满了高原的蓝天白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条美丽的哈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绣满了民族团结一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85800" y="380880"/>
            <a:ext cx="7772400" cy="57726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条吉祥的天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祖国献给雪域的哈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条吉祥的天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雪域献给祖国的哈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汽笛伴着喜庆的锣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挥挥手驶向吉祥天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扎西德勒，青藏吉祥之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扎西德勒，祖国繁荣之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381400" y="685800"/>
            <a:ext cx="3838320" cy="466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85858"/>
                </a:solidFill>
                <a:latin typeface="Arial"/>
              </a:rPr>
              <a:t>你埋葬了多少阳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85858"/>
                </a:solidFill>
                <a:latin typeface="Arial"/>
              </a:rPr>
              <a:t>你埋葬了多少月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85858"/>
                </a:solidFill>
                <a:latin typeface="Arial"/>
              </a:rPr>
              <a:t>你埋葬了多少骆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85858"/>
                </a:solidFill>
                <a:latin typeface="Arial"/>
              </a:rPr>
              <a:t>你埋葬了多少战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85858"/>
                </a:solidFill>
                <a:latin typeface="Arial"/>
                <a:ea typeface="Times New Roman"/>
              </a:rPr>
              <a:t>——</a:t>
            </a:r>
            <a:r>
              <a:rPr b="1" lang="zh-CN" sz="6000" spc="-1" strike="noStrike">
                <a:solidFill>
                  <a:srgbClr val="585858"/>
                </a:solidFill>
                <a:latin typeface="Arial"/>
              </a:rPr>
              <a:t>唐古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820880" y="355680"/>
            <a:ext cx="4748040" cy="618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你埋葬了多少英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你埋葬了多少神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你埋葬了多少迁徙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你埋葬了多少冒险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85858"/>
                </a:solidFill>
                <a:latin typeface="Arial"/>
                <a:ea typeface="Times New Roman"/>
              </a:rPr>
              <a:t>——</a:t>
            </a:r>
            <a:r>
              <a:rPr b="1" lang="zh-CN" sz="40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唐古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风　你刮　刮得像天要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雪　你下　下得像天要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你是天上的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天也被你踩在脚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85858"/>
                </a:solidFill>
                <a:latin typeface="Arial"/>
                <a:ea typeface="Times New Roman"/>
              </a:rPr>
              <a:t>——</a:t>
            </a:r>
            <a:r>
              <a:rPr b="1" lang="zh-CN" sz="40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唐古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 spd="slow" advTm="8000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d101caecf920e26179f05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gordon18_1136124806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539640" y="476280"/>
            <a:ext cx="786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西藏自治区地处祖国西南边陲的青藏高原，面积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122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万平方公里，平均海拔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4000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米以上，有“世界屋脊”、“地球第三极”之称。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　　西藏自治区是当时我国唯一不通铁路的省级行政区。交通运输设施的落后，已经严重制约了这一地区经济、社会的发展，使之成为我国主要的贫困地区之一。随着西部大开发的实施，运往西藏的物资大幅度增加，西藏原有的以青藏公路为主体的运输通道无论从运能、运量上，还是从运输的快捷、方便上，都远远不能满足经济发展的迫切要求。建设青藏铁路，是克服目前的交通“瓶颈”，加快青海、西藏两省区经济发展，促进西部大开发的客观需要，修建青藏铁路已是势在必行。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68133580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99640" y="1771200"/>
            <a:ext cx="741708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默读全文，了解青藏铁路是一条怎样的铁路，建设者在修建中遇到了哪些困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有感情的朗读课文，感受建设者对修筑铁路和西部大开发的满腔热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认识本课</a:t>
            </a:r>
            <a:r>
              <a:rPr b="1" lang="en-US" sz="3200" spc="-1" strike="noStrike">
                <a:solidFill>
                  <a:srgbClr val="0066ff"/>
                </a:solidFill>
                <a:latin typeface="黑体"/>
                <a:ea typeface="黑体"/>
              </a:rPr>
              <a:t>14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个生字，搜集和交流青藏铁路和西部大开发的相关资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971640" y="1125360"/>
            <a:ext cx="216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 advTm="8000">
    <p:strips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0050801161247274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04720" y="1988640"/>
            <a:ext cx="43909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械               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妖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巍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媒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763640" y="1989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xiè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340000" y="3068640"/>
            <a:ext cx="20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yāo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780000" y="3068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148360" y="3068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妖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916360" y="1989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机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9"/>
          <p:cNvSpPr txBox="1"/>
          <p:nvPr/>
        </p:nvSpPr>
        <p:spPr>
          <a:xfrm>
            <a:off x="826920" y="105264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838160" y="5081760"/>
            <a:ext cx="20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méi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340000" y="407664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wēi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3203640" y="50785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传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3924360" y="4076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é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219640" y="19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6516720" y="198612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开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5076720" y="4076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巍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strips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50801161247274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404720" y="1988640"/>
            <a:ext cx="43909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狰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逞               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薪               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寝             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619280" y="3068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chě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340000" y="19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zhē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211640" y="198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í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867280" y="198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狰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203640" y="3068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逞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766880" y="5081760"/>
            <a:ext cx="20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qǐ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1836720" y="407196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xī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3132000" y="40719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薪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3130560" y="50785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寝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5148360" y="40734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xi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219640" y="3068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chě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6373800" y="3068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撕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6370560" y="4067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效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4920" y="1197000"/>
            <a:ext cx="8424720" cy="4700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从上到下没有一点彩色，非常素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形容零散稀疏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形容东西突然丢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从正前方正对着头和脸劈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比喻无济于事，解决不了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6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顾不上吃饭睡觉，形容勤奋专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7.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摆好严整的阵势，等待来犯的敌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382440" y="476280"/>
            <a:ext cx="127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银装素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518800" y="1916280"/>
            <a:ext cx="127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七零八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158440" y="2637000"/>
            <a:ext cx="127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不翼而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7460280" y="3284640"/>
            <a:ext cx="127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劈头盖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7460280" y="3933720"/>
            <a:ext cx="127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杯水车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7460280" y="4653000"/>
            <a:ext cx="127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废寝忘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7315920" y="5867280"/>
            <a:ext cx="127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严阵以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2:40:04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32:53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