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D2B-9A9C-4763-A75A-03C63805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1EE-9A92-431B-8CD4-55A8549E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5B7-1ECD-4179-A593-612E2ECD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5BD-64AB-4495-93A6-C7844887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BA86-C56B-4111-8B23-CD530F09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9E99-C104-48B5-A5CE-8A495AED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45EB-C1F1-41DA-8021-D5A2D45C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93EB-14F1-4364-A530-8201FB08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5C83-2080-415A-9E10-8863CB73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0630-BDA2-46E7-AB18-2388AFA7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DAE6-F604-4C7E-9D53-F95A39A1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625-9508-4497-BCD1-88EFDE43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A1E7-131B-4932-86E1-91A1706C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AE85-DA85-43BB-8C6B-30FA8100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016D-90C3-4B1F-8FA5-26DE1AE7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9EE7-50F8-431C-9D7B-349AA3C3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7A8E-3BA2-4E49-9A6C-04990C33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783B5-5876-47F0-AE3A-DC11D02D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AC39C-4B26-4B35-9E08-FC142A3F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CA1C-8839-42E0-898C-D375CCFD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6123-8AA4-47C5-BD4F-BE7BF1AB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343E-93B5-4F3B-8862-6DEADB29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7DF-D3CE-41F7-A910-5410AB1C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0124-83DF-4734-91E2-D018F6BF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00F20-A549-4472-97CA-0274C115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290BC-D6CD-4C39-A7E2-A914EA9A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249EE-909B-488C-B167-DB55F739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0E17C-2F13-43D0-927D-9A64A190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380B5-4847-485C-9720-0629E91B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63E29-9672-494E-85A4-5049A5E5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DC0-BC6F-4492-8E67-EB0ACAC5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17A-57F7-4561-8B97-3F1BCAB1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9E3-084F-46B4-9332-868C05D5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DCF-CBB2-422D-B428-9F388782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8E8-FAC3-4597-AD55-BF23A682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4D75-B3E6-4D0F-8CC8-2570EEFC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6CE0-D058-4C9B-B1C4-04D806243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0AFE-F58A-4535-B963-865A24A3D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EC0E-20B4-457C-ACD9-724029E7C34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F2A0-DF4E-4EE1-95A9-F5F555C0E3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3300"/>
                </a:solidFill>
                <a:latin typeface="Comic Sans MS"/>
              </a:rPr>
              <a:t>伯牙绝弦</a:t>
            </a:r>
            <a:endParaRPr b="0" lang="en-US" sz="1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鼓琴，志在高山，钟子期曰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善哉，峨峨兮／若／泰山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志在流水，  钟子期曰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善哉，洋洋兮／若／江河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／所念，钟子期／必得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gaoshanliushui.mp3" descr=""/>
          <p:cNvPicPr/>
          <p:nvPr/>
        </p:nvPicPr>
        <p:blipFill>
          <a:blip r:embed="rId2"/>
          <a:stretch/>
        </p:blipFill>
        <p:spPr>
          <a:xfrm>
            <a:off x="795672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2509560" y="548640"/>
            <a:ext cx="414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子期死，伯牙谓世再无知音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乃破琴绝弦，终身不复鼓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19.mp3" descr=""/>
          <p:cNvPicPr/>
          <p:nvPr/>
        </p:nvPicPr>
        <p:blipFill>
          <a:blip r:embed="rId2"/>
          <a:stretch/>
        </p:blipFill>
        <p:spPr>
          <a:xfrm>
            <a:off x="7451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6395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伯牙绝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善鼓琴，钟子期善听。伯牙鼓琴，志在高山，钟子期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善哉，峨峨兮若泰山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志在流水，钟子期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善哉，洋洋兮若江河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所念，钟子期必得之。子期死，伯牙谓世再无知音，乃破琴绝弦，终身不复鼓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gaoshanliushui.mp3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谢谢！ 老师们辛苦了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539640" y="1484280"/>
            <a:ext cx="792000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炊烟袅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清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风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明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春雨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白雪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芳草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杨柳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 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云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霞光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403280" y="2832120"/>
            <a:ext cx="79218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徐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潇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萋萋                    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蒙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192720" y="2832120"/>
            <a:ext cx="17640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皎皎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皑皑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依依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灼灼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伯牙绝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／善／鼓琴，钟子期／善听。伯牙鼓琴，志在高山，钟子期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善哉，峨峨兮／若／泰山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志在流水，  钟子期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善哉，洋洋兮／若／江河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／所念，钟子期／必得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子期死，伯牙／谓／世／再无知音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乃／破琴／绝弦，终身／不复鼓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5"/>
          <p:cNvSpPr/>
          <p:nvPr/>
        </p:nvSpPr>
        <p:spPr>
          <a:xfrm>
            <a:off x="1376280" y="1268280"/>
            <a:ext cx="459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072440" y="981000"/>
            <a:ext cx="7898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伯牙善鼓琴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7527240" y="981000"/>
            <a:ext cx="7898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钟子期善听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611280" y="51804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伯牙鼓琴，志在高山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钟子期曰：“善哉，峨峨兮若泰山。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1611720" y="83664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志在流水，钟子期曰：“善哉，洋洋兮若江河！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332000" y="2349360"/>
            <a:ext cx="6985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清风徐徐           明月皎皎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芳草萋萋           杨柳依依       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春雨潇潇           白雪皑皑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云雾蒙蒙           霞光灼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993000" y="1484280"/>
            <a:ext cx="458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826920" y="54936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伯牙鼓琴，志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钟子期曰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善哉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志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钟子期曰 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善哉，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6"/>
          <p:cNvSpPr/>
          <p:nvPr/>
        </p:nvSpPr>
        <p:spPr>
          <a:xfrm>
            <a:off x="1547640" y="364500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b20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所念，钟子期必得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6" descr="14"/>
          <p:cNvPicPr/>
          <p:nvPr/>
        </p:nvPicPr>
        <p:blipFill>
          <a:blip r:embed="rId16"/>
          <a:stretch/>
        </p:blipFill>
        <p:spPr>
          <a:xfrm>
            <a:off x="539640" y="3141720"/>
            <a:ext cx="8128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伯牙作为楚国著名的宫廷乐师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名满天下，虽然听者众多，但听到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都是那些毫无价值的、没有意义的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空虚的、肤浅的赞美，他始终觉得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人真正听懂他的琴声，所以独自一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来到山间排遣内心的孤独和寂寞，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万万没想到，此时，此地，此人，钟子期，一个山野村夫却能听得懂他的琴声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740640" y="4941720"/>
            <a:ext cx="1657080" cy="1743120"/>
            <a:chOff x="6740640" y="4941720"/>
            <a:chExt cx="1657080" cy="1743120"/>
          </a:xfrm>
        </p:grpSpPr>
        <p:pic>
          <p:nvPicPr>
            <p:cNvPr id="211" name="Picture 4" descr=""/>
            <p:cNvPicPr/>
            <p:nvPr/>
          </p:nvPicPr>
          <p:blipFill>
            <a:blip r:embed="rId1"/>
            <a:stretch/>
          </p:blipFill>
          <p:spPr>
            <a:xfrm>
              <a:off x="6740640" y="4941720"/>
              <a:ext cx="165708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6740640" y="4941720"/>
              <a:ext cx="1657080" cy="1743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3" name="gaoshanliushui.mp3" descr=""/>
          <p:cNvPicPr/>
          <p:nvPr/>
        </p:nvPicPr>
        <p:blipFill>
          <a:blip r:embed="rId2"/>
          <a:stretch/>
        </p:blipFill>
        <p:spPr>
          <a:xfrm>
            <a:off x="738036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14:04:06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3:44:01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