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404-B1B4-4E01-B922-681C2FFA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DA9-6AAB-4490-BED4-AB180CE4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CAB-7E9B-4380-ABEE-9C0D1F46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51F-FDFA-4D7B-A755-0B3EA7E0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5208-A9D5-4BC7-AB37-BF1B80FF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7017-061A-44AC-B60F-E0E98D01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46B3-B8C3-441B-BAD5-40BFFCB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ADFC-B36E-4FAA-A6C5-B78BBCFD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B6AE-9D56-40DE-87A5-2FA9598B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95D8-F91A-43D3-9F2E-1C456408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39DE-4515-459F-9D18-2949D246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E38-5ED1-4393-BBEA-500531DC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DFD6-E62B-47F1-B0C2-7EAD1FF2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A14A-3154-4FDF-8969-E77DF87B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4742-CCF9-4DDA-9C68-F670A650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3FDA-26ED-4C72-B7D1-D2F8E188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1937-B642-494E-A687-A67C08B7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490FA-50DD-4E6F-9BCA-488F16FD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B149-CEAD-48F9-BFE9-1D28EA34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19A18-FAFD-44E8-A9F9-637CE1A7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D060-ACE5-498D-B106-F96CA2FC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291B7-11D2-49E4-9E8C-6D3F27B2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875-B409-4144-86BD-2718796E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F5C0A-9496-4864-900F-81DEE625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9750-6D4C-480E-AF08-68AB071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3C24-9772-4E44-B45E-230C7DDF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699E-0B88-4040-AED1-3F71426D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ADE6-FAF4-40AD-9C68-2089DEC1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8250-AE0B-442E-ACF4-C190B830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21B1-2BCF-4472-90BE-FE1EAA6B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F56-CE67-47AC-8021-5E86B4E7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FF7-4AF2-4F61-AB51-9186142D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6D6-4FDD-45D5-BF60-3C667239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BC1-C91A-49C5-8A12-F5DC3616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837-1542-4837-81FF-4D6F9BB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01C-8DEB-444E-A3D8-711A6418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A6C3-FCEE-4F8D-915C-AA4CD545F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7EDC-6BAF-486C-A9A5-C28EEA1E7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81F3-750A-4723-9386-4A80FC6EA2E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10F7-14D1-45C0-A326-35FC87D908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曾侯乙编钟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4360" y="3141720"/>
            <a:ext cx="4013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ffb7"/>
                </a:solidFill>
                <a:latin typeface="Arial Black"/>
                <a:ea typeface="黑体"/>
              </a:rPr>
              <a:t>编   钟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0" y="26028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楷体_GBK"/>
                <a:ea typeface="方正楷体_GBK"/>
              </a:rPr>
              <a:t>语文</a:t>
            </a:r>
            <a:r>
              <a:rPr b="1" lang="en-US" sz="3200" spc="-1" strike="noStrike">
                <a:solidFill>
                  <a:srgbClr val="ffffff"/>
                </a:solidFill>
                <a:latin typeface="方正楷体_GBK"/>
                <a:ea typeface="方正楷体_GBK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方正楷体_GBK"/>
                <a:ea typeface="方正楷体_GBK"/>
              </a:rPr>
              <a:t>版六年级语文下册第五单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Black"/>
                <a:ea typeface="楷体_GB2312"/>
              </a:rPr>
              <a:t>练读拓展：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为课文的编钟照片配一段说明文字，把造型设计叙述清楚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为课文的编钟出土照片配一段说明文字，把出土的时间、地点、当时情况作简要说明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设计一份曾侯乙编钟音乐演奏会节目单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然段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79640" y="2492280"/>
            <a:ext cx="424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 Black"/>
                <a:ea typeface="方正楷体_GBK"/>
              </a:rPr>
              <a:t>谢谢指导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曾侯乙编钟1"/>
          <p:cNvPicPr/>
          <p:nvPr/>
        </p:nvPicPr>
        <p:blipFill>
          <a:blip r:embed="rId2"/>
          <a:stretch/>
        </p:blipFill>
        <p:spPr>
          <a:xfrm>
            <a:off x="2882880" y="895320"/>
            <a:ext cx="33782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编钟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曾侯乙编钟封底"/>
          <p:cNvPicPr/>
          <p:nvPr/>
        </p:nvPicPr>
        <p:blipFill>
          <a:blip r:embed="rId2"/>
          <a:stretch/>
        </p:blipFill>
        <p:spPr>
          <a:xfrm>
            <a:off x="0" y="981000"/>
            <a:ext cx="89726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93218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 Black"/>
                <a:ea typeface="楷体_GB2312"/>
              </a:rPr>
              <a:t>默读课文，思考：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2708280"/>
            <a:ext cx="80074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课文围绕编钟写了哪些内容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文中哪些段落介绍了曾侯乙编钟？开篇第一自然段内容与后面有什么不同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曾侯乙编钟2"/>
          <p:cNvPicPr/>
          <p:nvPr/>
        </p:nvPicPr>
        <p:blipFill>
          <a:blip r:embed="rId2"/>
          <a:stretch/>
        </p:blipFill>
        <p:spPr>
          <a:xfrm>
            <a:off x="2627280" y="1125360"/>
            <a:ext cx="346572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楷体_GB2312"/>
              </a:rPr>
              <a:t>请看下面课文结构图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51" name="Organization Chart 7"/>
          <p:cNvGrpSpPr/>
          <p:nvPr/>
        </p:nvGrpSpPr>
        <p:grpSpPr>
          <a:xfrm>
            <a:off x="809640" y="1866960"/>
            <a:ext cx="7992360" cy="4176000"/>
            <a:chOff x="809640" y="1866960"/>
            <a:chExt cx="7992360" cy="4176000"/>
          </a:xfrm>
        </p:grpSpPr>
        <p:cxnSp>
          <p:nvCxnSpPr>
            <p:cNvPr id="152" name="_s1028"/>
            <p:cNvCxnSpPr>
              <a:stCxn id="153" idx="0"/>
              <a:endCxn id="154" idx="2"/>
            </p:cNvCxnSpPr>
            <p:nvPr/>
          </p:nvCxnSpPr>
          <p:spPr>
            <a:xfrm flipV="1">
              <a:off x="4803480" y="4473360"/>
              <a:ext cx="2880" cy="522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4" idx="2"/>
            </p:cNvCxnSpPr>
            <p:nvPr/>
          </p:nvCxnSpPr>
          <p:spPr>
            <a:xfrm flipV="1" rot="16200000">
              <a:off x="5943240" y="3338640"/>
              <a:ext cx="522720" cy="2797920"/>
            </a:xfrm>
            <a:prstGeom prst="bentConnector3">
              <a:avLst>
                <a:gd name="adj1" fmla="val 218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1030"/>
            <p:cNvCxnSpPr>
              <a:stCxn id="158" idx="0"/>
              <a:endCxn id="154" idx="2"/>
            </p:cNvCxnSpPr>
            <p:nvPr/>
          </p:nvCxnSpPr>
          <p:spPr>
            <a:xfrm flipH="1" flipV="1" rot="5400000">
              <a:off x="3145680" y="3339000"/>
              <a:ext cx="522720" cy="2797920"/>
            </a:xfrm>
            <a:prstGeom prst="bentConnector3">
              <a:avLst>
                <a:gd name="adj1" fmla="val 218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1031"/>
            <p:cNvCxnSpPr>
              <a:stCxn id="154" idx="0"/>
              <a:endCxn id="160" idx="2"/>
            </p:cNvCxnSpPr>
            <p:nvPr/>
          </p:nvCxnSpPr>
          <p:spPr>
            <a:xfrm flipV="1" rot="16200000">
              <a:off x="3845160" y="2472120"/>
              <a:ext cx="522720" cy="1398960"/>
            </a:xfrm>
            <a:prstGeom prst="bentConnector3">
              <a:avLst>
                <a:gd name="adj1" fmla="val 218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1" name="_s1032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446560" y="2472120"/>
              <a:ext cx="522720" cy="1399680"/>
            </a:xfrm>
            <a:prstGeom prst="bentConnector3">
              <a:avLst>
                <a:gd name="adj1" fmla="val 218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0" name="_s1033"/>
            <p:cNvSpPr/>
            <p:nvPr/>
          </p:nvSpPr>
          <p:spPr>
            <a:xfrm>
              <a:off x="2208600" y="1866960"/>
              <a:ext cx="2397600" cy="104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编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1034"/>
            <p:cNvSpPr/>
            <p:nvPr/>
          </p:nvSpPr>
          <p:spPr>
            <a:xfrm>
              <a:off x="809640" y="3432960"/>
              <a:ext cx="2397600" cy="104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历史由来（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5"/>
            <p:cNvSpPr/>
            <p:nvPr/>
          </p:nvSpPr>
          <p:spPr>
            <a:xfrm>
              <a:off x="3606840" y="3432960"/>
              <a:ext cx="2397600" cy="104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基本情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1036"/>
            <p:cNvSpPr/>
            <p:nvPr/>
          </p:nvSpPr>
          <p:spPr>
            <a:xfrm>
              <a:off x="809640" y="4998960"/>
              <a:ext cx="2397600" cy="104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重要价值（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037"/>
            <p:cNvSpPr/>
            <p:nvPr/>
          </p:nvSpPr>
          <p:spPr>
            <a:xfrm>
              <a:off x="6404400" y="4998960"/>
              <a:ext cx="2397600" cy="104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演奏效果（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5.6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38"/>
            <p:cNvSpPr/>
            <p:nvPr/>
          </p:nvSpPr>
          <p:spPr>
            <a:xfrm>
              <a:off x="3606840" y="4998960"/>
              <a:ext cx="2397600" cy="104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主要特点（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.4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Black"/>
                <a:ea typeface="楷体_GB2312"/>
              </a:rPr>
              <a:t>读课文，围绕下列问题讨论：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0074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曾侯乙编钟有哪些特点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曾侯乙编钟有什么价值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893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造型结构精巧   音乐性能良好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数量最多，保存最好，音律最全，气势最宏伟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恢宏的气势，精湛的铸造工艺，非凡的音乐效果，内容丰富的乐律铭文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1:44:52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3:50:5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