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21.jpeg" ContentType="image/jpeg"/>
  <Override PartName="/ppt/media/image16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72F-6241-4CA4-9649-C05D07EB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2D1-EE57-4E03-BF6E-C76A9A90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542-CFAC-444C-B2EF-21C982AC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E06-44C6-4213-9D0A-61087AC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AA1-DD17-48C5-88F4-A781783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56C-971C-40E4-9909-E21666C9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61A-3C9E-4379-A821-FC643A75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AB0-BBC7-478F-9690-0087F37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020-7F59-46C3-9AD4-F4002D0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9B7-9D28-434B-97F3-D15CCA3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14D-C879-42CB-B7E2-4C00C396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7D3-AF25-4148-93FA-0F2932A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9AFD-89E3-4453-A385-C1B866144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6" descr=""/>
          <p:cNvPicPr/>
          <p:nvPr/>
        </p:nvPicPr>
        <p:blipFill>
          <a:blip r:embed="rId2"/>
          <a:stretch/>
        </p:blipFill>
        <p:spPr>
          <a:xfrm>
            <a:off x="1504800" y="1268280"/>
            <a:ext cx="61344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58920" y="191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的儿子曹冲七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5892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的儿子曹冲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七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572000" y="4581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鸟"/>
          <p:cNvPicPr/>
          <p:nvPr/>
        </p:nvPicPr>
        <p:blipFill>
          <a:blip r:embed="rId2"/>
          <a:stretch/>
        </p:blipFill>
        <p:spPr>
          <a:xfrm>
            <a:off x="5796000" y="836640"/>
            <a:ext cx="11523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3 0.51561 C 0.09219 0.45387 0.08108 0.39237 0.08108 0.33595 C 0.08108 0.27954 0.11476 0.21665 0.1033 0.17757 C 0.09184 0.1385 0.02986 0.13087 0.01268 0.10127 C -0.00451 0.07168 -0.00225 0.03584 -3.88889E-006 3.46821E-006 E">
                                      <p:cBhvr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200710811591534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11640" y="26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要向曹冲学习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83560" y="1557360"/>
            <a:ext cx="15634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遇事要  善于思考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于动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5943747ed9a1b5180cd7da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1330200" y="549360"/>
            <a:ext cx="2376720" cy="1150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547640" y="2349360"/>
            <a:ext cx="7128000" cy="18716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256536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你如何称出一颗黄豆的重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23960" y="692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836720" y="20667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象有多重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836720" y="3198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象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多重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643280" y="3846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148360" y="38606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00000" y="6165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547640" y="155736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谁有办法把这头大象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692360" y="40053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称象的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20082202039558"/>
          <p:cNvPicPr/>
          <p:nvPr/>
        </p:nvPicPr>
        <p:blipFill>
          <a:blip r:embed="rId2"/>
          <a:stretch/>
        </p:blipFill>
        <p:spPr>
          <a:xfrm rot="19231200">
            <a:off x="1258920" y="25992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a 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谁有那么大的力气提得起这杆大称呢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反问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3068640"/>
            <a:ext cx="6573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谁都没有力气提得起这杆大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755640" y="3932280"/>
            <a:ext cx="648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948360" y="3213000"/>
            <a:ext cx="2016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陈述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9d7cd5df7ccc5a33632798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2411280" y="1125360"/>
            <a:ext cx="4897440" cy="273528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77164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听了摇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843280" y="2924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听了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摇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30920" y="357336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45336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43280" y="907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称象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00000" y="2276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象赶到一艘大船上，看船身下沉多少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沿着水面，在船舷上画一条线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象赶上岸，往船上装石头，一直装到船下沉到画线的地方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称一称船上的石头。石头一共有多重，大象就有多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778040" y="2247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649680" y="2824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97160" y="3384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649680" y="4465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1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3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1"/>
          <p:cNvPicPr/>
          <p:nvPr/>
        </p:nvPicPr>
        <p:blipFill>
          <a:blip r:embed="rId1"/>
          <a:stretch/>
        </p:blipFill>
        <p:spPr>
          <a:xfrm>
            <a:off x="2703600" y="1989000"/>
            <a:ext cx="4076640" cy="1229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0066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"/>
          <p:cNvPicPr/>
          <p:nvPr/>
        </p:nvPicPr>
        <p:blipFill>
          <a:blip r:embed="rId2"/>
          <a:stretch/>
        </p:blipFill>
        <p:spPr>
          <a:xfrm>
            <a:off x="-3637080" y="189000"/>
            <a:ext cx="3603600" cy="245088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4932360" y="3141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"/>
          <p:cNvPicPr/>
          <p:nvPr/>
        </p:nvPicPr>
        <p:blipFill>
          <a:blip r:embed="rId3"/>
          <a:stretch/>
        </p:blipFill>
        <p:spPr>
          <a:xfrm>
            <a:off x="-2844720" y="5157720"/>
            <a:ext cx="2838240" cy="240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2"/>
          <p:cNvPicPr/>
          <p:nvPr/>
        </p:nvPicPr>
        <p:blipFill>
          <a:blip r:embed="rId4"/>
          <a:stretch/>
        </p:blipFill>
        <p:spPr>
          <a:xfrm>
            <a:off x="-2916360" y="5157720"/>
            <a:ext cx="2838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0023 L 0.7401 -0.00023 E">
                                      <p:cBhvr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01 -1.56069E-006 L 0.7401 0.07353 E">
                                      <p:cBhvr>
                                        <p:cTn id="13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51445E-007 L -0.00278 0.06775 E">
                                      <p:cBhvr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9769E-006 L 0.596 -0.49526 E">
                                      <p:cBhvr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01 -0.49527 L -0.03403 0.01849 E">
                                      <p:cBhvr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843280" y="1989000"/>
            <a:ext cx="4076640" cy="1228680"/>
            <a:chOff x="2843280" y="1989000"/>
            <a:chExt cx="4076640" cy="1228680"/>
          </a:xfrm>
        </p:grpSpPr>
        <p:pic>
          <p:nvPicPr>
            <p:cNvPr id="85" name="Picture 6" descr="1"/>
            <p:cNvPicPr/>
            <p:nvPr/>
          </p:nvPicPr>
          <p:blipFill>
            <a:blip r:embed="rId1"/>
            <a:stretch/>
          </p:blipFill>
          <p:spPr>
            <a:xfrm>
              <a:off x="2843280" y="1989000"/>
              <a:ext cx="40766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7"/>
            <p:cNvSpPr/>
            <p:nvPr/>
          </p:nvSpPr>
          <p:spPr>
            <a:xfrm>
              <a:off x="5000760" y="270828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0066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0" descr="QQ截图未命名2"/>
          <p:cNvPicPr/>
          <p:nvPr/>
        </p:nvPicPr>
        <p:blipFill>
          <a:blip r:embed="rId2"/>
          <a:stretch/>
        </p:blipFill>
        <p:spPr>
          <a:xfrm>
            <a:off x="539640" y="-600120"/>
            <a:ext cx="75276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QQ截图未命名2"/>
          <p:cNvPicPr/>
          <p:nvPr/>
        </p:nvPicPr>
        <p:blipFill>
          <a:blip r:embed="rId3"/>
          <a:stretch/>
        </p:blipFill>
        <p:spPr>
          <a:xfrm>
            <a:off x="1658880" y="-555480"/>
            <a:ext cx="752400" cy="5997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4"/>
          <p:cNvGrpSpPr/>
          <p:nvPr/>
        </p:nvGrpSpPr>
        <p:grpSpPr>
          <a:xfrm>
            <a:off x="2700360" y="-744480"/>
            <a:ext cx="1039680" cy="744480"/>
            <a:chOff x="2700360" y="-744480"/>
            <a:chExt cx="1039680" cy="744480"/>
          </a:xfrm>
        </p:grpSpPr>
        <p:pic>
          <p:nvPicPr>
            <p:cNvPr id="91" name="Picture 43" descr="QQ截图未命名2"/>
            <p:cNvPicPr/>
            <p:nvPr/>
          </p:nvPicPr>
          <p:blipFill>
            <a:blip r:embed="rId4"/>
            <a:stretch/>
          </p:blipFill>
          <p:spPr>
            <a:xfrm>
              <a:off x="2987640" y="-744480"/>
              <a:ext cx="7524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2" descr="QQ截图未命名2"/>
            <p:cNvPicPr/>
            <p:nvPr/>
          </p:nvPicPr>
          <p:blipFill>
            <a:blip r:embed="rId5"/>
            <a:stretch/>
          </p:blipFill>
          <p:spPr>
            <a:xfrm>
              <a:off x="2700360" y="-600120"/>
              <a:ext cx="752400" cy="6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AutoShape 45"/>
          <p:cNvSpPr/>
          <p:nvPr/>
        </p:nvSpPr>
        <p:spPr>
          <a:xfrm>
            <a:off x="3564000" y="1846440"/>
            <a:ext cx="2376360" cy="1150920"/>
          </a:xfrm>
          <a:prstGeom prst="wedgeEllipseCallout">
            <a:avLst>
              <a:gd name="adj1" fmla="val 58282"/>
              <a:gd name="adj2" fmla="val -66138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4140360" y="18464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7" descr="3"/>
          <p:cNvPicPr/>
          <p:nvPr/>
        </p:nvPicPr>
        <p:blipFill>
          <a:blip r:embed="rId6"/>
          <a:stretch/>
        </p:blipFill>
        <p:spPr>
          <a:xfrm>
            <a:off x="7596360" y="333360"/>
            <a:ext cx="1225440" cy="8334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48"/>
          <p:cNvGrpSpPr/>
          <p:nvPr/>
        </p:nvGrpSpPr>
        <p:grpSpPr>
          <a:xfrm>
            <a:off x="5051880" y="-283320"/>
            <a:ext cx="2567160" cy="2078280"/>
            <a:chOff x="5051880" y="-283320"/>
            <a:chExt cx="2567160" cy="2078280"/>
          </a:xfrm>
        </p:grpSpPr>
        <p:grpSp>
          <p:nvGrpSpPr>
            <p:cNvPr id="97" name="Group 49"/>
            <p:cNvGrpSpPr/>
            <p:nvPr/>
          </p:nvGrpSpPr>
          <p:grpSpPr>
            <a:xfrm>
              <a:off x="5051880" y="-283320"/>
              <a:ext cx="2567160" cy="2078280"/>
              <a:chOff x="5051880" y="-283320"/>
              <a:chExt cx="2567160" cy="2078280"/>
            </a:xfrm>
          </p:grpSpPr>
          <p:pic>
            <p:nvPicPr>
              <p:cNvPr id="98" name="Picture 50" descr="QQ截图未命名4"/>
              <p:cNvPicPr/>
              <p:nvPr/>
            </p:nvPicPr>
            <p:blipFill>
              <a:blip r:embed="rId7"/>
              <a:stretch/>
            </p:blipFill>
            <p:spPr>
              <a:xfrm rot="20619000">
                <a:off x="5219280" y="0"/>
                <a:ext cx="2232000" cy="151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" name="Group 51"/>
              <p:cNvGrpSpPr/>
              <p:nvPr/>
            </p:nvGrpSpPr>
            <p:grpSpPr>
              <a:xfrm>
                <a:off x="5354640" y="973080"/>
                <a:ext cx="797760" cy="710640"/>
                <a:chOff x="5354640" y="973080"/>
                <a:chExt cx="797760" cy="710640"/>
              </a:xfrm>
            </p:grpSpPr>
            <p:grpSp>
              <p:nvGrpSpPr>
                <p:cNvPr id="100" name="Group 52"/>
                <p:cNvGrpSpPr/>
                <p:nvPr/>
              </p:nvGrpSpPr>
              <p:grpSpPr>
                <a:xfrm>
                  <a:off x="5354640" y="973080"/>
                  <a:ext cx="790560" cy="615960"/>
                  <a:chOff x="5354640" y="973080"/>
                  <a:chExt cx="790560" cy="615960"/>
                </a:xfrm>
              </p:grpSpPr>
              <p:pic>
                <p:nvPicPr>
                  <p:cNvPr id="101" name="Picture 53" descr="QQ截图未命名2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20619000">
                    <a:off x="5425560" y="113580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" name="Picture 54" descr="QQ截图未命名2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20619000">
                    <a:off x="5399280" y="104616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" name="Picture 55" descr="QQ截图未命名2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20619000">
                    <a:off x="5596560" y="103608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04" name="Picture 56" descr="QQ截图未命名2"/>
                <p:cNvPicPr/>
                <p:nvPr/>
              </p:nvPicPr>
              <p:blipFill>
                <a:blip r:embed="rId11"/>
                <a:stretch/>
              </p:blipFill>
              <p:spPr>
                <a:xfrm rot="20619000">
                  <a:off x="5603760" y="1230480"/>
                  <a:ext cx="50364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" name="Freeform 57"/>
              <p:cNvSpPr/>
              <p:nvPr/>
            </p:nvSpPr>
            <p:spPr>
              <a:xfrm rot="20619000">
                <a:off x="5774400" y="692280"/>
                <a:ext cx="84600" cy="858240"/>
              </a:xfrm>
              <a:custGeom>
                <a:avLst/>
                <a:gdLst/>
                <a:ahLst/>
                <a:rect l="l" t="t" r="r" b="b"/>
                <a:pathLst>
                  <a:path w="52" h="590">
                    <a:moveTo>
                      <a:pt x="52" y="590"/>
                    </a:moveTo>
                    <a:cubicBezTo>
                      <a:pt x="33" y="503"/>
                      <a:pt x="14" y="416"/>
                      <a:pt x="7" y="318"/>
                    </a:cubicBezTo>
                    <a:cubicBezTo>
                      <a:pt x="0" y="220"/>
                      <a:pt x="7" y="53"/>
                      <a:pt x="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58" descr="QQ截图未命名5"/>
            <p:cNvPicPr/>
            <p:nvPr/>
          </p:nvPicPr>
          <p:blipFill>
            <a:blip r:embed="rId12"/>
            <a:stretch/>
          </p:blipFill>
          <p:spPr>
            <a:xfrm>
              <a:off x="6711840" y="30240"/>
              <a:ext cx="523800" cy="9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59"/>
          <p:cNvSpPr/>
          <p:nvPr/>
        </p:nvSpPr>
        <p:spPr>
          <a:xfrm>
            <a:off x="6732720" y="18900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405E-006 C 0.10418 0.05641 0.20834 0.11283 0.26668 0.17341 C 0.32484 0.23398 0.33699 0.29872 0.34931 0.3637 E">
                                      <p:cBhvr>
                                        <p:cTn id="1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87 0.3637 L 0.35087 0.38266 E">
                                      <p:cBhvr>
                                        <p:cTn id="15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0069 L 0.00157 0.01341 E">
                                      <p:cBhvr>
                                        <p:cTn id="16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5549E-006 C -0.01771 -0.01827 -0.03542 -0.03653 0.0158 0.00439 C 0.06701 0.04532 0.24583 0.18566 0.30781 0.24532 C 0.36979 0.30474 0.37847 0.33318 0.38732 0.36162 E">
                                      <p:cBhvr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33 0.36902 L 0.38733 0.37943 E">
                                      <p:cBhvr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05 0.38358 L 0.35105 0.39399 E">
                                      <p:cBhvr>
                                        <p:cTn id="17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1341 L 0.00087 0.02382 E">
                                      <p:cBhvr>
                                        <p:cTn id="17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9.82659E-007 C 0.00487 -0.00625 0.00973 -0.01249 0.02535 0.02104 C 0.04098 0.05456 0.07275 0.1378 0.09358 0.20092 C 0.11442 0.26404 0.13247 0.33179 0.1507 0.39953 E">
                                      <p:cBhvr>
                                        <p:cTn id="17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05 0.40254 L 0.15105 0.42358 E">
                                      <p:cBhvr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67 0.38983 L 0.38767 0.41087 E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61 0.40046 L 0.35261 0.4215 E">
                                      <p:cBhvr>
                                        <p:cTn id="18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2798 L 0.00087 0.05965 E">
                                      <p:cBhvr>
                                        <p:cTn id="18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20"/>
                            </p:stCondLst>
                            <p:childTnLst>
                              <p:par>
                                <p:cTn id="19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2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2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0920" y="2781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点头微笑。他叫人照曹冲说的方法去做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果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称出了大象的重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6732720" y="3933720"/>
            <a:ext cx="86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14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称象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23:09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0:5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