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1.wmf" ContentType="image/x-wmf"/>
  <Override PartName="/ppt/media/image2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2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  <p:custShowLst>
    <p:custShow name="自定义放映1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215-723B-4A1D-9F75-85D2A369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56F-6888-4131-A7A0-345D29C1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0BB-CBD3-499C-84D3-6DA2EC1A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660-7DB3-4881-8943-38495380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AC76-404D-493E-9863-6F1E1546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5ECC-5D93-4592-B51D-76ABAF3E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F38A-2F70-4801-892B-61EFDBF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333-8019-4288-8EFE-37A441C8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FE19-290D-4C82-A558-6F8131EF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45C8-F385-41F3-9E41-E36DA03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9741-C7B0-41D6-897E-2402C1BB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2E7-AB3E-4959-8A04-EDDE9018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374D-5A07-4BBA-87D4-5A7FF6B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2BA7-FD45-437B-B1A4-F7209C41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BC7E-EE04-4469-8330-6712004F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21E5-1DEF-4F38-B31A-1BA931A3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1D70-ACE5-4104-B1AF-DD1D95BB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F0DF-016B-4774-8F97-1FB7BA62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56FA-2050-48FD-A33F-CBCFE442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A2A8-1937-4AC0-BA88-F591E756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DE89-46DF-4954-B1DD-FEF880DE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B07A-8B88-455C-970F-10D8F8F0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E40-A97B-44E2-9A35-26855660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746C-3D05-44EB-8477-1FECBBCF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2480-759B-406A-8E7E-FE327C82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672D-4043-4262-BEED-373CE871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0BAF4-9935-4EA7-895B-54850E93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8475-8BD0-492D-8405-7223ADE3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06BD-F88E-4E2B-B27E-019DBADE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80A6-1681-4838-87AE-DB346DE4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A4A-6E88-4F64-9860-A2CC9B53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521-17F0-4354-9ABB-26985963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F15-9221-4382-A5AE-4DF7BABD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69A-70C4-47AF-A436-F96EF79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200-F294-4667-9D05-0FCBDEBB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A04-5C0F-413C-B7AB-887C63ED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300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1880"/>
            <a:chOff x="5646600" y="154080"/>
            <a:chExt cx="3435480" cy="55188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36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00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60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120" y="164880"/>
              <a:ext cx="3380040" cy="25668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00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C38C-19CE-483E-AAAE-DBF6F0E54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1026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1027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1028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29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030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031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032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033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34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035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036"/>
            <p:cNvSpPr/>
            <p:nvPr/>
          </p:nvSpPr>
          <p:spPr>
            <a:xfrm>
              <a:off x="135000" y="654120"/>
              <a:ext cx="279576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037"/>
            <p:cNvSpPr/>
            <p:nvPr/>
          </p:nvSpPr>
          <p:spPr>
            <a:xfrm>
              <a:off x="135000" y="755640"/>
              <a:ext cx="279576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038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039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040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041"/>
            <p:cNvSpPr/>
            <p:nvPr/>
          </p:nvSpPr>
          <p:spPr>
            <a:xfrm>
              <a:off x="6243480" y="222120"/>
              <a:ext cx="2795760" cy="70632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042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043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1044"/>
            <p:cNvSpPr/>
            <p:nvPr/>
          </p:nvSpPr>
          <p:spPr>
            <a:xfrm>
              <a:off x="625932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1045"/>
            <p:cNvSpPr/>
            <p:nvPr/>
          </p:nvSpPr>
          <p:spPr>
            <a:xfrm>
              <a:off x="6264000" y="882360"/>
              <a:ext cx="2751120" cy="16380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1856-6901-4CAD-B465-A034CCEF6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742A-7C94-4FCE-8C75-18E139929A1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3F37-9336-4069-9DDD-FE7129EB00E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fengm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643280" y="6415200"/>
            <a:ext cx="443160" cy="442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95280" y="479736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你听过这首乐曲吗？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请说说这段乐曲中都有哪些乐器演奏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7293600" y="848520"/>
            <a:ext cx="10947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春江花月夜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008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乐谱"/>
          <p:cNvPicPr/>
          <p:nvPr/>
        </p:nvPicPr>
        <p:blipFill>
          <a:blip r:embed="rId1"/>
          <a:stretch/>
        </p:blipFill>
        <p:spPr>
          <a:xfrm>
            <a:off x="324000" y="1557360"/>
            <a:ext cx="8064360" cy="30956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12"/>
          <p:cNvGrpSpPr/>
          <p:nvPr/>
        </p:nvGrpSpPr>
        <p:grpSpPr>
          <a:xfrm>
            <a:off x="468360" y="758880"/>
            <a:ext cx="5689440" cy="4832280"/>
            <a:chOff x="468360" y="758880"/>
            <a:chExt cx="5689440" cy="4832280"/>
          </a:xfrm>
        </p:grpSpPr>
        <p:sp>
          <p:nvSpPr>
            <p:cNvPr id="221" name="Text Box 4"/>
            <p:cNvSpPr/>
            <p:nvPr/>
          </p:nvSpPr>
          <p:spPr>
            <a:xfrm>
              <a:off x="695520" y="758880"/>
              <a:ext cx="475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cc"/>
                  </a:solidFill>
                  <a:latin typeface="Times New Roman"/>
                  <a:ea typeface="华文隶书"/>
                </a:rPr>
                <a:t>听、唱、背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Text Box 7"/>
            <p:cNvSpPr/>
            <p:nvPr/>
          </p:nvSpPr>
          <p:spPr>
            <a:xfrm>
              <a:off x="468360" y="5070600"/>
              <a:ext cx="56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宋体"/>
                  <a:ea typeface="宋体"/>
                </a:rPr>
                <a:t>思考</a:t>
              </a: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：这段旋律有何特点？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3" name="Text Box 9"/>
          <p:cNvSpPr/>
          <p:nvPr/>
        </p:nvSpPr>
        <p:spPr>
          <a:xfrm>
            <a:off x="1547640" y="55958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结构特点一：鱼咬尾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4" name="zhuti.mp3" descr=""/>
          <p:cNvPicPr/>
          <p:nvPr/>
        </p:nvPicPr>
        <p:blipFill>
          <a:blip r:embed="rId2"/>
          <a:stretch/>
        </p:blipFill>
        <p:spPr>
          <a:xfrm>
            <a:off x="7956720" y="6335640"/>
            <a:ext cx="79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2009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20059320581254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109008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江楼钟鼓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WordArt 7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28" name="江楼钟鼓.mp3" descr=""/>
          <p:cNvPicPr/>
          <p:nvPr/>
        </p:nvPicPr>
        <p:blipFill>
          <a:blip r:embed="rId2"/>
          <a:stretch/>
        </p:blipFill>
        <p:spPr>
          <a:xfrm>
            <a:off x="5275440" y="6453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0"/>
          <p:cNvSpPr/>
          <p:nvPr/>
        </p:nvSpPr>
        <p:spPr>
          <a:xfrm>
            <a:off x="324000" y="6383160"/>
            <a:ext cx="541080" cy="430560"/>
          </a:xfrm>
          <a:custGeom>
            <a:avLst/>
            <a:gdLst>
              <a:gd name="textAreaLeft" fmla="*/ 26640 w 541080"/>
              <a:gd name="textAreaRight" fmla="*/ 514440 w 54108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40" h="21600">
                <a:moveTo>
                  <a:pt x="0" y="0"/>
                </a:moveTo>
                <a:lnTo>
                  <a:pt x="27140" y="0"/>
                </a:lnTo>
                <a:lnTo>
                  <a:pt x="27140" y="21600"/>
                </a:lnTo>
                <a:lnTo>
                  <a:pt x="0" y="21600"/>
                </a:lnTo>
                <a:close/>
              </a:path>
              <a:path fill="lightenLess" w="27140" h="21600">
                <a:moveTo>
                  <a:pt x="0" y="0"/>
                </a:moveTo>
                <a:lnTo>
                  <a:pt x="27140" y="0"/>
                </a:lnTo>
                <a:lnTo>
                  <a:pt x="25790" y="1350"/>
                </a:lnTo>
                <a:lnTo>
                  <a:pt x="1350" y="1350"/>
                </a:lnTo>
                <a:close/>
              </a:path>
              <a:path fill="darken" w="27140" h="21600">
                <a:moveTo>
                  <a:pt x="27140" y="0"/>
                </a:moveTo>
                <a:lnTo>
                  <a:pt x="27140" y="21600"/>
                </a:lnTo>
                <a:lnTo>
                  <a:pt x="25790" y="20250"/>
                </a:lnTo>
                <a:lnTo>
                  <a:pt x="25790" y="1350"/>
                </a:lnTo>
                <a:close/>
              </a:path>
              <a:path fill="darkenLess" w="27140" h="21600">
                <a:moveTo>
                  <a:pt x="2714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790" y="20250"/>
                </a:lnTo>
                <a:close/>
              </a:path>
              <a:path fill="lighten" w="2714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40" h="21600">
                <a:moveTo>
                  <a:pt x="1357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40" h="21600">
                <a:moveTo>
                  <a:pt x="1357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40" h="21600">
                <a:moveTo>
                  <a:pt x="10980" y="8210"/>
                </a:moveTo>
                <a:lnTo>
                  <a:pt x="14865" y="8210"/>
                </a:lnTo>
                <a:lnTo>
                  <a:pt x="14865" y="15245"/>
                </a:lnTo>
                <a:lnTo>
                  <a:pt x="16160" y="15245"/>
                </a:lnTo>
                <a:lnTo>
                  <a:pt x="16160" y="16173"/>
                </a:lnTo>
                <a:lnTo>
                  <a:pt x="10980" y="16173"/>
                </a:lnTo>
                <a:lnTo>
                  <a:pt x="10980" y="15245"/>
                </a:lnTo>
                <a:lnTo>
                  <a:pt x="12275" y="15245"/>
                </a:lnTo>
                <a:lnTo>
                  <a:pt x="12275" y="9120"/>
                </a:lnTo>
                <a:lnTo>
                  <a:pt x="10980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0" name="Group 13"/>
          <p:cNvGrpSpPr/>
          <p:nvPr/>
        </p:nvGrpSpPr>
        <p:grpSpPr>
          <a:xfrm>
            <a:off x="686160" y="1409760"/>
            <a:ext cx="7917840" cy="5480280"/>
            <a:chOff x="686160" y="1409760"/>
            <a:chExt cx="7917840" cy="5480280"/>
          </a:xfrm>
        </p:grpSpPr>
        <p:sp>
          <p:nvSpPr>
            <p:cNvPr id="231" name="Text Box 6"/>
            <p:cNvSpPr/>
            <p:nvPr/>
          </p:nvSpPr>
          <p:spPr>
            <a:xfrm>
              <a:off x="759600" y="1409760"/>
              <a:ext cx="51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引子及主题呈示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4560" y="6308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（请注意最后一句旋律）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686160" y="2244960"/>
              <a:ext cx="7917840" cy="28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这是整首乐曲的基础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首先由琵琶清脆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的弹挑音模拟鼓声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由慢渐快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箫和古筝奏出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轻巧的波音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刻画了夕阳映江面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微风拂涟漪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的动人景象。然后，乐队合奏出令人赞叹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的主题，揭开整首乐曲的序幕。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77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2018520" y="1924200"/>
            <a:ext cx="45698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思考：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下三部分音乐有什么相同与不同之处？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0" descr="200561173199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676840" y="476280"/>
            <a:ext cx="2927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  <a:ea typeface="华文隶书"/>
              </a:rPr>
              <a:t>月上东山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（第一变奏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0" y="4038480"/>
            <a:ext cx="9396000" cy="2562480"/>
            <a:chOff x="0" y="4038480"/>
            <a:chExt cx="9396000" cy="2562480"/>
          </a:xfrm>
        </p:grpSpPr>
        <p:sp>
          <p:nvSpPr>
            <p:cNvPr id="238" name="Text Box 5"/>
            <p:cNvSpPr/>
            <p:nvPr/>
          </p:nvSpPr>
          <p:spPr>
            <a:xfrm>
              <a:off x="0" y="4038480"/>
              <a:ext cx="939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优雅如歌的旋律、典雅协调的色彩，形象地描绘了夕阳西下一轮明月从东山升起，在云层中游移出没的情景。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Text Box 6"/>
            <p:cNvSpPr/>
            <p:nvPr/>
          </p:nvSpPr>
          <p:spPr>
            <a:xfrm>
              <a:off x="3912480" y="60195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（请注意最后一句旋律）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0" name="AutoShape 7"/>
          <p:cNvSpPr/>
          <p:nvPr/>
        </p:nvSpPr>
        <p:spPr>
          <a:xfrm>
            <a:off x="1371600" y="6095880"/>
            <a:ext cx="541440" cy="43020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200"/>
              <a:gd name="textAreaBottom" fmla="*/ 403560 h 430200"/>
            </a:gdLst>
            <a:ahLst/>
            <a:rect l="textAreaLeft" t="textAreaTop" r="textAreaRight" b="textAreaBottom"/>
            <a:pathLst>
              <a:path w="27181" h="21600">
                <a:moveTo>
                  <a:pt x="0" y="0"/>
                </a:moveTo>
                <a:lnTo>
                  <a:pt x="27181" y="0"/>
                </a:lnTo>
                <a:lnTo>
                  <a:pt x="27181" y="21600"/>
                </a:lnTo>
                <a:lnTo>
                  <a:pt x="0" y="21600"/>
                </a:lnTo>
                <a:close/>
              </a:path>
              <a:path fill="lightenLess" w="27181" h="21600">
                <a:moveTo>
                  <a:pt x="0" y="0"/>
                </a:moveTo>
                <a:lnTo>
                  <a:pt x="27181" y="0"/>
                </a:lnTo>
                <a:lnTo>
                  <a:pt x="25831" y="1350"/>
                </a:lnTo>
                <a:lnTo>
                  <a:pt x="1350" y="1350"/>
                </a:lnTo>
                <a:close/>
              </a:path>
              <a:path fill="darken" w="27181" h="21600">
                <a:moveTo>
                  <a:pt x="27181" y="0"/>
                </a:moveTo>
                <a:lnTo>
                  <a:pt x="27181" y="21600"/>
                </a:lnTo>
                <a:lnTo>
                  <a:pt x="25831" y="20250"/>
                </a:lnTo>
                <a:lnTo>
                  <a:pt x="25831" y="1350"/>
                </a:lnTo>
                <a:close/>
              </a:path>
              <a:path fill="darkenLess" w="27181" h="21600">
                <a:moveTo>
                  <a:pt x="271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31" y="20250"/>
                </a:lnTo>
                <a:close/>
              </a:path>
              <a:path fill="lighten" w="271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81" h="21600">
                <a:moveTo>
                  <a:pt x="1359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81" h="21600">
                <a:moveTo>
                  <a:pt x="1359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81" h="21600">
                <a:moveTo>
                  <a:pt x="11000" y="8210"/>
                </a:moveTo>
                <a:lnTo>
                  <a:pt x="14885" y="8210"/>
                </a:lnTo>
                <a:lnTo>
                  <a:pt x="14885" y="15245"/>
                </a:lnTo>
                <a:lnTo>
                  <a:pt x="16180" y="15245"/>
                </a:lnTo>
                <a:lnTo>
                  <a:pt x="16180" y="16173"/>
                </a:lnTo>
                <a:lnTo>
                  <a:pt x="11000" y="16173"/>
                </a:lnTo>
                <a:lnTo>
                  <a:pt x="11000" y="15245"/>
                </a:lnTo>
                <a:lnTo>
                  <a:pt x="12295" y="15245"/>
                </a:lnTo>
                <a:lnTo>
                  <a:pt x="12295" y="9120"/>
                </a:lnTo>
                <a:lnTo>
                  <a:pt x="11000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42" name="月上东山.mp3" descr=""/>
          <p:cNvPicPr/>
          <p:nvPr/>
        </p:nvPicPr>
        <p:blipFill>
          <a:blip r:embed="rId2"/>
          <a:stretch/>
        </p:blipFill>
        <p:spPr>
          <a:xfrm>
            <a:off x="680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40002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4" descr="4_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6283800" y="404640"/>
            <a:ext cx="19512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花影层台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第二变奏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5" name="Group 21"/>
          <p:cNvGrpSpPr/>
          <p:nvPr/>
        </p:nvGrpSpPr>
        <p:grpSpPr>
          <a:xfrm>
            <a:off x="0" y="3789360"/>
            <a:ext cx="8748360" cy="2659320"/>
            <a:chOff x="0" y="3789360"/>
            <a:chExt cx="8748360" cy="2659320"/>
          </a:xfrm>
        </p:grpSpPr>
        <p:sp>
          <p:nvSpPr>
            <p:cNvPr id="246" name="Text Box 5"/>
            <p:cNvSpPr/>
            <p:nvPr/>
          </p:nvSpPr>
          <p:spPr>
            <a:xfrm>
              <a:off x="0" y="3789360"/>
              <a:ext cx="8748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乐曲描写了阵阵清风吹皱一江春水，葱葱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花木掩映月色朦胧的画面，岸边簇簇鲜花倒映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</a:rPr>
                <a:t>在江水中，增添了江山秀丽的色彩。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Text Box 15"/>
            <p:cNvSpPr/>
            <p:nvPr/>
          </p:nvSpPr>
          <p:spPr>
            <a:xfrm>
              <a:off x="3710520" y="58672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（请注意最后一句旋律）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8" name="AutoShape 16"/>
          <p:cNvSpPr/>
          <p:nvPr/>
        </p:nvSpPr>
        <p:spPr>
          <a:xfrm>
            <a:off x="1219320" y="5943600"/>
            <a:ext cx="541080" cy="430200"/>
          </a:xfrm>
          <a:custGeom>
            <a:avLst/>
            <a:gdLst>
              <a:gd name="textAreaLeft" fmla="*/ 26640 w 541080"/>
              <a:gd name="textAreaRight" fmla="*/ 514440 w 541080"/>
              <a:gd name="textAreaTop" fmla="*/ 26640 h 430200"/>
              <a:gd name="textAreaBottom" fmla="*/ 403560 h 430200"/>
            </a:gdLst>
            <a:ahLst/>
            <a:rect l="textAreaLeft" t="textAreaTop" r="textAreaRight" b="textAreaBottom"/>
            <a:pathLst>
              <a:path w="27163" h="21600">
                <a:moveTo>
                  <a:pt x="0" y="0"/>
                </a:moveTo>
                <a:lnTo>
                  <a:pt x="27163" y="0"/>
                </a:lnTo>
                <a:lnTo>
                  <a:pt x="27163" y="21600"/>
                </a:lnTo>
                <a:lnTo>
                  <a:pt x="0" y="21600"/>
                </a:lnTo>
                <a:close/>
              </a:path>
              <a:path fill="lightenLess" w="27163" h="21600">
                <a:moveTo>
                  <a:pt x="0" y="0"/>
                </a:moveTo>
                <a:lnTo>
                  <a:pt x="27163" y="0"/>
                </a:lnTo>
                <a:lnTo>
                  <a:pt x="25813" y="1350"/>
                </a:lnTo>
                <a:lnTo>
                  <a:pt x="1350" y="1350"/>
                </a:lnTo>
                <a:close/>
              </a:path>
              <a:path fill="darken" w="27163" h="21600">
                <a:moveTo>
                  <a:pt x="27163" y="0"/>
                </a:moveTo>
                <a:lnTo>
                  <a:pt x="27163" y="21600"/>
                </a:lnTo>
                <a:lnTo>
                  <a:pt x="25813" y="20250"/>
                </a:lnTo>
                <a:lnTo>
                  <a:pt x="25813" y="1350"/>
                </a:lnTo>
                <a:close/>
              </a:path>
              <a:path fill="darkenLess" w="27163" h="21600">
                <a:moveTo>
                  <a:pt x="2716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13" y="20250"/>
                </a:lnTo>
                <a:close/>
              </a:path>
              <a:path fill="lighten" w="2716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63" h="21600">
                <a:moveTo>
                  <a:pt x="13581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63" h="21600">
                <a:moveTo>
                  <a:pt x="13581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63" h="21600">
                <a:moveTo>
                  <a:pt x="10991" y="8210"/>
                </a:moveTo>
                <a:lnTo>
                  <a:pt x="14876" y="8210"/>
                </a:lnTo>
                <a:lnTo>
                  <a:pt x="14876" y="15245"/>
                </a:lnTo>
                <a:lnTo>
                  <a:pt x="16171" y="15245"/>
                </a:lnTo>
                <a:lnTo>
                  <a:pt x="16171" y="16173"/>
                </a:lnTo>
                <a:lnTo>
                  <a:pt x="10991" y="16173"/>
                </a:lnTo>
                <a:lnTo>
                  <a:pt x="10991" y="15245"/>
                </a:lnTo>
                <a:lnTo>
                  <a:pt x="12286" y="15245"/>
                </a:lnTo>
                <a:lnTo>
                  <a:pt x="12286" y="9120"/>
                </a:lnTo>
                <a:lnTo>
                  <a:pt x="10991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WordArt 17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50" name="花影层叠.mp3" descr=""/>
          <p:cNvPicPr/>
          <p:nvPr/>
        </p:nvPicPr>
        <p:blipFill>
          <a:blip r:embed="rId2"/>
          <a:stretch/>
        </p:blipFill>
        <p:spPr>
          <a:xfrm>
            <a:off x="694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50999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8" descr="20050321004814893681"/>
          <p:cNvPicPr/>
          <p:nvPr/>
        </p:nvPicPr>
        <p:blipFill>
          <a:blip r:embed="rId1"/>
          <a:stretch/>
        </p:blipFill>
        <p:spPr>
          <a:xfrm>
            <a:off x="-3636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1306080" y="620640"/>
            <a:ext cx="1826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水深云际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第三变奏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3" name="Group 13"/>
          <p:cNvGrpSpPr/>
          <p:nvPr/>
        </p:nvGrpSpPr>
        <p:grpSpPr>
          <a:xfrm>
            <a:off x="395280" y="4054320"/>
            <a:ext cx="7632360" cy="2805480"/>
            <a:chOff x="395280" y="4054320"/>
            <a:chExt cx="7632360" cy="2805480"/>
          </a:xfrm>
        </p:grpSpPr>
        <p:sp>
          <p:nvSpPr>
            <p:cNvPr id="254" name="Text Box 5"/>
            <p:cNvSpPr/>
            <p:nvPr/>
          </p:nvSpPr>
          <p:spPr>
            <a:xfrm>
              <a:off x="395280" y="4054320"/>
              <a:ext cx="76323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楷体_GB2312"/>
                </a:rPr>
                <a:t>    </a:t>
              </a: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这是一段富于动态的音乐，是在主旋律的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基础上变化而成的。乐曲中二胡在低音区奏出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浑厚的曲调，忽而琵琶在高音上弹出透明的泛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音。刻画了月光映入水中，水天一色、云深不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cc"/>
                  </a:solidFill>
                  <a:latin typeface="楷体_GB2312"/>
                </a:rPr>
                <a:t>知处的壮观景象，令人心旷神怡。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Text Box 9"/>
            <p:cNvSpPr/>
            <p:nvPr/>
          </p:nvSpPr>
          <p:spPr>
            <a:xfrm>
              <a:off x="3028320" y="62784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（请注意最后一句旋律）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6" name="AutoShape 10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7" name="水深云际.mp3" descr=""/>
          <p:cNvPicPr/>
          <p:nvPr/>
        </p:nvPicPr>
        <p:blipFill>
          <a:blip r:embed="rId2"/>
          <a:stretch/>
        </p:blipFill>
        <p:spPr>
          <a:xfrm>
            <a:off x="6372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8101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7"/>
          <p:cNvSpPr/>
          <p:nvPr/>
        </p:nvSpPr>
        <p:spPr>
          <a:xfrm>
            <a:off x="2015640" y="1484280"/>
            <a:ext cx="45698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结构特点二：换头合尾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春江花月夜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由引子和主题、主题的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六次变奏和尾声组成。尽管前面部分旋律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多变，但每段结尾基本相同，将乐曲的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个画面融为一体。这是中国传统音乐常用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的一种创作手法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换头合尾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468360" y="465300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　　它能充分发挥各种乐器的作用，从各个不同的角度揭示乐曲的意境，深化主题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2" descr="poyangh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28520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渔歌唱晚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0920" y="1700280"/>
            <a:ext cx="69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、你想象中的“渔歌唱晚”是怎么样的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用什么乐器主奏最合适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6" name="渔歌唱晚.mp3" descr=""/>
          <p:cNvPicPr/>
          <p:nvPr/>
        </p:nvPicPr>
        <p:blipFill>
          <a:blip r:embed="rId2"/>
          <a:stretch/>
        </p:blipFill>
        <p:spPr>
          <a:xfrm>
            <a:off x="5651640" y="6454800"/>
            <a:ext cx="576000" cy="403200"/>
          </a:xfrm>
          <a:prstGeom prst="rect">
            <a:avLst/>
          </a:prstGeom>
          <a:ln w="0">
            <a:noFill/>
          </a:ln>
        </p:spPr>
      </p:pic>
      <p:pic>
        <p:nvPicPr>
          <p:cNvPr id="267" name="yuge.mp3" descr=""/>
          <p:cNvPicPr/>
          <p:nvPr/>
        </p:nvPicPr>
        <p:blipFill>
          <a:blip r:embed="rId3"/>
          <a:stretch/>
        </p:blipFill>
        <p:spPr>
          <a:xfrm>
            <a:off x="6443640" y="6424560"/>
            <a:ext cx="720720" cy="433440"/>
          </a:xfrm>
          <a:prstGeom prst="rect">
            <a:avLst/>
          </a:prstGeom>
          <a:ln w="0">
            <a:noFill/>
          </a:ln>
        </p:spPr>
      </p:pic>
      <p:pic>
        <p:nvPicPr>
          <p:cNvPr id="268" name="yuge2.mp3" descr=""/>
          <p:cNvPicPr/>
          <p:nvPr/>
        </p:nvPicPr>
        <p:blipFill>
          <a:blip r:embed="rId4"/>
          <a:stretch/>
        </p:blipFill>
        <p:spPr>
          <a:xfrm>
            <a:off x="7093080" y="6381720"/>
            <a:ext cx="863640" cy="476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20"/>
          <p:cNvSpPr/>
          <p:nvPr/>
        </p:nvSpPr>
        <p:spPr>
          <a:xfrm>
            <a:off x="971640" y="98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（第四变奏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250920" y="3359160"/>
            <a:ext cx="93614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、听音乐、思考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音乐前后两部分有什么变化？分别描绘了什么情景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7801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2013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h4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58760" y="4046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  <a:ea typeface="隶书"/>
              </a:rPr>
              <a:t>视唱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879480" y="4437000"/>
            <a:ext cx="72928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这首渔歌的旋律有何特点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外创作：请为这首渔歌创作合适的歌词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95280" y="5157720"/>
            <a:ext cx="92901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每一乐句的旋律都是宽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紧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宽，中间的弱起部分把渔翁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丰收后摇橹唱歌的悠闲神态刻画得惟妙惟肖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6" name="渔歌 洞箫.mp3" descr=""/>
          <p:cNvPicPr/>
          <p:nvPr/>
        </p:nvPicPr>
        <p:blipFill>
          <a:blip r:embed="rId2"/>
          <a:stretch/>
        </p:blipFill>
        <p:spPr>
          <a:xfrm>
            <a:off x="8315280" y="6426360"/>
            <a:ext cx="649440" cy="43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43016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poyangh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28520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渔歌唱晚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9280" y="2185920"/>
            <a:ext cx="9577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首先由箫主奏如歌的旋律，表现了渔歌四起，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由远而近，渔翁们在归途中悠然自得地边摇橹边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唱着丰收的歌谣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然后音乐突然变快，乐队合奏，把人们兴奋、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欢乐的心情描写得淋漓尽致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WordArt 8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81" name="渔歌唱晚.mp3" descr=""/>
          <p:cNvPicPr/>
          <p:nvPr/>
        </p:nvPicPr>
        <p:blipFill>
          <a:blip r:embed="rId2"/>
          <a:stretch/>
        </p:blipFill>
        <p:spPr>
          <a:xfrm>
            <a:off x="5651640" y="6454800"/>
            <a:ext cx="576000" cy="4032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2"/>
          <p:cNvSpPr/>
          <p:nvPr/>
        </p:nvSpPr>
        <p:spPr>
          <a:xfrm>
            <a:off x="971640" y="98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（第四变奏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78010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8" name="Picture 5" descr="古筝"/>
          <p:cNvPicPr/>
          <p:nvPr/>
        </p:nvPicPr>
        <p:blipFill>
          <a:blip r:embed="rId3"/>
          <a:stretch/>
        </p:blipFill>
        <p:spPr>
          <a:xfrm>
            <a:off x="1547640" y="1700280"/>
            <a:ext cx="4032360" cy="141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琵琶"/>
          <p:cNvPicPr/>
          <p:nvPr/>
        </p:nvPicPr>
        <p:blipFill>
          <a:blip r:embed="rId4"/>
          <a:stretch/>
        </p:blipFill>
        <p:spPr>
          <a:xfrm>
            <a:off x="1332000" y="3500280"/>
            <a:ext cx="1225440" cy="3024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箫"/>
          <p:cNvPicPr/>
          <p:nvPr/>
        </p:nvPicPr>
        <p:blipFill>
          <a:blip r:embed="rId5"/>
          <a:stretch/>
        </p:blipFill>
        <p:spPr>
          <a:xfrm>
            <a:off x="7164360" y="1052640"/>
            <a:ext cx="1373040" cy="4971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二胡"/>
          <p:cNvPicPr/>
          <p:nvPr/>
        </p:nvPicPr>
        <p:blipFill>
          <a:blip r:embed="rId6"/>
          <a:stretch/>
        </p:blipFill>
        <p:spPr>
          <a:xfrm>
            <a:off x="4067280" y="3573360"/>
            <a:ext cx="1454040" cy="29512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1"/>
          <p:cNvSpPr/>
          <p:nvPr/>
        </p:nvSpPr>
        <p:spPr>
          <a:xfrm>
            <a:off x="7524720" y="6381720"/>
            <a:ext cx="1619280" cy="476280"/>
          </a:xfrm>
          <a:custGeom>
            <a:avLst/>
            <a:gdLst>
              <a:gd name="textAreaLeft" fmla="*/ 29520 w 1619280"/>
              <a:gd name="textAreaRight" fmla="*/ 1589760 w 161928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73398" h="21600">
                <a:moveTo>
                  <a:pt x="0" y="0"/>
                </a:moveTo>
                <a:lnTo>
                  <a:pt x="73398" y="0"/>
                </a:lnTo>
                <a:lnTo>
                  <a:pt x="73398" y="21600"/>
                </a:lnTo>
                <a:lnTo>
                  <a:pt x="0" y="21600"/>
                </a:lnTo>
                <a:close/>
              </a:path>
              <a:path fill="lightenLess" w="73398" h="21600">
                <a:moveTo>
                  <a:pt x="0" y="0"/>
                </a:moveTo>
                <a:lnTo>
                  <a:pt x="73398" y="0"/>
                </a:lnTo>
                <a:lnTo>
                  <a:pt x="72048" y="1350"/>
                </a:lnTo>
                <a:lnTo>
                  <a:pt x="1350" y="1350"/>
                </a:lnTo>
                <a:close/>
              </a:path>
              <a:path fill="darken" w="73398" h="21600">
                <a:moveTo>
                  <a:pt x="73398" y="0"/>
                </a:moveTo>
                <a:lnTo>
                  <a:pt x="73398" y="21600"/>
                </a:lnTo>
                <a:lnTo>
                  <a:pt x="72048" y="20250"/>
                </a:lnTo>
                <a:lnTo>
                  <a:pt x="72048" y="1350"/>
                </a:lnTo>
                <a:close/>
              </a:path>
              <a:path fill="darkenLess" w="73398" h="21600">
                <a:moveTo>
                  <a:pt x="7339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2048" y="20250"/>
                </a:lnTo>
                <a:close/>
              </a:path>
              <a:path fill="lighten" w="7339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华文隶书"/>
              </a:rPr>
              <a:t>简介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2" descr="49_3039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87408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洄澜拍岸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WordArt 8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288" name="洄澜拍岸.mp3" descr=""/>
          <p:cNvPicPr/>
          <p:nvPr/>
        </p:nvPicPr>
        <p:blipFill>
          <a:blip r:embed="rId2"/>
          <a:stretch/>
        </p:blipFill>
        <p:spPr>
          <a:xfrm>
            <a:off x="5796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4"/>
          <p:cNvSpPr/>
          <p:nvPr/>
        </p:nvSpPr>
        <p:spPr>
          <a:xfrm>
            <a:off x="611280" y="105264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（第五变奏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79280" y="1484280"/>
            <a:ext cx="93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听音乐，思考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这段音乐与前面几段音乐在情绪、力度、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　　速度上有什么不同？　　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　     你认为表现了怎样的画面？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041480" y="501336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、请给这个音乐取个小标题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971640" y="3557520"/>
            <a:ext cx="72612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琥珀"/>
                <a:ea typeface="华文琥珀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琵琶用轮扫有力的弹奏，似渔舟破水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古筝划奏，大鼓滚奏，似波涛拍岸，乐曲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度不断加快，旋律气势磅礴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799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2003116204330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116136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欸乃归舟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7" name="归舟.mp3" descr=""/>
          <p:cNvPicPr/>
          <p:nvPr/>
        </p:nvPicPr>
        <p:blipFill>
          <a:blip r:embed="rId2"/>
          <a:stretch/>
        </p:blipFill>
        <p:spPr>
          <a:xfrm>
            <a:off x="63007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4"/>
          <p:cNvSpPr/>
          <p:nvPr/>
        </p:nvSpPr>
        <p:spPr>
          <a:xfrm>
            <a:off x="179280" y="11970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第六变奏   高潮部分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395280" y="2627280"/>
            <a:ext cx="874872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假如你是一位音乐家，根据这个小标题，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你会描写哪些音乐形象？怎样来表现这些音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乐形象？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提示：可从乐器演奏方式、节奏、旋律线、速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度、 力度、情绪等音乐要素方面考虑）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0502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6"/>
          <p:cNvSpPr/>
          <p:nvPr/>
        </p:nvSpPr>
        <p:spPr>
          <a:xfrm>
            <a:off x="380880" y="443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旋律线舒缓流畅，表现了水波起伏的情景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1" name="Picture 6" descr="h5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25974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7"/>
          <p:cNvSpPr/>
          <p:nvPr/>
        </p:nvSpPr>
        <p:spPr>
          <a:xfrm>
            <a:off x="3924360" y="2708280"/>
            <a:ext cx="5219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395280" y="2205000"/>
            <a:ext cx="8424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4000" y="3139920"/>
            <a:ext cx="374328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2122920" y="3959280"/>
            <a:ext cx="530136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请划出这段音乐的旋律线，指出它的特点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找出这段旋律的基本节奏型，模仿的是哪种音乐形象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6" name="归舟片段.mp3" descr=""/>
          <p:cNvPicPr/>
          <p:nvPr/>
        </p:nvPicPr>
        <p:blipFill>
          <a:blip r:embed="rId2"/>
          <a:stretch/>
        </p:blipFill>
        <p:spPr>
          <a:xfrm>
            <a:off x="6877080" y="6497640"/>
            <a:ext cx="360360" cy="36036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21"/>
          <p:cNvGrpSpPr/>
          <p:nvPr/>
        </p:nvGrpSpPr>
        <p:grpSpPr>
          <a:xfrm>
            <a:off x="395280" y="5445000"/>
            <a:ext cx="9145440" cy="603720"/>
            <a:chOff x="395280" y="5445000"/>
            <a:chExt cx="9145440" cy="603720"/>
          </a:xfrm>
        </p:grpSpPr>
        <p:sp>
          <p:nvSpPr>
            <p:cNvPr id="308" name="Text Box 17"/>
            <p:cNvSpPr/>
            <p:nvPr/>
          </p:nvSpPr>
          <p:spPr>
            <a:xfrm>
              <a:off x="395280" y="5589360"/>
              <a:ext cx="91454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的节奏型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生动地刻画了摇橹的动作，速度由慢到快，显示了渔舟由远而近的音乐形象。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09" name="Picture 20" descr="jiezou"/>
            <p:cNvPicPr/>
            <p:nvPr/>
          </p:nvPicPr>
          <p:blipFill>
            <a:blip r:embed="rId3"/>
            <a:stretch/>
          </p:blipFill>
          <p:spPr>
            <a:xfrm>
              <a:off x="611280" y="5445000"/>
              <a:ext cx="1368360" cy="47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26"/>
          <p:cNvGrpSpPr/>
          <p:nvPr/>
        </p:nvGrpSpPr>
        <p:grpSpPr>
          <a:xfrm>
            <a:off x="-56520" y="469800"/>
            <a:ext cx="9200520" cy="6127920"/>
            <a:chOff x="-56520" y="469800"/>
            <a:chExt cx="9200520" cy="6127920"/>
          </a:xfrm>
        </p:grpSpPr>
        <p:grpSp>
          <p:nvGrpSpPr>
            <p:cNvPr id="311" name="Group 19"/>
            <p:cNvGrpSpPr/>
            <p:nvPr/>
          </p:nvGrpSpPr>
          <p:grpSpPr>
            <a:xfrm>
              <a:off x="0" y="469800"/>
              <a:ext cx="9144000" cy="6127920"/>
              <a:chOff x="0" y="469800"/>
              <a:chExt cx="9144000" cy="6127920"/>
            </a:xfrm>
          </p:grpSpPr>
          <p:pic>
            <p:nvPicPr>
              <p:cNvPr id="312" name="Picture 11" descr="h7"/>
              <p:cNvPicPr/>
              <p:nvPr/>
            </p:nvPicPr>
            <p:blipFill>
              <a:blip r:embed="rId4"/>
              <a:stretch/>
            </p:blipFill>
            <p:spPr>
              <a:xfrm>
                <a:off x="0" y="1152360"/>
                <a:ext cx="9144000" cy="544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Text Box 18"/>
              <p:cNvSpPr/>
              <p:nvPr/>
            </p:nvSpPr>
            <p:spPr>
              <a:xfrm>
                <a:off x="2853360" y="469800"/>
                <a:ext cx="366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cc99"/>
                    </a:solidFill>
                    <a:latin typeface="Times New Roman"/>
                  </a:rPr>
                  <a:t>根据乐曲设计演唱形式、表演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4" name="Text Box 22"/>
            <p:cNvSpPr/>
            <p:nvPr/>
          </p:nvSpPr>
          <p:spPr>
            <a:xfrm>
              <a:off x="207360" y="369720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转快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Text Box 23"/>
            <p:cNvSpPr/>
            <p:nvPr/>
          </p:nvSpPr>
          <p:spPr>
            <a:xfrm>
              <a:off x="5847480" y="4433760"/>
              <a:ext cx="6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转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Text Box 24"/>
            <p:cNvSpPr/>
            <p:nvPr/>
          </p:nvSpPr>
          <p:spPr>
            <a:xfrm>
              <a:off x="3546360" y="19144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p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Text Box 25"/>
            <p:cNvSpPr/>
            <p:nvPr/>
          </p:nvSpPr>
          <p:spPr>
            <a:xfrm>
              <a:off x="-56520" y="10508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2003116204330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161360" y="404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欸乃归舟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WordArt 6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323" name="归舟.mp3" descr=""/>
          <p:cNvPicPr/>
          <p:nvPr/>
        </p:nvPicPr>
        <p:blipFill>
          <a:blip r:embed="rId2"/>
          <a:stretch/>
        </p:blipFill>
        <p:spPr>
          <a:xfrm>
            <a:off x="63007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8"/>
          <p:cNvSpPr/>
          <p:nvPr/>
        </p:nvSpPr>
        <p:spPr>
          <a:xfrm>
            <a:off x="857880" y="1268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第六变奏   高潮部分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468360" y="2160720"/>
            <a:ext cx="8675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音乐开始，乐队奏出起伏不断的旋律，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是对划船动作的描写。筝始终模仿水声由低而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划奏，当加快速度、增强力度，把音乐推向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高潮后，即转慢速。生动地刻画了归舟破水的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境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0502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9" descr="200572012124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1031760" y="98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尾声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24000" y="2349360"/>
            <a:ext cx="496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胡和箫先后奏出悠扬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主题，自由的曲调再现了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引子特征。结尾处速度渐慢，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力度渐弱，直至消失。表现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了归舟远去，春江更加宁静，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令人回味无穷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3004920" y="6234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请注意最后一句旋律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468360" y="6383160"/>
            <a:ext cx="541440" cy="430560"/>
          </a:xfrm>
          <a:custGeom>
            <a:avLst/>
            <a:gdLst>
              <a:gd name="textAreaLeft" fmla="*/ 26640 w 541440"/>
              <a:gd name="textAreaRight" fmla="*/ 514800 w 541440"/>
              <a:gd name="textAreaTop" fmla="*/ 26640 h 430560"/>
              <a:gd name="textAreaBottom" fmla="*/ 403920 h 430560"/>
            </a:gdLst>
            <a:ahLst/>
            <a:rect l="textAreaLeft" t="textAreaTop" r="textAreaRight" b="textAreaBottom"/>
            <a:pathLst>
              <a:path w="27158" h="21600">
                <a:moveTo>
                  <a:pt x="0" y="0"/>
                </a:moveTo>
                <a:lnTo>
                  <a:pt x="27158" y="0"/>
                </a:lnTo>
                <a:lnTo>
                  <a:pt x="27158" y="21600"/>
                </a:lnTo>
                <a:lnTo>
                  <a:pt x="0" y="21600"/>
                </a:lnTo>
                <a:close/>
              </a:path>
              <a:path fill="lightenLess" w="27158" h="21600">
                <a:moveTo>
                  <a:pt x="0" y="0"/>
                </a:moveTo>
                <a:lnTo>
                  <a:pt x="27158" y="0"/>
                </a:lnTo>
                <a:lnTo>
                  <a:pt x="25808" y="1350"/>
                </a:lnTo>
                <a:lnTo>
                  <a:pt x="1350" y="1350"/>
                </a:lnTo>
                <a:close/>
              </a:path>
              <a:path fill="darken" w="27158" h="21600">
                <a:moveTo>
                  <a:pt x="27158" y="0"/>
                </a:moveTo>
                <a:lnTo>
                  <a:pt x="27158" y="21600"/>
                </a:lnTo>
                <a:lnTo>
                  <a:pt x="25808" y="20250"/>
                </a:lnTo>
                <a:lnTo>
                  <a:pt x="25808" y="1350"/>
                </a:lnTo>
                <a:close/>
              </a:path>
              <a:path fill="darkenLess" w="27158" h="21600">
                <a:moveTo>
                  <a:pt x="27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808" y="20250"/>
                </a:lnTo>
                <a:close/>
              </a:path>
              <a:path fill="lighten" w="27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158" h="21600">
                <a:moveTo>
                  <a:pt x="13579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7158" h="21600">
                <a:moveTo>
                  <a:pt x="13579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7158" h="21600">
                <a:moveTo>
                  <a:pt x="10989" y="8210"/>
                </a:moveTo>
                <a:lnTo>
                  <a:pt x="14874" y="8210"/>
                </a:lnTo>
                <a:lnTo>
                  <a:pt x="14874" y="15245"/>
                </a:lnTo>
                <a:lnTo>
                  <a:pt x="16169" y="15245"/>
                </a:lnTo>
                <a:lnTo>
                  <a:pt x="16169" y="16173"/>
                </a:lnTo>
                <a:lnTo>
                  <a:pt x="10989" y="16173"/>
                </a:lnTo>
                <a:lnTo>
                  <a:pt x="10989" y="15245"/>
                </a:lnTo>
                <a:lnTo>
                  <a:pt x="12284" y="15245"/>
                </a:lnTo>
                <a:lnTo>
                  <a:pt x="12284" y="9120"/>
                </a:lnTo>
                <a:lnTo>
                  <a:pt x="10989" y="912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1" name="尾声.mp3" descr=""/>
          <p:cNvPicPr/>
          <p:nvPr/>
        </p:nvPicPr>
        <p:blipFill>
          <a:blip r:embed="rId2"/>
          <a:stretch/>
        </p:blipFill>
        <p:spPr>
          <a:xfrm>
            <a:off x="7740720" y="6497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48988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1656720" y="89676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曲式结构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</a:rPr>
              <a:t>具有中国特色的变奏曲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442080" y="2303640"/>
            <a:ext cx="1826280" cy="38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</a:rPr>
              <a:t>春江花月夜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2195640" y="1844640"/>
            <a:ext cx="431640" cy="4392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2610000" y="186372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引子与主题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2690640" y="385776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六次变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3029040" y="5877000"/>
            <a:ext cx="132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尾声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4994280" y="184464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江楼钟鼓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AutoShape 12"/>
          <p:cNvSpPr/>
          <p:nvPr/>
        </p:nvSpPr>
        <p:spPr>
          <a:xfrm>
            <a:off x="4573440" y="2637000"/>
            <a:ext cx="287640" cy="3168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82440 h 3168360"/>
              <a:gd name="textAreaBottom" fmla="*/ 3085920 h 31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4983120" y="238752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月上东山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4994280" y="2963880"/>
            <a:ext cx="19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花影层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4994280" y="3645000"/>
            <a:ext cx="20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水深云际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4994280" y="4218120"/>
            <a:ext cx="22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渔歌唱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4994280" y="479412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洄澜拍岸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4994280" y="5370480"/>
            <a:ext cx="23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欸乃归舟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5403960" y="593424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尾声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yuequshangx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2535120" y="907920"/>
            <a:ext cx="5637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隆隆的暮鼓声，徐徐上升的明月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江风吹拂的微波，频频摇曳的花影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浸遥天的景象，悠闲自得的渔歌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波涛拍岸的回声，橹桨划处的“欸乃”，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归舟远去的幽静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江花月夜犹如一幅山水画卷，通过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头合尾的创作手法，把多个画面有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的结合在一起，乐曲动静结合，情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景交融，引人入胜。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9" name="中国民族轻音乐 - 春江花月夜.mp3" descr=""/>
          <p:cNvPicPr/>
          <p:nvPr/>
        </p:nvPicPr>
        <p:blipFill>
          <a:blip r:embed="rId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7"/>
          <p:cNvSpPr/>
          <p:nvPr/>
        </p:nvSpPr>
        <p:spPr>
          <a:xfrm>
            <a:off x="2050920" y="6021360"/>
            <a:ext cx="5616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493148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3" descr="200465113110"/>
          <p:cNvPicPr/>
          <p:nvPr/>
        </p:nvPicPr>
        <p:blipFill>
          <a:blip r:embed="rId1"/>
          <a:stretch/>
        </p:blipFill>
        <p:spPr>
          <a:xfrm>
            <a:off x="4572000" y="4005360"/>
            <a:ext cx="2881440" cy="2300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412920" y="1295280"/>
            <a:ext cx="86169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筝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弹拨乐器，木制，是一种很古老的乐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器，早在战国时已在秦国流行，所以历史上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又称“秦筝”，现称古筝。音色如行去流水般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悠扬清雅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792468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177" name="流水片段 古筝.mp3" descr=""/>
          <p:cNvPicPr/>
          <p:nvPr/>
        </p:nvPicPr>
        <p:blipFill>
          <a:blip r:embed="rId4"/>
          <a:stretch/>
        </p:blipFill>
        <p:spPr>
          <a:xfrm>
            <a:off x="39625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4002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531720" y="1755720"/>
            <a:ext cx="519264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琵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：弹拨乐器，木制，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原称“批把”，由演奏方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而得名。公元四世纪由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域传入内地，在乐队中应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用相当广泛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181" name="十面埋伏片段 琵琶.mp3" descr=""/>
          <p:cNvPicPr/>
          <p:nvPr/>
        </p:nvPicPr>
        <p:blipFill>
          <a:blip r:embed="rId3"/>
          <a:stretch/>
        </p:blipFill>
        <p:spPr>
          <a:xfrm>
            <a:off x="42847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pipa2"/>
          <p:cNvPicPr/>
          <p:nvPr/>
        </p:nvPicPr>
        <p:blipFill>
          <a:blip r:embed="rId4"/>
          <a:stretch/>
        </p:blipFill>
        <p:spPr>
          <a:xfrm>
            <a:off x="5697360" y="1484280"/>
            <a:ext cx="298008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198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31880" y="1903320"/>
            <a:ext cx="45608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：吹管乐器，竹制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直吹，六个音孔，音色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恬静，常演奏宁静、抒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情的旋律，又称洞箫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186" name="洞箫音乐片段.mp3" descr=""/>
          <p:cNvPicPr/>
          <p:nvPr/>
        </p:nvPicPr>
        <p:blipFill>
          <a:blip r:embed="rId3"/>
          <a:stretch/>
        </p:blipFill>
        <p:spPr>
          <a:xfrm>
            <a:off x="40672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huixiao"/>
          <p:cNvPicPr/>
          <p:nvPr/>
        </p:nvPicPr>
        <p:blipFill>
          <a:blip r:embed="rId4"/>
          <a:stretch/>
        </p:blipFill>
        <p:spPr>
          <a:xfrm>
            <a:off x="5508720" y="1700280"/>
            <a:ext cx="297180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4006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器知识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6400" y="1766880"/>
            <a:ext cx="489924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宋体"/>
              </a:rPr>
              <a:t>二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：拉弦乐器，又称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胡琴，木制，琴筒前蒙以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蛇皮。适宜表现深沉悲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的内容，也能表现气势壮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观的意境，是极具魅力的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民族乐器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WordArt 6"/>
          <p:cNvSpPr txBox="1"/>
          <p:nvPr/>
        </p:nvSpPr>
        <p:spPr>
          <a:xfrm>
            <a:off x="8229600" y="6248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cap="sq" w="9360">
                  <a:solidFill>
                    <a:srgbClr val="ffffcc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返回</a:t>
            </a:r>
            <a:endParaRPr b="1" lang="en-US" sz="3200" spc="-1" strike="noStrike">
              <a:ln cap="sq" w="9360">
                <a:solidFill>
                  <a:srgbClr val="ffffcc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pic>
        <p:nvPicPr>
          <p:cNvPr id="191" name="二胡音乐片段.mp3" descr=""/>
          <p:cNvPicPr/>
          <p:nvPr/>
        </p:nvPicPr>
        <p:blipFill>
          <a:blip r:embed="rId3"/>
          <a:stretch/>
        </p:blipFill>
        <p:spPr>
          <a:xfrm>
            <a:off x="42116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erhu"/>
          <p:cNvPicPr/>
          <p:nvPr/>
        </p:nvPicPr>
        <p:blipFill>
          <a:blip r:embed="rId4"/>
          <a:stretch/>
        </p:blipFill>
        <p:spPr>
          <a:xfrm>
            <a:off x="5435640" y="2060640"/>
            <a:ext cx="35211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9948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8" descr="fengmian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6"/>
          <p:cNvGrpSpPr/>
          <p:nvPr/>
        </p:nvGrpSpPr>
        <p:grpSpPr>
          <a:xfrm>
            <a:off x="395280" y="765000"/>
            <a:ext cx="8424360" cy="2120400"/>
            <a:chOff x="395280" y="765000"/>
            <a:chExt cx="8424360" cy="2120400"/>
          </a:xfrm>
        </p:grpSpPr>
        <p:sp>
          <p:nvSpPr>
            <p:cNvPr id="195" name="Text Box 6"/>
            <p:cNvSpPr/>
            <p:nvPr/>
          </p:nvSpPr>
          <p:spPr>
            <a:xfrm>
              <a:off x="2593080" y="76500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春江花月夜</a:t>
              </a:r>
              <a:endParaRPr b="1" lang="en-US" sz="7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395280" y="1938240"/>
              <a:ext cx="842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春江花月夜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是中国一首古典乐曲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原是一首琵琶曲，名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《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夕阳箫鼓</a:t>
              </a:r>
              <a:r>
                <a:rPr b="1" lang="en-US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》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，后被改编成民族管弦乐曲。乐曲以优美流畅的旋律，巧妙细腻的器乐组合，形象地描绘了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夕阳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渔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暮鼓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花影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等春江迷人的景色，尽情赞颂江南水乡的风姿异态 。全曲有八部分组成：引子与江楼钟鼓、月上东山、花影层台、水深云际、渔歌唱晚、洄澜拍岸、欸乃归舟、尾声。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97" name="春江花月夜片段 主题.mp3" descr=""/>
          <p:cNvPicPr/>
          <p:nvPr/>
        </p:nvPicPr>
        <p:blipFill>
          <a:blip r:embed="rId2"/>
          <a:stretch/>
        </p:blipFill>
        <p:spPr>
          <a:xfrm>
            <a:off x="3059280" y="7162920"/>
            <a:ext cx="442800" cy="442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6"/>
          <p:cNvSpPr txBox="1"/>
          <p:nvPr/>
        </p:nvSpPr>
        <p:spPr>
          <a:xfrm>
            <a:off x="250920" y="836640"/>
            <a:ext cx="223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乐曲欣赏</a:t>
            </a:r>
            <a:endParaRPr b="1" lang="en-US" sz="32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250920" y="1844640"/>
            <a:ext cx="8316360" cy="5013360"/>
            <a:chOff x="250920" y="1844640"/>
            <a:chExt cx="8316360" cy="5013360"/>
          </a:xfrm>
        </p:grpSpPr>
        <p:pic>
          <p:nvPicPr>
            <p:cNvPr id="200" name="Picture 7" descr="前段"/>
            <p:cNvPicPr/>
            <p:nvPr/>
          </p:nvPicPr>
          <p:blipFill>
            <a:blip r:embed="rId3"/>
            <a:stretch/>
          </p:blipFill>
          <p:spPr>
            <a:xfrm>
              <a:off x="250920" y="1844640"/>
              <a:ext cx="2339640" cy="501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8" descr="后段"/>
            <p:cNvPicPr/>
            <p:nvPr/>
          </p:nvPicPr>
          <p:blipFill>
            <a:blip r:embed="rId4"/>
            <a:stretch/>
          </p:blipFill>
          <p:spPr>
            <a:xfrm>
              <a:off x="2590560" y="1844640"/>
              <a:ext cx="5976720" cy="50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AutoShape 10"/>
          <p:cNvSpPr/>
          <p:nvPr/>
        </p:nvSpPr>
        <p:spPr>
          <a:xfrm>
            <a:off x="539640" y="2708280"/>
            <a:ext cx="863640" cy="2016000"/>
          </a:xfrm>
          <a:custGeom>
            <a:avLst/>
            <a:gdLst>
              <a:gd name="textAreaLeft" fmla="*/ 53640 w 863640"/>
              <a:gd name="textAreaRight" fmla="*/ 810000 w 863640"/>
              <a:gd name="textAreaTop" fmla="*/ 53640 h 2016000"/>
              <a:gd name="textAreaBottom" fmla="*/ 1962360 h 2016000"/>
            </a:gdLst>
            <a:ahLst/>
            <a:rect l="textAreaLeft" t="textAreaTop" r="textAreaRight" b="textAreaBottom"/>
            <a:pathLst>
              <a:path w="21600" h="50409">
                <a:moveTo>
                  <a:pt x="0" y="0"/>
                </a:moveTo>
                <a:lnTo>
                  <a:pt x="21600" y="0"/>
                </a:lnTo>
                <a:lnTo>
                  <a:pt x="21600" y="50409"/>
                </a:lnTo>
                <a:lnTo>
                  <a:pt x="0" y="50409"/>
                </a:lnTo>
                <a:close/>
              </a:path>
              <a:path fill="lightenLess" w="21600" h="5040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50409">
                <a:moveTo>
                  <a:pt x="21600" y="0"/>
                </a:moveTo>
                <a:lnTo>
                  <a:pt x="21600" y="50409"/>
                </a:lnTo>
                <a:lnTo>
                  <a:pt x="20250" y="49059"/>
                </a:lnTo>
                <a:lnTo>
                  <a:pt x="20250" y="1350"/>
                </a:lnTo>
                <a:close/>
              </a:path>
              <a:path fill="darkenLess" w="21600" h="50409">
                <a:moveTo>
                  <a:pt x="21600" y="50409"/>
                </a:moveTo>
                <a:lnTo>
                  <a:pt x="0" y="50409"/>
                </a:lnTo>
                <a:lnTo>
                  <a:pt x="1350" y="49059"/>
                </a:lnTo>
                <a:lnTo>
                  <a:pt x="20250" y="49059"/>
                </a:lnTo>
                <a:close/>
              </a:path>
              <a:path fill="lighten" w="21600" h="50409">
                <a:moveTo>
                  <a:pt x="0" y="50409"/>
                </a:moveTo>
                <a:lnTo>
                  <a:pt x="0" y="0"/>
                </a:lnTo>
                <a:lnTo>
                  <a:pt x="1350" y="1350"/>
                </a:lnTo>
                <a:lnTo>
                  <a:pt x="1350" y="4905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619280" y="2637000"/>
            <a:ext cx="936720" cy="2087280"/>
          </a:xfrm>
          <a:custGeom>
            <a:avLst/>
            <a:gdLst>
              <a:gd name="textAreaLeft" fmla="*/ 58320 w 936720"/>
              <a:gd name="textAreaRight" fmla="*/ 878400 w 936720"/>
              <a:gd name="textAreaTop" fmla="*/ 58320 h 2087280"/>
              <a:gd name="textAreaBottom" fmla="*/ 2028960 h 2087280"/>
            </a:gdLst>
            <a:ahLst/>
            <a:rect l="textAreaLeft" t="textAreaTop" r="textAreaRight" b="textAreaBottom"/>
            <a:pathLst>
              <a:path w="21600" h="48121">
                <a:moveTo>
                  <a:pt x="0" y="0"/>
                </a:moveTo>
                <a:lnTo>
                  <a:pt x="21600" y="0"/>
                </a:lnTo>
                <a:lnTo>
                  <a:pt x="21600" y="48121"/>
                </a:lnTo>
                <a:lnTo>
                  <a:pt x="0" y="48121"/>
                </a:lnTo>
                <a:close/>
              </a:path>
              <a:path fill="lightenLess" w="21600" h="4812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48121">
                <a:moveTo>
                  <a:pt x="21600" y="0"/>
                </a:moveTo>
                <a:lnTo>
                  <a:pt x="21600" y="48121"/>
                </a:lnTo>
                <a:lnTo>
                  <a:pt x="20250" y="46771"/>
                </a:lnTo>
                <a:lnTo>
                  <a:pt x="20250" y="1350"/>
                </a:lnTo>
                <a:close/>
              </a:path>
              <a:path fill="darkenLess" w="21600" h="48121">
                <a:moveTo>
                  <a:pt x="21600" y="48121"/>
                </a:moveTo>
                <a:lnTo>
                  <a:pt x="0" y="48121"/>
                </a:lnTo>
                <a:lnTo>
                  <a:pt x="1350" y="46771"/>
                </a:lnTo>
                <a:lnTo>
                  <a:pt x="20250" y="46771"/>
                </a:lnTo>
                <a:close/>
              </a:path>
              <a:path fill="lighten" w="21600" h="48121">
                <a:moveTo>
                  <a:pt x="0" y="48121"/>
                </a:moveTo>
                <a:lnTo>
                  <a:pt x="0" y="0"/>
                </a:lnTo>
                <a:lnTo>
                  <a:pt x="1350" y="1350"/>
                </a:lnTo>
                <a:lnTo>
                  <a:pt x="1350" y="467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2700360" y="2708280"/>
            <a:ext cx="720720" cy="2089080"/>
          </a:xfrm>
          <a:custGeom>
            <a:avLst/>
            <a:gdLst>
              <a:gd name="textAreaLeft" fmla="*/ 45000 w 720720"/>
              <a:gd name="textAreaRight" fmla="*/ 675720 w 720720"/>
              <a:gd name="textAreaTop" fmla="*/ 45000 h 2089080"/>
              <a:gd name="textAreaBottom" fmla="*/ 2044080 h 2089080"/>
            </a:gdLst>
            <a:ahLst/>
            <a:rect l="textAreaLeft" t="textAreaTop" r="textAreaRight" b="textAreaBottom"/>
            <a:pathLst>
              <a:path w="21600" h="62589">
                <a:moveTo>
                  <a:pt x="0" y="0"/>
                </a:moveTo>
                <a:lnTo>
                  <a:pt x="21600" y="0"/>
                </a:lnTo>
                <a:lnTo>
                  <a:pt x="21600" y="62589"/>
                </a:lnTo>
                <a:lnTo>
                  <a:pt x="0" y="62589"/>
                </a:lnTo>
                <a:close/>
              </a:path>
              <a:path fill="lightenLess" w="21600" h="6258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62589">
                <a:moveTo>
                  <a:pt x="21600" y="0"/>
                </a:moveTo>
                <a:lnTo>
                  <a:pt x="21600" y="62589"/>
                </a:lnTo>
                <a:lnTo>
                  <a:pt x="20250" y="61239"/>
                </a:lnTo>
                <a:lnTo>
                  <a:pt x="20250" y="1350"/>
                </a:lnTo>
                <a:close/>
              </a:path>
              <a:path fill="darkenLess" w="21600" h="62589">
                <a:moveTo>
                  <a:pt x="21600" y="62589"/>
                </a:moveTo>
                <a:lnTo>
                  <a:pt x="0" y="62589"/>
                </a:lnTo>
                <a:lnTo>
                  <a:pt x="1350" y="61239"/>
                </a:lnTo>
                <a:lnTo>
                  <a:pt x="20250" y="61239"/>
                </a:lnTo>
                <a:close/>
              </a:path>
              <a:path fill="lighten" w="21600" h="62589">
                <a:moveTo>
                  <a:pt x="0" y="62589"/>
                </a:moveTo>
                <a:lnTo>
                  <a:pt x="0" y="0"/>
                </a:lnTo>
                <a:lnTo>
                  <a:pt x="1350" y="1350"/>
                </a:lnTo>
                <a:lnTo>
                  <a:pt x="1350" y="612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3635280" y="2637000"/>
            <a:ext cx="720720" cy="2160360"/>
          </a:xfrm>
          <a:custGeom>
            <a:avLst/>
            <a:gdLst>
              <a:gd name="textAreaLeft" fmla="*/ 45000 w 720720"/>
              <a:gd name="textAreaRight" fmla="*/ 675720 w 720720"/>
              <a:gd name="textAreaTop" fmla="*/ 45000 h 2160360"/>
              <a:gd name="textAreaBottom" fmla="*/ 2115360 h 2160360"/>
            </a:gdLst>
            <a:ahLst/>
            <a:rect l="textAreaLeft" t="textAreaTop" r="textAreaRight" b="textAreaBottom"/>
            <a:pathLst>
              <a:path w="21600" h="64725">
                <a:moveTo>
                  <a:pt x="0" y="0"/>
                </a:moveTo>
                <a:lnTo>
                  <a:pt x="21600" y="0"/>
                </a:lnTo>
                <a:lnTo>
                  <a:pt x="21600" y="64725"/>
                </a:lnTo>
                <a:lnTo>
                  <a:pt x="0" y="64725"/>
                </a:lnTo>
                <a:close/>
              </a:path>
              <a:path fill="lightenLess" w="21600" h="6472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64725">
                <a:moveTo>
                  <a:pt x="21600" y="0"/>
                </a:moveTo>
                <a:lnTo>
                  <a:pt x="21600" y="64725"/>
                </a:lnTo>
                <a:lnTo>
                  <a:pt x="20250" y="63375"/>
                </a:lnTo>
                <a:lnTo>
                  <a:pt x="20250" y="1350"/>
                </a:lnTo>
                <a:close/>
              </a:path>
              <a:path fill="darkenLess" w="21600" h="64725">
                <a:moveTo>
                  <a:pt x="21600" y="64725"/>
                </a:moveTo>
                <a:lnTo>
                  <a:pt x="0" y="64725"/>
                </a:lnTo>
                <a:lnTo>
                  <a:pt x="1350" y="63375"/>
                </a:lnTo>
                <a:lnTo>
                  <a:pt x="20250" y="63375"/>
                </a:lnTo>
                <a:close/>
              </a:path>
              <a:path fill="lighten" w="21600" h="64725">
                <a:moveTo>
                  <a:pt x="0" y="64725"/>
                </a:moveTo>
                <a:lnTo>
                  <a:pt x="0" y="0"/>
                </a:lnTo>
                <a:lnTo>
                  <a:pt x="1350" y="1350"/>
                </a:lnTo>
                <a:lnTo>
                  <a:pt x="1350" y="63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4572000" y="2637000"/>
            <a:ext cx="792000" cy="216036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2160360"/>
              <a:gd name="textAreaBottom" fmla="*/ 2111040 h 2160360"/>
            </a:gdLst>
            <a:ahLst/>
            <a:rect l="textAreaLeft" t="textAreaTop" r="textAreaRight" b="textAreaBottom"/>
            <a:pathLst>
              <a:path w="21600" h="58902">
                <a:moveTo>
                  <a:pt x="0" y="0"/>
                </a:moveTo>
                <a:lnTo>
                  <a:pt x="21600" y="0"/>
                </a:lnTo>
                <a:lnTo>
                  <a:pt x="21600" y="58902"/>
                </a:lnTo>
                <a:lnTo>
                  <a:pt x="0" y="58902"/>
                </a:lnTo>
                <a:close/>
              </a:path>
              <a:path fill="lightenLess" w="21600" h="5890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58902">
                <a:moveTo>
                  <a:pt x="21600" y="0"/>
                </a:moveTo>
                <a:lnTo>
                  <a:pt x="21600" y="58902"/>
                </a:lnTo>
                <a:lnTo>
                  <a:pt x="20250" y="57552"/>
                </a:lnTo>
                <a:lnTo>
                  <a:pt x="20250" y="1350"/>
                </a:lnTo>
                <a:close/>
              </a:path>
              <a:path fill="darkenLess" w="21600" h="58902">
                <a:moveTo>
                  <a:pt x="21600" y="58902"/>
                </a:moveTo>
                <a:lnTo>
                  <a:pt x="0" y="58902"/>
                </a:lnTo>
                <a:lnTo>
                  <a:pt x="1350" y="57552"/>
                </a:lnTo>
                <a:lnTo>
                  <a:pt x="20250" y="57552"/>
                </a:lnTo>
                <a:close/>
              </a:path>
              <a:path fill="lighten" w="21600" h="58902">
                <a:moveTo>
                  <a:pt x="0" y="58902"/>
                </a:moveTo>
                <a:lnTo>
                  <a:pt x="0" y="0"/>
                </a:lnTo>
                <a:lnTo>
                  <a:pt x="1350" y="1350"/>
                </a:lnTo>
                <a:lnTo>
                  <a:pt x="1350" y="575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6443640" y="2708280"/>
            <a:ext cx="720720" cy="2016000"/>
          </a:xfrm>
          <a:custGeom>
            <a:avLst/>
            <a:gdLst>
              <a:gd name="textAreaLeft" fmla="*/ 45000 w 720720"/>
              <a:gd name="textAreaRight" fmla="*/ 675720 w 720720"/>
              <a:gd name="textAreaTop" fmla="*/ 45000 h 2016000"/>
              <a:gd name="textAreaBottom" fmla="*/ 1971000 h 2016000"/>
            </a:gdLst>
            <a:ahLst/>
            <a:rect l="textAreaLeft" t="textAreaTop" r="textAreaRight" b="textAreaBottom"/>
            <a:pathLst>
              <a:path w="21600" h="60400">
                <a:moveTo>
                  <a:pt x="0" y="0"/>
                </a:moveTo>
                <a:lnTo>
                  <a:pt x="21600" y="0"/>
                </a:lnTo>
                <a:lnTo>
                  <a:pt x="21600" y="60400"/>
                </a:lnTo>
                <a:lnTo>
                  <a:pt x="0" y="60400"/>
                </a:lnTo>
                <a:close/>
              </a:path>
              <a:path fill="lightenLess" w="21600" h="604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60400">
                <a:moveTo>
                  <a:pt x="21600" y="0"/>
                </a:moveTo>
                <a:lnTo>
                  <a:pt x="21600" y="60400"/>
                </a:lnTo>
                <a:lnTo>
                  <a:pt x="20250" y="59050"/>
                </a:lnTo>
                <a:lnTo>
                  <a:pt x="20250" y="1350"/>
                </a:lnTo>
                <a:close/>
              </a:path>
              <a:path fill="darkenLess" w="21600" h="60400">
                <a:moveTo>
                  <a:pt x="21600" y="60400"/>
                </a:moveTo>
                <a:lnTo>
                  <a:pt x="0" y="60400"/>
                </a:lnTo>
                <a:lnTo>
                  <a:pt x="1350" y="59050"/>
                </a:lnTo>
                <a:lnTo>
                  <a:pt x="20250" y="59050"/>
                </a:lnTo>
                <a:close/>
              </a:path>
              <a:path fill="lighten" w="21600" h="60400">
                <a:moveTo>
                  <a:pt x="0" y="60400"/>
                </a:moveTo>
                <a:lnTo>
                  <a:pt x="0" y="0"/>
                </a:lnTo>
                <a:lnTo>
                  <a:pt x="1350" y="1350"/>
                </a:lnTo>
                <a:lnTo>
                  <a:pt x="1350" y="590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7380360" y="2637000"/>
            <a:ext cx="720720" cy="2087280"/>
          </a:xfrm>
          <a:custGeom>
            <a:avLst/>
            <a:gdLst>
              <a:gd name="textAreaLeft" fmla="*/ 45000 w 720720"/>
              <a:gd name="textAreaRight" fmla="*/ 675720 w 720720"/>
              <a:gd name="textAreaTop" fmla="*/ 45000 h 2087280"/>
              <a:gd name="textAreaBottom" fmla="*/ 2042280 h 2087280"/>
            </a:gdLst>
            <a:ahLst/>
            <a:rect l="textAreaLeft" t="textAreaTop" r="textAreaRight" b="textAreaBottom"/>
            <a:pathLst>
              <a:path w="21600" h="62535">
                <a:moveTo>
                  <a:pt x="0" y="0"/>
                </a:moveTo>
                <a:lnTo>
                  <a:pt x="21600" y="0"/>
                </a:lnTo>
                <a:lnTo>
                  <a:pt x="21600" y="62535"/>
                </a:lnTo>
                <a:lnTo>
                  <a:pt x="0" y="62535"/>
                </a:lnTo>
                <a:close/>
              </a:path>
              <a:path fill="lightenLess" w="21600" h="625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62535">
                <a:moveTo>
                  <a:pt x="21600" y="0"/>
                </a:moveTo>
                <a:lnTo>
                  <a:pt x="21600" y="62535"/>
                </a:lnTo>
                <a:lnTo>
                  <a:pt x="20250" y="61185"/>
                </a:lnTo>
                <a:lnTo>
                  <a:pt x="20250" y="1350"/>
                </a:lnTo>
                <a:close/>
              </a:path>
              <a:path fill="darkenLess" w="21600" h="62535">
                <a:moveTo>
                  <a:pt x="21600" y="62535"/>
                </a:moveTo>
                <a:lnTo>
                  <a:pt x="0" y="62535"/>
                </a:lnTo>
                <a:lnTo>
                  <a:pt x="1350" y="61185"/>
                </a:lnTo>
                <a:lnTo>
                  <a:pt x="20250" y="61185"/>
                </a:lnTo>
                <a:close/>
              </a:path>
              <a:path fill="lighten" w="21600" h="62535">
                <a:moveTo>
                  <a:pt x="0" y="62535"/>
                </a:moveTo>
                <a:lnTo>
                  <a:pt x="0" y="0"/>
                </a:lnTo>
                <a:lnTo>
                  <a:pt x="1350" y="1350"/>
                </a:lnTo>
                <a:lnTo>
                  <a:pt x="1350" y="611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5508720" y="2637000"/>
            <a:ext cx="792000" cy="216036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2160360"/>
              <a:gd name="textAreaBottom" fmla="*/ 2111040 h 2160360"/>
            </a:gdLst>
            <a:ahLst/>
            <a:rect l="textAreaLeft" t="textAreaTop" r="textAreaRight" b="textAreaBottom"/>
            <a:pathLst>
              <a:path w="21600" h="58902">
                <a:moveTo>
                  <a:pt x="0" y="0"/>
                </a:moveTo>
                <a:lnTo>
                  <a:pt x="21600" y="0"/>
                </a:lnTo>
                <a:lnTo>
                  <a:pt x="21600" y="58902"/>
                </a:lnTo>
                <a:lnTo>
                  <a:pt x="0" y="58902"/>
                </a:lnTo>
                <a:close/>
              </a:path>
              <a:path fill="lightenLess" w="21600" h="5890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58902">
                <a:moveTo>
                  <a:pt x="21600" y="0"/>
                </a:moveTo>
                <a:lnTo>
                  <a:pt x="21600" y="58902"/>
                </a:lnTo>
                <a:lnTo>
                  <a:pt x="20250" y="57552"/>
                </a:lnTo>
                <a:lnTo>
                  <a:pt x="20250" y="1350"/>
                </a:lnTo>
                <a:close/>
              </a:path>
              <a:path fill="darkenLess" w="21600" h="58902">
                <a:moveTo>
                  <a:pt x="21600" y="58902"/>
                </a:moveTo>
                <a:lnTo>
                  <a:pt x="0" y="58902"/>
                </a:lnTo>
                <a:lnTo>
                  <a:pt x="1350" y="57552"/>
                </a:lnTo>
                <a:lnTo>
                  <a:pt x="20250" y="57552"/>
                </a:lnTo>
                <a:close/>
              </a:path>
              <a:path fill="lighten" w="21600" h="58902">
                <a:moveTo>
                  <a:pt x="0" y="58902"/>
                </a:moveTo>
                <a:lnTo>
                  <a:pt x="0" y="0"/>
                </a:lnTo>
                <a:lnTo>
                  <a:pt x="1350" y="1350"/>
                </a:lnTo>
                <a:lnTo>
                  <a:pt x="1350" y="575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20059320581254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090080" y="33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江楼钟鼓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43040" y="33577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听音乐，思考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、乐曲由哪些乐器演奏？分别描绘了什么        情景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、请找出乐曲的主题部分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117880" y="-1371600"/>
            <a:ext cx="603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685800" y="211788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音乐描写了夕阳映江面、熏风拂涟漪的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优美景色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755640" y="140976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引子及主题呈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江楼钟鼓.mp3" descr=""/>
          <p:cNvPicPr/>
          <p:nvPr/>
        </p:nvPicPr>
        <p:blipFill>
          <a:blip r:embed="rId2"/>
          <a:stretch/>
        </p:blipFill>
        <p:spPr>
          <a:xfrm>
            <a:off x="5275440" y="6453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pa.mp3" descr=""/>
          <p:cNvPicPr/>
          <p:nvPr/>
        </p:nvPicPr>
        <p:blipFill>
          <a:blip r:embed="rId3"/>
          <a:stretch/>
        </p:blipFill>
        <p:spPr>
          <a:xfrm>
            <a:off x="5796000" y="6418440"/>
            <a:ext cx="647640" cy="439560"/>
          </a:xfrm>
          <a:prstGeom prst="rect">
            <a:avLst/>
          </a:prstGeom>
          <a:ln w="0">
            <a:noFill/>
          </a:ln>
        </p:spPr>
      </p:pic>
      <p:pic>
        <p:nvPicPr>
          <p:cNvPr id="218" name="xiao.mp3" descr=""/>
          <p:cNvPicPr/>
          <p:nvPr/>
        </p:nvPicPr>
        <p:blipFill>
          <a:blip r:embed="rId4"/>
          <a:stretch/>
        </p:blipFill>
        <p:spPr>
          <a:xfrm>
            <a:off x="6588000" y="6353280"/>
            <a:ext cx="72072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5977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297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1:28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47:52Z</dcterms:modified>
  <cp:revision>2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