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gif" ContentType="image/gi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7C2-B0D9-44FB-B70A-D1424B8F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E26-1736-4FCE-A79B-C94E4E0D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4E6-7458-4838-92B9-46FD8D09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FD6A-AF8E-440B-B795-0814A48B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E113-F56E-4D10-8B1D-7E7C2299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268E-AB7E-45A7-A214-5C851774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B4A0-B683-4E58-A540-71895E95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DAA1-7D56-40E7-A517-06916DBE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0D7C-8B42-4BA5-8D97-EE1327CA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E825-BA2D-496D-A35C-15D77870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7A8E-4418-4291-8A1B-7EDCA2BE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F51-ADB2-42D1-9B76-A110F824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0EDA-1C3E-4D6A-92CB-DA89148C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31F1-6076-4888-BD27-6269969E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BFB3-49F5-4EA6-B119-6B937B05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2DCA-6854-4301-8410-B7E1B4C4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2AED-2AEF-4448-9ACC-BD8996BF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CE3-2BEA-4668-8ED8-A5D8F1EC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C868-1D83-405B-B335-FC7E547A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042A-A92D-421E-9E57-71E04CEE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91A-E53E-4F2E-A758-C67A54DA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5D4-8253-4E22-A873-8B5BAD9C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1B1D-EF3D-4555-B30F-7E0CAE20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F17B-3D6D-4DFF-A5F4-6161CC6E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58A3-8F13-4B1B-A7B9-37928890373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 u="sng">
                <a:solidFill>
                  <a:srgbClr val="000000"/>
                </a:solidFill>
                <a:uFillTx/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73F2-11B4-4652-B9BB-62F9A9A71AE0}" type="datetime">
              <a:rPr b="1" lang="zh-CN" sz="1400" spc="-1" strike="noStrike" u="sng">
                <a:solidFill>
                  <a:srgbClr val="000000"/>
                </a:solidFill>
                <a:uFillTx/>
                <a:latin typeface="楷体_GB2312"/>
              </a:rPr>
              <a:t>26/7/31</a:t>
            </a:fld>
            <a:endParaRPr b="1" lang="en-US" sz="14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 u="sng">
                <a:solidFill>
                  <a:srgbClr val="000000"/>
                </a:solidFill>
                <a:uFillTx/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7657-C9F1-43DD-8E9E-BFC45BDC3C52}" type="slidenum">
              <a:rPr b="1" lang="zh-CN" sz="1400" spc="-1" strike="noStrike" u="sng">
                <a:solidFill>
                  <a:srgbClr val="000000"/>
                </a:solidFill>
                <a:uFillTx/>
                <a:latin typeface="楷体_GB2312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0000">
              <a:alpha val="98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pic>
        <p:nvPicPr>
          <p:cNvPr id="83" name="Picture 3" descr="11"/>
          <p:cNvPicPr/>
          <p:nvPr/>
        </p:nvPicPr>
        <p:blipFill>
          <a:blip r:embed="rId1"/>
          <a:stretch/>
        </p:blipFill>
        <p:spPr>
          <a:xfrm>
            <a:off x="-179280" y="0"/>
            <a:ext cx="9447120" cy="7086600"/>
          </a:xfrm>
          <a:prstGeom prst="rect">
            <a:avLst/>
          </a:prstGeom>
          <a:ln w="0">
            <a:noFill/>
          </a:ln>
        </p:spPr>
      </p:pic>
      <p:pic>
        <p:nvPicPr>
          <p:cNvPr id="84" name="WordArt 4" descr=""/>
          <p:cNvPicPr/>
          <p:nvPr/>
        </p:nvPicPr>
        <p:blipFill>
          <a:blip r:embed="rId2"/>
          <a:stretch/>
        </p:blipFill>
        <p:spPr>
          <a:xfrm>
            <a:off x="1981080" y="1523880"/>
            <a:ext cx="5589720" cy="14018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1332000" y="4724280"/>
            <a:ext cx="619272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</a:rPr>
              <a:t>河口区河安小学   路伟</a:t>
            </a:r>
            <a:endParaRPr b="1" lang="en-US" sz="44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pic>
        <p:nvPicPr>
          <p:cNvPr id="86" name="开头音乐.mp3" descr=""/>
          <p:cNvPicPr/>
          <p:nvPr/>
        </p:nvPicPr>
        <p:blipFill>
          <a:blip r:embed="rId3"/>
          <a:stretch/>
        </p:blipFill>
        <p:spPr>
          <a:xfrm>
            <a:off x="81532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6418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1807200" y="52560"/>
            <a:ext cx="5545080" cy="67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随着这个奇迹，我们仿佛看到了安静第一次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来到这个花园的情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那是一次又一次的磕磕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绊绊，甚至一次又一次地摔倒，她只是想拢住一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朵花，却一次又一次地失误、一次又一次地扑空。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可是，她是多爱这里啊！就这样，一天又一天，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年又一年，终于有一天，终于有一天，那是她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生中的第八个春天，奇迹发生了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</a:rPr>
              <a:t>（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</a:rPr>
              <a:t>）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</a:rPr>
              <a:t>安静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_GB2312"/>
              </a:rPr>
              <a:t>在花丛中穿梭，她走得很流畅，没有一点儿磕磕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_GB2312"/>
              </a:rPr>
              <a:t>绊绊。最后安静在一株月季花前停下来。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</a:rPr>
              <a:t>她慢慢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</a:rPr>
              <a:t>地伸出双手，在花香的指引下，极其准确地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</a:rPr>
              <a:t>伸向一朵沾着露珠的月季花。安静的手指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</a:rPr>
              <a:t>悄然合拢，竟然拢住了那只蝴蝶，真是一个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</a:rPr>
              <a:t>奇迹！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pic>
        <p:nvPicPr>
          <p:cNvPr id="111" name="初雪.mp3" descr=""/>
          <p:cNvPicPr/>
          <p:nvPr/>
        </p:nvPicPr>
        <p:blipFill>
          <a:blip r:embed="rId2"/>
          <a:stretch/>
        </p:blipFill>
        <p:spPr>
          <a:xfrm>
            <a:off x="8172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60769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1807200" y="52560"/>
            <a:ext cx="5545080" cy="67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随着这个奇迹，我们仿佛看到了安静第一次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来到这个花园的情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那是一次又一次的磕磕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绊绊，甚至一次又一次地摔倒，她只是想拢住一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朵花，却一次又一次地失误、一次又一次地扑空。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可是，她是多爱这里啊！就这样，一天又一天，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年又一年，终于有一天，终于有一天，那是她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生中的第八个春天，奇迹发生了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</a:rPr>
              <a:t>（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</a:rPr>
              <a:t>）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</a:rPr>
              <a:t>安静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_GB2312"/>
              </a:rPr>
              <a:t>在花丛中穿梭，她走得很流畅，没有一点儿磕磕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_GB2312"/>
              </a:rPr>
              <a:t>绊绊。最后安静在一株月季花前停下来。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</a:rPr>
              <a:t>她慢慢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</a:rPr>
              <a:t>地伸出双手，在花香的指引下，极其准确地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</a:rPr>
              <a:t>伸向一朵沾着露珠的月季花。安静的手指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</a:rPr>
              <a:t>悄然合拢，竟然拢住了那只蝴蝶，真是一个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</a:rPr>
              <a:t>奇迹！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07_1024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179280" y="333360"/>
            <a:ext cx="6264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0" y="2637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蝴蝶在她的手指间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</a:rPr>
              <a:t>扑腾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，安静的脸上充满了惊讶。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_27881588d5327d34f1f74c87cf8e47d78ba305886bf8209"/>
          <p:cNvPicPr/>
          <p:nvPr/>
        </p:nvPicPr>
        <p:blipFill>
          <a:blip r:embed="rId2"/>
          <a:stretch/>
        </p:blipFill>
        <p:spPr>
          <a:xfrm>
            <a:off x="7380360" y="1125360"/>
            <a:ext cx="1368360" cy="1211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250920" y="189000"/>
            <a:ext cx="70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404640"/>
            <a:ext cx="66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许久，她张开手指，蝴蝶扑闪着翅膀飞走了，安静仰起头来张望。此刻安静的心上，一定划过一条美丽的弧线，蝴蝶在她八岁的人生划过一道极其优美的曲线，述说着飞翔的概念。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_27881588d5327d34f1f74c87cf8e47d78ba305886bf8209"/>
          <p:cNvPicPr/>
          <p:nvPr/>
        </p:nvPicPr>
        <p:blipFill>
          <a:blip r:embed="rId2"/>
          <a:stretch/>
        </p:blipFill>
        <p:spPr>
          <a:xfrm>
            <a:off x="7380360" y="1125360"/>
            <a:ext cx="1368360" cy="12114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250920" y="189000"/>
            <a:ext cx="70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79280" y="404640"/>
            <a:ext cx="6697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许久，她张开手指，蝴蝶扑闪着翅膀飞走了，安静仰起头来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张望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。此刻安静的心上，一定划过一条美丽的弧线，蝴蝶在她八岁的人生划过一道极其优美的曲线，述说着飞翔的概念。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42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684360" y="69228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宋体"/>
              </a:rPr>
              <a:t>谁都有生活的权利，谁都可以创造一个属于自己的缤纷世界。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0060814162422262"/>
          <p:cNvPicPr/>
          <p:nvPr/>
        </p:nvPicPr>
        <p:blipFill>
          <a:blip r:embed="rId1"/>
          <a:stretch/>
        </p:blipFill>
        <p:spPr>
          <a:xfrm>
            <a:off x="0" y="0"/>
            <a:ext cx="497196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5768640" y="692280"/>
            <a:ext cx="213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海伦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凯勒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796800" y="1916280"/>
            <a:ext cx="67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《假如给我三天光明》</a:t>
            </a: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5003640" y="299736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世上除了用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眼睛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看世界，还有一种内在的视觉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那可能是更真实的，那就是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用心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去看这个世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07_1024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179280" y="333360"/>
            <a:ext cx="6264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116000" y="2133720"/>
            <a:ext cx="547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8800" spc="-1" strike="noStrike">
                <a:solidFill>
                  <a:srgbClr val="0066ff"/>
                </a:solidFill>
                <a:latin typeface="楷体_GB2312"/>
              </a:rPr>
              <a:t>谢 谢</a:t>
            </a:r>
            <a:endParaRPr b="1" lang="en-US" sz="8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楷体_GB2312"/>
              </a:rPr>
              <a:t>www.eeppt.com</a:t>
            </a:r>
            <a:endParaRPr b="1" lang="en-US" sz="14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 u="sng">
                <a:solidFill>
                  <a:srgbClr val="000000"/>
                </a:solidFill>
                <a:uFillTx/>
                <a:latin typeface="楷体_GB2312"/>
              </a:endParaRPr>
            </a:p>
          </p:txBody>
        </p:sp>
        <p:pic>
          <p:nvPicPr>
            <p:cNvPr id="13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 u="sng">
                <a:solidFill>
                  <a:srgbClr val="000000"/>
                </a:solidFill>
                <a:uFillTx/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42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84360" y="69228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宋体"/>
              </a:rPr>
              <a:t>谁都有生活的权利，谁都可以创造一个属于自己的缤纷世界。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7_1024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0" y="189000"/>
            <a:ext cx="6697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547640" y="4365720"/>
            <a:ext cx="576360" cy="1152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81720 h 1152360"/>
              <a:gd name="textAreaBottom" fmla="*/ 107064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5"/>
                  <a:pt x="10800" y="4909"/>
                </a:cubicBezTo>
                <a:lnTo>
                  <a:pt x="10800" y="5891"/>
                </a:lnTo>
                <a:cubicBezTo>
                  <a:pt x="10800" y="8346"/>
                  <a:pt x="5400" y="10800"/>
                  <a:pt x="0" y="10800"/>
                </a:cubicBezTo>
                <a:cubicBezTo>
                  <a:pt x="5400" y="10800"/>
                  <a:pt x="10800" y="13255"/>
                  <a:pt x="10800" y="15709"/>
                </a:cubicBezTo>
                <a:lnTo>
                  <a:pt x="10800" y="16691"/>
                </a:lnTo>
                <a:cubicBezTo>
                  <a:pt x="10800" y="1914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684360" y="4869000"/>
            <a:ext cx="142560" cy="1008000"/>
          </a:xfrm>
          <a:custGeom>
            <a:avLst/>
            <a:gdLst>
              <a:gd name="textAreaLeft" fmla="*/ 91080 w 142560"/>
              <a:gd name="textAreaRight" fmla="*/ 142920 w 1425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79280" y="620640"/>
            <a:ext cx="5977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小径 流连 弧线 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浓郁 瞬间 流畅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花繁叶茂 清香袅袅 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磕磕绊绊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</a:rPr>
              <a:t>悄然合拢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38843daba1b5a55a4a36d640"/>
          <p:cNvPicPr/>
          <p:nvPr/>
        </p:nvPicPr>
        <p:blipFill>
          <a:blip r:embed="rId1"/>
          <a:stretch/>
        </p:blipFill>
        <p:spPr>
          <a:xfrm>
            <a:off x="-608040" y="0"/>
            <a:ext cx="97520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4643280" y="4508640"/>
            <a:ext cx="252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</a:rPr>
              <a:t>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</a:rPr>
              <a:t>              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124000" y="4581360"/>
            <a:ext cx="44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</a:rPr>
              <a:t>月季花开了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楷体_GB2312"/>
              </a:rPr>
              <a:t> 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11280" y="3573360"/>
            <a:ext cx="49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</a:rPr>
              <a:t>桃花开了，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124000" y="263700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</a:rPr>
              <a:t>小区的绿地上花繁叶茂。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楷体_GB2312"/>
              </a:rPr>
              <a:t> 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124000" y="1773360"/>
            <a:ext cx="35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</a:rPr>
              <a:t>春天来了，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楷体_GB2312"/>
              </a:rPr>
              <a:t> 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  <p:pic>
        <p:nvPicPr>
          <p:cNvPr id="100" name="伤感背景音乐.mp3" descr=""/>
          <p:cNvPicPr/>
          <p:nvPr/>
        </p:nvPicPr>
        <p:blipFill>
          <a:blip r:embed="rId2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07_1024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179280" y="177336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浓郁的花香吸引着安静。这个小女孩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整天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在花香中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流连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    </a:t>
            </a:r>
            <a:endParaRPr b="1" lang="en-US" sz="36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42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684360" y="69228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宋体"/>
              </a:rPr>
              <a:t>谁都有生活的权利，谁都可以创造一个属于自己的缤纷世界。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07_1024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179280" y="333360"/>
            <a:ext cx="626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安静的手指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</a:rPr>
              <a:t>悄然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合拢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</a:rPr>
              <a:t>竟然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拢住了那只蝴蝶。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</a:rPr>
              <a:t>真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是一个奇迹！</a:t>
            </a:r>
            <a:endParaRPr b="1" lang="en-US" sz="44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安静的手指合拢，拢住了那只蝴蝶。是一个奇迹。</a:t>
            </a:r>
            <a:endParaRPr b="1" lang="en-US" sz="44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安静走到了一片草地上，她的手指悄然合拢，她似乎摸到这些小草比昨天又长高了一截；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楷体_GB2312"/>
              </a:rPr>
              <a:t>她来到了一棵开满了花的桃树下，她的手指悄然合拢，她似乎（                  ）；                   她来到一棵长满绿叶的小树下，她的手指悄然合拢，她似乎（                  ）。</a:t>
            </a: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000000"/>
              </a:solidFill>
              <a:uFillTx/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12:54:11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3:52:02Z</dcterms:modified>
  <cp:revision>7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