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3DA-837D-458B-9686-7EC20881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C15-0CF8-4153-B13B-43D3BCC0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49A20-3F19-4409-BC82-8F7556DA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BCE16-558B-47C4-A6BC-1C046F9F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90D3B-CEDA-4474-80CA-9DEC2A79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B281F-C9BF-4867-8B7D-53C85B6E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36F0E-2BBC-4748-88D0-71717D9F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44770-58A1-46C3-A66B-A02150F9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FAA77-0163-4473-826B-A4B80332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609AB-1031-43C3-AF63-8613F8A9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9CED2-8841-4A68-BD81-F1DAF784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11638-903F-495E-A936-C2F928B2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C92-297F-433E-9552-5D79A0ED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C83A3-864E-4E63-9712-35DFDEA8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B8D01-B61C-4F7B-A019-459E2895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05758-4A91-4FC6-93B1-17F8767D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C1C55-2237-4E69-8E1B-011872E7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2B8D4-9310-40BB-9DAA-99B19508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5C168-FBAF-42D3-8975-91545566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7D589-2AFC-45A4-B9FA-C7E1CF20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198B9-C425-456D-AB1C-6C1E7DE5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DF8B0-4837-4098-816D-5FC645B1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77A04-FA22-4407-BEA5-DDDFB825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AE1-F187-4EAA-875C-818EE032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C8A91-7481-4C61-8091-90CDC541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357C-ED08-4E14-AC88-E1077311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55F7-06B0-44C7-82EC-C05A6216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BA2A-1545-4EE5-AFA8-571CC11B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2723-DF98-4621-BDDB-30491E1E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61BE-79FF-4FC0-A38C-0E255EFC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2F61-31D8-4F4F-8947-C1562732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EAE6-6FF5-4E98-96FA-A8666B7A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4599-5D5E-4E37-91C2-0FFF407B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1CDB-103F-4FD8-8161-7734DABB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9BCD-03E6-4341-A09E-965153C2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BF43-A4F8-40CA-BE4D-7B3C3FEE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DE31-7676-42F1-BCC6-5FB08825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A639-D055-4CE7-AE1A-A918238B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A392F-9696-46C2-8858-1B098E9E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22592-C436-420B-BBF0-A7C9F3EE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5D2BD-FAB9-4022-A9D9-AC9663D2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A5B8-ABBF-40E8-A993-773C19D2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D5350-AB73-41F6-BAE9-C4534320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7A9-DD28-4C02-921E-E98516F4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A209-F638-411A-8A9F-05DC829C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3A97-9AAC-4D4C-A119-F8FC5820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F6692-ED32-477E-8108-2BB3FEA4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89568-7C0F-499B-BC70-9DE5DDC7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AC52-F8F7-43C5-A7D1-F09A4F17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8C9C4-A145-42A6-AD04-4999BDB5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C0E16-2291-4292-BDA0-3F6A4AD9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43CF4-D5ED-4E08-99A9-91EA122E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69AF1-D41C-44CC-BFB3-650E46C9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8D358-CAEF-433C-B69F-4992BB68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8E4-BDE5-46DB-9199-7169BD39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7BD4F-966D-4A04-9D13-5FEEE39F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89B88-1793-4EFB-B2D2-A1CA2D94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35C71-B9E2-4196-8B05-7266E24C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3A1D5-3010-4897-8C13-311E6F87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8C38F-7672-41B4-8540-0F2499BA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371C5-44F0-4C2C-82E6-284EEAB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E6589-FDA1-4304-AEC0-1A4B3A40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96D26-3EA0-4FC1-8322-0C4FAE34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AC1B6-F664-42E9-8450-17F9E986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15468-CE82-4B3F-9A36-DFBEFF69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5DA-3159-41F8-B52A-C8B32662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C95E6-B478-44F1-8966-DD9E2F12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9B2E6-24FA-4D8E-B7C8-C99D8EFB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0CF17-BF59-47F8-9832-7B0B07F8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2EF35-D9F1-4511-B7FA-70B1CB98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494D3-3413-4A69-ACF3-6A65516E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0D49C-7F3B-4335-AE88-2502D33D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4D59B-B36A-43AB-B165-DCB41B36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6A36F-E326-4FBE-BE6B-D9F5AB02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E5AD9-DB6A-4EE0-8D84-17667ED8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F7210-7EBD-455C-A0F2-7B8A93CF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ACE-C68C-47D3-85F8-1D70E0B6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64628-E078-4817-B5D6-D07F7375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07145-9D30-4584-B604-8299A1F9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51A7B-5EC8-4865-8B80-CA7B1356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6EA0A-A855-4623-98D0-789D8E52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CBA4A-6E44-46E1-9CA8-5846ABCD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56800-22CB-4439-826B-5FF4C0FE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42C5A-7D0A-442E-A40B-3A353C6A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9D3C9-6E64-492C-80CA-4BD2831A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B7E6C-2CDD-45E8-A740-2A1A7081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4CB03-D79A-49E0-9825-5E80E778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02E-475B-4B7D-8931-BDBA113A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922C6-C85E-46F9-A0D4-E83EC35A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3CFCD-A70E-4780-B518-EB6F2923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8E8DE-E8CA-4919-A823-8ACE97D8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68093-9E76-4330-84B6-B77A34BB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69DDB-3271-4953-BDC8-FE0181B5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CC1F7-151C-451F-AB20-C5FB96F2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5CC7A-54D2-43B9-99D7-08D3FFC1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191B7-C830-4536-A04F-426784D0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65BD4-688B-44C8-9DAB-6C60A4D3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8A02B-D69E-42B2-85BF-210AC7FB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B70-F8BC-492A-8074-40A8BB7C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C6AB3-A2CD-43D9-9586-0A018BF9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000D3-0E87-49A8-9D37-CD1673AE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23163-01BF-43EC-B17C-93744331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4A1E3-C512-4E2E-9174-8C855567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F0D34-A2B2-4BED-B56F-ABB4FB31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E1585-7122-4EE6-85D0-5ED30A66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75BAB-EA49-4B8F-9A16-B3AEAD10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A9A0F-E9FA-473D-A0BE-ADEFF8F5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64610-DD53-474C-88D6-E9F2BB91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A1D99-CF07-4C73-89E4-BADB3C9F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096-2D4A-44CC-B4A3-9F8A8CE6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CC661-D26D-438C-B983-46AC56F5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202EC-13D1-473B-9276-E2C48749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955C2-586B-4249-BF28-D7EEF6F5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3E383-406C-4950-801A-166A5F29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AF6B8-88A8-4E68-BE07-3FF6C858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07C51-76B5-41BA-B0B5-DAF8B621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66A32-DF72-4E20-821B-A11C1A7B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B344D-6805-4196-B81E-3BF8E515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790FE-C9C8-4115-9982-5DC662C2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CCA95-9602-468F-A62C-A9BC1A03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D37E-5319-4540-B1F6-A5E10B8C1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8D95-FA5C-4492-8DC9-ADBECB4919B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300D-7EE5-4767-AF0D-826A3DAC68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-86760" y="-93600"/>
            <a:ext cx="2772360" cy="6950160"/>
            <a:chOff x="-86760" y="-93600"/>
            <a:chExt cx="2772360" cy="6950160"/>
          </a:xfrm>
        </p:grpSpPr>
        <p:sp>
          <p:nvSpPr>
            <p:cNvPr id="4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4"/>
            <p:cNvGrpSpPr/>
            <p:nvPr/>
          </p:nvGrpSpPr>
          <p:grpSpPr>
            <a:xfrm>
              <a:off x="67680" y="3922200"/>
              <a:ext cx="889200" cy="720360"/>
              <a:chOff x="67680" y="3922200"/>
              <a:chExt cx="889200" cy="720360"/>
            </a:xfrm>
          </p:grpSpPr>
          <p:sp>
            <p:nvSpPr>
              <p:cNvPr id="45" name="Freeform 5"/>
              <p:cNvSpPr/>
              <p:nvPr/>
            </p:nvSpPr>
            <p:spPr>
              <a:xfrm flipH="1" rot="14965200">
                <a:off x="117000" y="3943440"/>
                <a:ext cx="22824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6"/>
              <p:cNvSpPr/>
              <p:nvPr/>
            </p:nvSpPr>
            <p:spPr>
              <a:xfrm flipH="1" rot="14965200">
                <a:off x="276840" y="4311000"/>
                <a:ext cx="389160" cy="22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7"/>
              <p:cNvSpPr/>
              <p:nvPr/>
            </p:nvSpPr>
            <p:spPr>
              <a:xfrm flipH="1" rot="14965200">
                <a:off x="630360" y="4155120"/>
                <a:ext cx="40572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9"/>
            <p:cNvGrpSpPr/>
            <p:nvPr/>
          </p:nvGrpSpPr>
          <p:grpSpPr>
            <a:xfrm>
              <a:off x="-1080" y="2601000"/>
              <a:ext cx="2686680" cy="3117600"/>
              <a:chOff x="-1080" y="2601000"/>
              <a:chExt cx="2686680" cy="3117600"/>
            </a:xfrm>
          </p:grpSpPr>
          <p:sp>
            <p:nvSpPr>
              <p:cNvPr id="50" name="Freeform 10"/>
              <p:cNvSpPr/>
              <p:nvPr/>
            </p:nvSpPr>
            <p:spPr>
              <a:xfrm flipH="1" rot="789600">
                <a:off x="386640" y="2698560"/>
                <a:ext cx="975600" cy="100476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2"/>
              <p:cNvSpPr/>
              <p:nvPr/>
            </p:nvSpPr>
            <p:spPr>
              <a:xfrm flipH="1" rot="789600">
                <a:off x="35748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4"/>
              <p:cNvSpPr/>
              <p:nvPr/>
            </p:nvSpPr>
            <p:spPr>
              <a:xfrm flipH="1" rot="789600">
                <a:off x="808200" y="3854520"/>
                <a:ext cx="6480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" name="Group 15"/>
              <p:cNvGrpSpPr/>
              <p:nvPr/>
            </p:nvGrpSpPr>
            <p:grpSpPr>
              <a:xfrm>
                <a:off x="852120" y="4055400"/>
                <a:ext cx="1833480" cy="1663200"/>
                <a:chOff x="852120" y="4055400"/>
                <a:chExt cx="1833480" cy="1663200"/>
              </a:xfrm>
            </p:grpSpPr>
            <p:sp>
              <p:nvSpPr>
                <p:cNvPr id="56" name="Freeform 16"/>
                <p:cNvSpPr/>
                <p:nvPr/>
              </p:nvSpPr>
              <p:spPr>
                <a:xfrm flipH="1" rot="7102800">
                  <a:off x="1261440" y="3945240"/>
                  <a:ext cx="474480" cy="121464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7"/>
                <p:cNvSpPr/>
                <p:nvPr/>
              </p:nvSpPr>
              <p:spPr>
                <a:xfrm flipH="1" rot="7102800">
                  <a:off x="2328120" y="4973760"/>
                  <a:ext cx="108720" cy="4978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18"/>
                <p:cNvSpPr/>
                <p:nvPr/>
              </p:nvSpPr>
              <p:spPr>
                <a:xfrm flipH="1" rot="7102800">
                  <a:off x="2502360" y="5569560"/>
                  <a:ext cx="198360" cy="835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" name="Group 19"/>
            <p:cNvGrpSpPr/>
            <p:nvPr/>
          </p:nvGrpSpPr>
          <p:grpSpPr>
            <a:xfrm>
              <a:off x="468000" y="6174000"/>
              <a:ext cx="790200" cy="634680"/>
              <a:chOff x="468000" y="6174000"/>
              <a:chExt cx="790200" cy="634680"/>
            </a:xfrm>
          </p:grpSpPr>
          <p:sp>
            <p:nvSpPr>
              <p:cNvPr id="60" name="Freeform 20"/>
              <p:cNvSpPr/>
              <p:nvPr/>
            </p:nvSpPr>
            <p:spPr>
              <a:xfrm rot="6248400">
                <a:off x="1012680" y="6174360"/>
                <a:ext cx="19764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1"/>
              <p:cNvSpPr/>
              <p:nvPr/>
            </p:nvSpPr>
            <p:spPr>
              <a:xfrm rot="6248400">
                <a:off x="760680" y="6513840"/>
                <a:ext cx="337320" cy="21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2"/>
              <p:cNvSpPr/>
              <p:nvPr/>
            </p:nvSpPr>
            <p:spPr>
              <a:xfrm rot="6248400">
                <a:off x="386640" y="6410880"/>
                <a:ext cx="35136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4" name="Freeform 24"/>
              <p:cNvSpPr/>
              <p:nvPr/>
            </p:nvSpPr>
            <p:spPr>
              <a:xfrm rot="5002800">
                <a:off x="838800" y="1747080"/>
                <a:ext cx="20736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5"/>
              <p:cNvSpPr/>
              <p:nvPr/>
            </p:nvSpPr>
            <p:spPr>
              <a:xfrm rot="5002800">
                <a:off x="692640" y="2154240"/>
                <a:ext cx="35460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6"/>
              <p:cNvSpPr/>
              <p:nvPr/>
            </p:nvSpPr>
            <p:spPr>
              <a:xfrm rot="5002800">
                <a:off x="216360" y="2205720"/>
                <a:ext cx="36936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27"/>
            <p:cNvGrpSpPr/>
            <p:nvPr/>
          </p:nvGrpSpPr>
          <p:grpSpPr>
            <a:xfrm>
              <a:off x="1293840" y="0"/>
              <a:ext cx="546840" cy="581400"/>
              <a:chOff x="1293840" y="0"/>
              <a:chExt cx="546840" cy="581400"/>
            </a:xfrm>
          </p:grpSpPr>
          <p:sp>
            <p:nvSpPr>
              <p:cNvPr id="68" name="Freeform 28"/>
              <p:cNvSpPr/>
              <p:nvPr/>
            </p:nvSpPr>
            <p:spPr>
              <a:xfrm>
                <a:off x="1293840" y="0"/>
                <a:ext cx="17388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9"/>
              <p:cNvSpPr/>
              <p:nvPr/>
            </p:nvSpPr>
            <p:spPr>
              <a:xfrm>
                <a:off x="1543680" y="103320"/>
                <a:ext cx="297000" cy="1821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0"/>
              <p:cNvSpPr/>
              <p:nvPr/>
            </p:nvSpPr>
            <p:spPr>
              <a:xfrm>
                <a:off x="1483920" y="489240"/>
                <a:ext cx="30924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5C5B-E8E6-423E-A792-93284A399D2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26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27" name="Rectangle 1027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028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29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030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31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032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33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034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35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36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37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38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39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40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41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42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43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44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45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6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47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48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49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050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051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052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53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54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055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056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057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058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059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60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61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062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63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64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65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066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67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68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69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70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071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72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73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074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075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076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077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078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79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80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81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82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83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84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85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86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087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88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89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090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91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92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093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94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095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96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97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98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099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00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01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02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03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04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05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106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07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08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09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110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111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112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113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114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15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16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17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18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19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20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21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122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123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124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125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26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27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128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29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130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131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132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133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134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135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136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137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38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139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40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41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142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143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144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145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146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147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48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49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150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151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152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53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154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55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156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157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158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59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60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161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62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63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164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165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66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167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168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169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70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171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172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73" name="Freeform 1173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174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175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76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177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178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79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180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181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182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183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184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185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186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87" name="Freeform 1187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88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189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190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191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192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193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194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195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96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197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98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199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1200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01" name="Freeform 1201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202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203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204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205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206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207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208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209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210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211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212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13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214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15" name="Freeform 1215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216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217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218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19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220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21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222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23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24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225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26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27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228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29" name="Freeform 1229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230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231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32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233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234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235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236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237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238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239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240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241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242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43" name="Freeform 1243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244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45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46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47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48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49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50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51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52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53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54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255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1256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57" name="Freeform 1257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1258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59" name="Freeform 1259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260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261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262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263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264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265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266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267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268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269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270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271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636D-0C54-4A99-BFFB-469C3CE39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6CF0-92B4-49E0-A153-76C3F329CA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26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027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3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4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4EA9-FB0B-48A5-BE51-959543F795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033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1034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6BCA-BC00-4FB0-AE72-6B2227D12C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9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20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7B9B-2D1E-457A-A0B6-6EB15CDEB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22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2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24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3092-8D97-4BDF-A08E-8A05E26EA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031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032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033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034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9506-CAD6-4992-ABB9-A75C5550A0C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7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WordArt 4"/>
          <p:cNvSpPr txBox="1"/>
          <p:nvPr/>
        </p:nvSpPr>
        <p:spPr>
          <a:xfrm>
            <a:off x="1258920" y="1125360"/>
            <a:ext cx="5689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出师表</a:t>
            </a:r>
            <a:endParaRPr b="1" lang="en-US" sz="66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746" name="Text Box 5"/>
          <p:cNvSpPr/>
          <p:nvPr/>
        </p:nvSpPr>
        <p:spPr>
          <a:xfrm>
            <a:off x="4356000" y="443700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Arial"/>
              </a:rPr>
              <a:t>诸 葛 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4"/>
          <p:cNvSpPr/>
          <p:nvPr/>
        </p:nvSpPr>
        <p:spPr>
          <a:xfrm>
            <a:off x="0" y="260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听录音朗读课文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注意以下字的读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5"/>
          <p:cNvSpPr/>
          <p:nvPr/>
        </p:nvSpPr>
        <p:spPr>
          <a:xfrm>
            <a:off x="228600" y="914400"/>
            <a:ext cx="84391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殂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     陛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       以塞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忠谏                 陟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h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      臧否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 p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攸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ō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   以遗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è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陛下        咨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稗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阙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漏       颓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桓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á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  猥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ě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危难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à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      二十有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ò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一年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夙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驽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    攘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ǎ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彰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hā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  咎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       诹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ō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涕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250920" y="1341360"/>
            <a:ext cx="8893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每人小声朗读课文，注意    读准字音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思考：此文写了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出师表.wav" descr=""/>
          <p:cNvPicPr/>
          <p:nvPr/>
        </p:nvPicPr>
        <p:blipFill>
          <a:blip r:embed="rId1"/>
          <a:stretch/>
        </p:blipFill>
        <p:spPr>
          <a:xfrm>
            <a:off x="111600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99719" fill="hold"/>
                                        <p:tgtEl>
                                          <p:spTgt spid="7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4"/>
          <p:cNvSpPr/>
          <p:nvPr/>
        </p:nvSpPr>
        <p:spPr>
          <a:xfrm>
            <a:off x="250920" y="260280"/>
            <a:ext cx="7127640" cy="24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品读第一小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齐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试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5"/>
          <p:cNvSpPr/>
          <p:nvPr/>
        </p:nvSpPr>
        <p:spPr>
          <a:xfrm>
            <a:off x="380880" y="3124080"/>
            <a:ext cx="802800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诸葛亮在奏表的开头一段向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刘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提出什么劝谏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诸葛亮分析形势的利弊，不利条件是什么？有利条件是什么？此段宗旨是什么？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6"/>
          <p:cNvSpPr/>
          <p:nvPr/>
        </p:nvSpPr>
        <p:spPr>
          <a:xfrm>
            <a:off x="533520" y="762120"/>
            <a:ext cx="5651280" cy="3382920"/>
          </a:xfrm>
          <a:prstGeom prst="wedgeRectCallout">
            <a:avLst>
              <a:gd name="adj1" fmla="val 72726"/>
              <a:gd name="adj2" fmla="val 34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刘禅，字公嗣，小名阿斗，刘备的大儿子，建安二十四年（公元二一九年）立为太子。刘备死后继位于成都，称帝时十七岁。在位期间，由丞相诸葛亮辅佐执政。诸葛亮死后，因信任宦官黄皓，致使姜维从北伐中原的前线撤回汉中沓中屯田开荒。炎兴元年（公元二六三年）邓艾领军从阴平险道奇袭成都，刘禅出位投降，被封为安乐公。后人作诗叹息道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追欢作乐笑颜开，不念危亡半点哀。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    快乐异乡忘故国，方知后主是庸才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2"/>
          <p:cNvSpPr/>
          <p:nvPr/>
        </p:nvSpPr>
        <p:spPr>
          <a:xfrm>
            <a:off x="914400" y="990720"/>
            <a:ext cx="5638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3"/>
          <p:cNvSpPr/>
          <p:nvPr/>
        </p:nvSpPr>
        <p:spPr>
          <a:xfrm>
            <a:off x="0" y="9144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此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危急存亡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4"/>
          <p:cNvSpPr/>
          <p:nvPr/>
        </p:nvSpPr>
        <p:spPr>
          <a:xfrm>
            <a:off x="0" y="21337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侍卫之臣不懈于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忠志之士忘身于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者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追先帝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殊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5"/>
          <p:cNvSpPr/>
          <p:nvPr/>
        </p:nvSpPr>
        <p:spPr>
          <a:xfrm>
            <a:off x="0" y="396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诚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开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圣听，以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先帝遗德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恢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志士之气，不宜妄自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菲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6"/>
          <p:cNvSpPr/>
          <p:nvPr/>
        </p:nvSpPr>
        <p:spPr>
          <a:xfrm>
            <a:off x="1523880" y="0"/>
            <a:ext cx="1219320" cy="7621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实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7"/>
          <p:cNvSpPr/>
          <p:nvPr/>
        </p:nvSpPr>
        <p:spPr>
          <a:xfrm>
            <a:off x="4343400" y="0"/>
            <a:ext cx="1219320" cy="7621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8"/>
          <p:cNvSpPr/>
          <p:nvPr/>
        </p:nvSpPr>
        <p:spPr>
          <a:xfrm>
            <a:off x="1066680" y="1295280"/>
            <a:ext cx="1219320" cy="76212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然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9"/>
          <p:cNvSpPr/>
          <p:nvPr/>
        </p:nvSpPr>
        <p:spPr>
          <a:xfrm>
            <a:off x="4724280" y="1295280"/>
            <a:ext cx="1600200" cy="762120"/>
          </a:xfrm>
          <a:prstGeom prst="wedgeRoundRectCallout">
            <a:avLst>
              <a:gd name="adj1" fmla="val -45236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宫廷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0"/>
          <p:cNvSpPr/>
          <p:nvPr/>
        </p:nvSpPr>
        <p:spPr>
          <a:xfrm>
            <a:off x="457200" y="3200400"/>
            <a:ext cx="1219320" cy="762120"/>
          </a:xfrm>
          <a:prstGeom prst="wedgeRoundRectCallout">
            <a:avLst>
              <a:gd name="adj1" fmla="val -69791"/>
              <a:gd name="adj2" fmla="val -4750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边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1"/>
          <p:cNvSpPr/>
          <p:nvPr/>
        </p:nvSpPr>
        <p:spPr>
          <a:xfrm>
            <a:off x="5791320" y="2666880"/>
            <a:ext cx="2743200" cy="762120"/>
          </a:xfrm>
          <a:prstGeom prst="wedgeRoundRectCallout">
            <a:avLst>
              <a:gd name="adj1" fmla="val -86634"/>
              <a:gd name="adj2" fmla="val 16041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特别厚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2"/>
          <p:cNvSpPr/>
          <p:nvPr/>
        </p:nvSpPr>
        <p:spPr>
          <a:xfrm>
            <a:off x="2971800" y="3352680"/>
            <a:ext cx="4114800" cy="762120"/>
          </a:xfrm>
          <a:prstGeom prst="wedgeRoundRectCallout">
            <a:avLst>
              <a:gd name="adj1" fmla="val -77814"/>
              <a:gd name="adj2" fmla="val -5875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表提示原因，不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13"/>
          <p:cNvSpPr/>
          <p:nvPr/>
        </p:nvSpPr>
        <p:spPr>
          <a:xfrm>
            <a:off x="2362320" y="5105520"/>
            <a:ext cx="1218960" cy="761760"/>
          </a:xfrm>
          <a:prstGeom prst="wedgeRoundRectCallout">
            <a:avLst>
              <a:gd name="adj1" fmla="val -83592"/>
              <a:gd name="adj2" fmla="val -128333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扩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4"/>
          <p:cNvSpPr/>
          <p:nvPr/>
        </p:nvSpPr>
        <p:spPr>
          <a:xfrm>
            <a:off x="5410080" y="4952880"/>
            <a:ext cx="3429000" cy="762120"/>
          </a:xfrm>
          <a:prstGeom prst="wedgeRoundRectCallout">
            <a:avLst>
              <a:gd name="adj1" fmla="val -66388"/>
              <a:gd name="adj2" fmla="val -104583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使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发扬光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15"/>
          <p:cNvSpPr/>
          <p:nvPr/>
        </p:nvSpPr>
        <p:spPr>
          <a:xfrm>
            <a:off x="6324480" y="2666880"/>
            <a:ext cx="3429000" cy="762120"/>
          </a:xfrm>
          <a:prstGeom prst="wedgeRoundRectCallout">
            <a:avLst>
              <a:gd name="adj1" fmla="val -12268"/>
              <a:gd name="adj2" fmla="val 12875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使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发扬光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16"/>
          <p:cNvSpPr/>
          <p:nvPr/>
        </p:nvSpPr>
        <p:spPr>
          <a:xfrm>
            <a:off x="4343400" y="5715000"/>
            <a:ext cx="1219320" cy="762120"/>
          </a:xfrm>
          <a:prstGeom prst="wedgeRoundRectCallout">
            <a:avLst>
              <a:gd name="adj1" fmla="val -71222"/>
              <a:gd name="adj2" fmla="val -128541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轻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WordArt 1026"/>
          <p:cNvSpPr txBox="1"/>
          <p:nvPr/>
        </p:nvSpPr>
        <p:spPr>
          <a:xfrm>
            <a:off x="2819520" y="0"/>
            <a:ext cx="308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译第一段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791" name="Text Box 1027"/>
          <p:cNvSpPr/>
          <p:nvPr/>
        </p:nvSpPr>
        <p:spPr>
          <a:xfrm>
            <a:off x="533520" y="990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帝创建统一全国的大业还没有完成一半，就中途去世了。现在天下分裂成三国，我们蜀国贫困衰弱，这真正是形势危急、决定存亡的关头啊。可是，侍卫大臣们在宫廷里毫不懈怠，忠诚的将士们在边境上奋不顾身，这是因为他们追念先帝特别厚待，想要在陛下身上来报答。（陛下）确实应该扩大圣明的听闻，发扬光大先帝遗留下来的美德，发扬扩大有抱负的人们的志气，而不应当随便看轻自己，说话不恰当，以致堵塞忠臣进谏的道路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WordArt 4" descr=""/>
          <p:cNvPicPr/>
          <p:nvPr/>
        </p:nvPicPr>
        <p:blipFill>
          <a:blip r:embed="rId2"/>
          <a:stretch/>
        </p:blipFill>
        <p:spPr>
          <a:xfrm>
            <a:off x="695160" y="49320"/>
            <a:ext cx="4907160" cy="182880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5"/>
          <p:cNvSpPr/>
          <p:nvPr/>
        </p:nvSpPr>
        <p:spPr>
          <a:xfrm>
            <a:off x="539640" y="2060640"/>
            <a:ext cx="777744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朗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质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6"/>
          <p:cNvSpPr/>
          <p:nvPr/>
        </p:nvSpPr>
        <p:spPr>
          <a:xfrm>
            <a:off x="1187280" y="407664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诸葛亮向刘禅提出什么谏诫？ </a:t>
            </a:r>
            <a:br>
              <a:rPr sz="3600"/>
            </a:b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026"/>
          <p:cNvSpPr/>
          <p:nvPr/>
        </p:nvSpPr>
        <p:spPr>
          <a:xfrm>
            <a:off x="395280" y="11970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不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异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027"/>
          <p:cNvSpPr/>
          <p:nvPr/>
        </p:nvSpPr>
        <p:spPr>
          <a:xfrm>
            <a:off x="395280" y="328464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作奸犯科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忠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028"/>
          <p:cNvSpPr/>
          <p:nvPr/>
        </p:nvSpPr>
        <p:spPr>
          <a:xfrm>
            <a:off x="1332000" y="1844640"/>
            <a:ext cx="1295280" cy="21600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1029"/>
          <p:cNvSpPr/>
          <p:nvPr/>
        </p:nvSpPr>
        <p:spPr>
          <a:xfrm>
            <a:off x="1908000" y="836640"/>
            <a:ext cx="1151280" cy="431640"/>
          </a:xfrm>
          <a:custGeom>
            <a:avLst/>
            <a:gdLst>
              <a:gd name="textAreaLeft" fmla="*/ 201240 w 1151280"/>
              <a:gd name="textAreaRight" fmla="*/ 834840 w 115128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031"/>
          <p:cNvSpPr/>
          <p:nvPr/>
        </p:nvSpPr>
        <p:spPr>
          <a:xfrm>
            <a:off x="4356000" y="1844640"/>
            <a:ext cx="576360" cy="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1032"/>
          <p:cNvSpPr/>
          <p:nvPr/>
        </p:nvSpPr>
        <p:spPr>
          <a:xfrm>
            <a:off x="900000" y="41497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如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033"/>
          <p:cNvSpPr/>
          <p:nvPr/>
        </p:nvSpPr>
        <p:spPr>
          <a:xfrm>
            <a:off x="4356000" y="42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034"/>
          <p:cNvSpPr/>
          <p:nvPr/>
        </p:nvSpPr>
        <p:spPr>
          <a:xfrm>
            <a:off x="6012000" y="3933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  <a:ea typeface="Arial"/>
              </a:rPr>
              <a:t>……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1035"/>
          <p:cNvSpPr/>
          <p:nvPr/>
        </p:nvSpPr>
        <p:spPr>
          <a:xfrm>
            <a:off x="3708360" y="333360"/>
            <a:ext cx="3743280" cy="647640"/>
          </a:xfrm>
          <a:prstGeom prst="wedgeRoundRectCallout">
            <a:avLst>
              <a:gd name="adj1" fmla="val -70481"/>
              <a:gd name="adj2" fmla="val 1014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例如：否极泰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2"/>
          <p:cNvSpPr/>
          <p:nvPr/>
        </p:nvSpPr>
        <p:spPr>
          <a:xfrm>
            <a:off x="914400" y="175248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皇宫中和朝廷中，都是一个整体，奖惩功过、好坏，不应该因在宫中和府中而不同。如果有做奸邪事情、触犯法令以及尽忠办好事的人，应当交给主管的官判定他们受罚或受赏，来显示陛下公平严明的治理，而不应当有偏袒和私心，造成宫廷和朝廷刑赏之法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WordArt 3"/>
          <p:cNvSpPr txBox="1"/>
          <p:nvPr/>
        </p:nvSpPr>
        <p:spPr>
          <a:xfrm>
            <a:off x="2819520" y="304920"/>
            <a:ext cx="308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译第二段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WordArt 4" descr=""/>
          <p:cNvPicPr/>
          <p:nvPr/>
        </p:nvPicPr>
        <p:blipFill>
          <a:blip r:embed="rId1"/>
          <a:stretch/>
        </p:blipFill>
        <p:spPr>
          <a:xfrm>
            <a:off x="1584360" y="49320"/>
            <a:ext cx="5475240" cy="157140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539640" y="1989000"/>
            <a:ext cx="3168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试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6"/>
          <p:cNvSpPr/>
          <p:nvPr/>
        </p:nvSpPr>
        <p:spPr>
          <a:xfrm>
            <a:off x="1187280" y="393372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两段的内容是什么？（要求用一句话作答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2"/>
          <p:cNvSpPr/>
          <p:nvPr/>
        </p:nvSpPr>
        <p:spPr>
          <a:xfrm>
            <a:off x="228600" y="5335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66"/>
                </a:solidFill>
                <a:latin typeface="Times New Roman"/>
              </a:rPr>
              <a:t>侍中、侍郎郭攸之、费祎、董允等人，都善良诚实的人，志向和心思都忠诚无二，因此先帝把他们选拔出来留给陛下（使用）。我以为宫中的事情，不论大小，都拿来问问他们，然后实行，就一定能够补救缺点和疏漏之处，得到更多的成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66"/>
                </a:solidFill>
                <a:latin typeface="Times New Roman"/>
              </a:rPr>
              <a:t>将军向宠，性情品德善良平正，对军事精通熟练，从前试用他的时候，先帝曾称赞他有才能，因此大家商议推举他做中部督。我认为军队中的事情，都可以拿来跟他商讨，一定能使部队团结一心，才能高的才能低的各得其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WordArt 3"/>
          <p:cNvSpPr txBox="1"/>
          <p:nvPr/>
        </p:nvSpPr>
        <p:spPr>
          <a:xfrm>
            <a:off x="2819520" y="304920"/>
            <a:ext cx="308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译第三、四段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5"/>
          <p:cNvSpPr/>
          <p:nvPr/>
        </p:nvSpPr>
        <p:spPr>
          <a:xfrm>
            <a:off x="4103640" y="1989000"/>
            <a:ext cx="504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诸葛亮的鹅毛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神妙莫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诸葛亮三气周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略施小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诸葛亮借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借无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诸葛亮挥泪斩马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顾全大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诸葛亮要丑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事业着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6"/>
          <p:cNvSpPr/>
          <p:nvPr/>
        </p:nvSpPr>
        <p:spPr>
          <a:xfrm>
            <a:off x="4500720" y="2349360"/>
            <a:ext cx="446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诸葛亮招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才重于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诸葛亮用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神出鬼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诸葛亮的锦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神机妙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曹操诸葛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脾气不一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诸葛亮隆中对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先见之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7" descr="诸葛像"/>
          <p:cNvPicPr/>
          <p:nvPr/>
        </p:nvPicPr>
        <p:blipFill>
          <a:blip r:embed="rId2"/>
          <a:stretch/>
        </p:blipFill>
        <p:spPr>
          <a:xfrm>
            <a:off x="0" y="533520"/>
            <a:ext cx="3733920" cy="6324480"/>
          </a:xfrm>
          <a:prstGeom prst="rect">
            <a:avLst/>
          </a:prstGeom>
          <a:ln w="0">
            <a:noFill/>
          </a:ln>
        </p:spPr>
      </p:pic>
      <p:sp>
        <p:nvSpPr>
          <p:cNvPr id="751" name="Text Box 4"/>
          <p:cNvSpPr/>
          <p:nvPr/>
        </p:nvSpPr>
        <p:spPr>
          <a:xfrm>
            <a:off x="2843280" y="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诸葛亮这位著名的历史人物，大家比较熟悉。你知道的有关诸葛亮的哪些歇后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WordArt 4" descr=""/>
          <p:cNvPicPr/>
          <p:nvPr/>
        </p:nvPicPr>
        <p:blipFill>
          <a:blip r:embed="rId1"/>
          <a:stretch/>
        </p:blipFill>
        <p:spPr>
          <a:xfrm>
            <a:off x="2077920" y="165240"/>
            <a:ext cx="4267440" cy="148752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5"/>
          <p:cNvSpPr/>
          <p:nvPr/>
        </p:nvSpPr>
        <p:spPr>
          <a:xfrm>
            <a:off x="611280" y="1700280"/>
            <a:ext cx="259236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齐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质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6"/>
          <p:cNvSpPr/>
          <p:nvPr/>
        </p:nvSpPr>
        <p:spPr>
          <a:xfrm>
            <a:off x="2556000" y="350028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段的内容是什么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755640" y="4653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愿陛下亲之信之，则汉室之隆，可计日而待也。”表达了诸葛亮的怎样的情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2"/>
          <p:cNvSpPr/>
          <p:nvPr/>
        </p:nvSpPr>
        <p:spPr>
          <a:xfrm>
            <a:off x="1143000" y="6094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注意以下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3"/>
          <p:cNvSpPr/>
          <p:nvPr/>
        </p:nvSpPr>
        <p:spPr>
          <a:xfrm>
            <a:off x="0" y="18288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贤臣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4"/>
          <p:cNvSpPr/>
          <p:nvPr/>
        </p:nvSpPr>
        <p:spPr>
          <a:xfrm>
            <a:off x="1219320" y="24382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亲近，形作动；远离，形作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"/>
          <p:cNvSpPr/>
          <p:nvPr/>
        </p:nvSpPr>
        <p:spPr>
          <a:xfrm>
            <a:off x="0" y="3200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此先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所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兴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6"/>
          <p:cNvSpPr/>
          <p:nvPr/>
        </p:nvSpPr>
        <p:spPr>
          <a:xfrm>
            <a:off x="609480" y="3809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原因        语气词，揭示原因，不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7"/>
          <p:cNvSpPr/>
          <p:nvPr/>
        </p:nvSpPr>
        <p:spPr>
          <a:xfrm>
            <a:off x="0" y="4572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此悉贞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死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8"/>
          <p:cNvSpPr/>
          <p:nvPr/>
        </p:nvSpPr>
        <p:spPr>
          <a:xfrm>
            <a:off x="685800" y="54864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为节而死，死，为动用法；节，义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2"/>
          <p:cNvSpPr/>
          <p:nvPr/>
        </p:nvSpPr>
        <p:spPr>
          <a:xfrm>
            <a:off x="609480" y="137160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亲近贤臣，疏远小人，这是先汉兴旺发达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原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亲近小人，疏远贤臣，这是后汉倾覆衰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原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先帝在世的时候，每逢跟我谈论这些事情，没有一次不对桓、灵二帝的做法感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痛心遗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。侍中、尚书、长史、参军这些人都是坚贞可靠、能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以死报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忠臣，希望陛下亲近他们，信任他们，那么汉朝的兴隆就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为期不远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WordArt 3"/>
          <p:cNvSpPr txBox="1"/>
          <p:nvPr/>
        </p:nvSpPr>
        <p:spPr>
          <a:xfrm>
            <a:off x="2819520" y="304920"/>
            <a:ext cx="308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译第五段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0" y="0"/>
            <a:ext cx="28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归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5"/>
          <p:cNvSpPr/>
          <p:nvPr/>
        </p:nvSpPr>
        <p:spPr>
          <a:xfrm>
            <a:off x="0" y="981000"/>
            <a:ext cx="8820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诸葛亮首先分析当时的政治形势，说明先帝创业的艰辛，然后根据刘禅的弱点提出哪些建议？ 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0" y="2421000"/>
            <a:ext cx="8748720" cy="24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）宜开张圣听，不宜妄自菲薄，引喻失义以塞忠谏之路。 </a:t>
            </a:r>
            <a:br>
              <a:rPr sz="3200"/>
            </a:b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）提出赏罚严明，宫中府中俱为一体，陟罚臧否，不宜异同。 </a:t>
            </a:r>
            <a:br>
              <a:rPr sz="3200"/>
            </a:b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亲贤远佞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，亲贤臣，远小人此先汉所以兴隆也，亲小人，远贤臣，此后汉所以倾颓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WordArt 4" descr=""/>
          <p:cNvPicPr/>
          <p:nvPr/>
        </p:nvPicPr>
        <p:blipFill>
          <a:blip r:embed="rId1"/>
          <a:stretch/>
        </p:blipFill>
        <p:spPr>
          <a:xfrm>
            <a:off x="2152800" y="0"/>
            <a:ext cx="4967280" cy="180972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5"/>
          <p:cNvSpPr/>
          <p:nvPr/>
        </p:nvSpPr>
        <p:spPr>
          <a:xfrm>
            <a:off x="324000" y="1773360"/>
            <a:ext cx="788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你能朗读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小节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试译，勾出你认为难懂的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2484360" y="393372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2340000" y="350028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两段主要写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900000" y="429264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受任于败军之际，奉命于危难之间，尔来二十有一年矣。”这句话表现了诸葛亮怎样的感情？你认为应该怎样朗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1143000" y="6094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注意以下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250920" y="1700280"/>
            <a:ext cx="79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性命于乱世，不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闻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诸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"/>
          <p:cNvSpPr/>
          <p:nvPr/>
        </p:nvSpPr>
        <p:spPr>
          <a:xfrm>
            <a:off x="324000" y="2924280"/>
            <a:ext cx="38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先帝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卑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95280" y="5300640"/>
            <a:ext cx="79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遂许先帝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驱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倾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755640" y="2349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姑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8"/>
          <p:cNvSpPr/>
          <p:nvPr/>
        </p:nvSpPr>
        <p:spPr>
          <a:xfrm>
            <a:off x="4859280" y="2276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闻名显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9"/>
          <p:cNvSpPr/>
          <p:nvPr/>
        </p:nvSpPr>
        <p:spPr>
          <a:xfrm>
            <a:off x="2050920" y="342900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0"/>
          <p:cNvSpPr/>
          <p:nvPr/>
        </p:nvSpPr>
        <p:spPr>
          <a:xfrm>
            <a:off x="3203640" y="342900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身份低微，出身鄙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324000" y="4076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枉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2"/>
          <p:cNvSpPr/>
          <p:nvPr/>
        </p:nvSpPr>
        <p:spPr>
          <a:xfrm>
            <a:off x="250920" y="4724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辱，降低身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3"/>
          <p:cNvSpPr/>
          <p:nvPr/>
        </p:nvSpPr>
        <p:spPr>
          <a:xfrm>
            <a:off x="2700360" y="4508640"/>
            <a:ext cx="30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委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4"/>
          <p:cNvSpPr/>
          <p:nvPr/>
        </p:nvSpPr>
        <p:spPr>
          <a:xfrm>
            <a:off x="755640" y="59500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以，来。驱驰，奔走效劳。值，碰上，遇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2"/>
          <p:cNvSpPr/>
          <p:nvPr/>
        </p:nvSpPr>
        <p:spPr>
          <a:xfrm>
            <a:off x="685800" y="137160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本来是平民，亲自在南阳耕田，只想在乱世中保全自己，不谋求在诸侯那里扬名做官。先帝不嫌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身份低微，出身鄙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降低自己的身份使自己委屈，三次到茅庐来拜访我，向我询问当代的大事，我因此十分感动而振奋，就答应为先帝奔走效劳。后来遇到兵败，在兵败的时候接受重任，在危难的关头奉命出使，从那时以来，已经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WordArt 3"/>
          <p:cNvSpPr txBox="1"/>
          <p:nvPr/>
        </p:nvSpPr>
        <p:spPr>
          <a:xfrm>
            <a:off x="2819520" y="304920"/>
            <a:ext cx="308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译第六段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4"/>
          <p:cNvSpPr/>
          <p:nvPr/>
        </p:nvSpPr>
        <p:spPr>
          <a:xfrm>
            <a:off x="1143000" y="6094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注意以下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5"/>
          <p:cNvSpPr/>
          <p:nvPr/>
        </p:nvSpPr>
        <p:spPr>
          <a:xfrm>
            <a:off x="250920" y="184464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恐托付不效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以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帝之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6"/>
          <p:cNvSpPr/>
          <p:nvPr/>
        </p:nvSpPr>
        <p:spPr>
          <a:xfrm>
            <a:off x="324000" y="3068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深入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7"/>
          <p:cNvSpPr/>
          <p:nvPr/>
        </p:nvSpPr>
        <p:spPr>
          <a:xfrm>
            <a:off x="324000" y="41497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当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奖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军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中原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庶竭驽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8"/>
          <p:cNvSpPr/>
          <p:nvPr/>
        </p:nvSpPr>
        <p:spPr>
          <a:xfrm>
            <a:off x="324000" y="53737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此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先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忠陛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职分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9"/>
          <p:cNvSpPr/>
          <p:nvPr/>
        </p:nvSpPr>
        <p:spPr>
          <a:xfrm>
            <a:off x="2987640" y="2421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以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0"/>
          <p:cNvSpPr/>
          <p:nvPr/>
        </p:nvSpPr>
        <p:spPr>
          <a:xfrm>
            <a:off x="4067280" y="2421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受到损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1"/>
          <p:cNvSpPr/>
          <p:nvPr/>
        </p:nvSpPr>
        <p:spPr>
          <a:xfrm>
            <a:off x="2050920" y="357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名作动，长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2"/>
          <p:cNvSpPr/>
          <p:nvPr/>
        </p:nvSpPr>
        <p:spPr>
          <a:xfrm>
            <a:off x="900000" y="4724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激励、率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14"/>
          <p:cNvSpPr/>
          <p:nvPr/>
        </p:nvSpPr>
        <p:spPr>
          <a:xfrm>
            <a:off x="2987640" y="4724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名作状，往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15"/>
          <p:cNvSpPr/>
          <p:nvPr/>
        </p:nvSpPr>
        <p:spPr>
          <a:xfrm>
            <a:off x="5364000" y="479736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用尽自己平庸的才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6"/>
          <p:cNvSpPr/>
          <p:nvPr/>
        </p:nvSpPr>
        <p:spPr>
          <a:xfrm>
            <a:off x="1042920" y="59832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7"/>
          <p:cNvSpPr/>
          <p:nvPr/>
        </p:nvSpPr>
        <p:spPr>
          <a:xfrm>
            <a:off x="3492360" y="6021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表并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8"/>
          <p:cNvSpPr/>
          <p:nvPr/>
        </p:nvSpPr>
        <p:spPr>
          <a:xfrm>
            <a:off x="5580000" y="59500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WordArt 4" descr=""/>
          <p:cNvPicPr/>
          <p:nvPr/>
        </p:nvPicPr>
        <p:blipFill>
          <a:blip r:embed="rId1"/>
          <a:stretch/>
        </p:blipFill>
        <p:spPr>
          <a:xfrm>
            <a:off x="2523960" y="182520"/>
            <a:ext cx="4924440" cy="130500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5"/>
          <p:cNvSpPr/>
          <p:nvPr/>
        </p:nvSpPr>
        <p:spPr>
          <a:xfrm>
            <a:off x="250920" y="1628640"/>
            <a:ext cx="788508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试译这二小节，质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朗读、背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6"/>
          <p:cNvSpPr/>
          <p:nvPr/>
        </p:nvSpPr>
        <p:spPr>
          <a:xfrm>
            <a:off x="2484360" y="299736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了什么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7"/>
          <p:cNvSpPr/>
          <p:nvPr/>
        </p:nvSpPr>
        <p:spPr>
          <a:xfrm>
            <a:off x="900000" y="407664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不效则治臣之罪以告先帝之灵”，对这句话你是怎样看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2"/>
          <p:cNvSpPr/>
          <p:nvPr/>
        </p:nvSpPr>
        <p:spPr>
          <a:xfrm>
            <a:off x="395280" y="1197000"/>
            <a:ext cx="8640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希望陛下将讨伐曹魏复兴汉朝大业的任务交给我，如果不能实现就治我的罪，来禀告先帝在天之灵。如果没有发扬美德的建议，就应当责备郭攸之、费祎、董允等人的怠慢，揭示他们的过失。陛下也应当亲自多加考虑，（向他们）询问治国的好道理，认识、采纳正确的意见，深切追念先帝的遗命。（这样）我就受恩感激不尽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在我就要远离陛下，面对着这篇表章，我泪流满面，不知说了些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WordArt 3"/>
          <p:cNvSpPr txBox="1"/>
          <p:nvPr/>
        </p:nvSpPr>
        <p:spPr>
          <a:xfrm>
            <a:off x="2743200" y="0"/>
            <a:ext cx="3086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译第八九段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矩形 5"/>
          <p:cNvSpPr/>
          <p:nvPr/>
        </p:nvSpPr>
        <p:spPr>
          <a:xfrm>
            <a:off x="2484360" y="16286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2" descr="古隆中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4"/>
          <p:cNvSpPr/>
          <p:nvPr/>
        </p:nvSpPr>
        <p:spPr>
          <a:xfrm>
            <a:off x="0" y="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5"/>
          <p:cNvSpPr/>
          <p:nvPr/>
        </p:nvSpPr>
        <p:spPr>
          <a:xfrm>
            <a:off x="1403280" y="1052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形势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11"/>
          <p:cNvGrpSpPr/>
          <p:nvPr/>
        </p:nvGrpSpPr>
        <p:grpSpPr>
          <a:xfrm>
            <a:off x="2340000" y="981000"/>
            <a:ext cx="2592360" cy="863640"/>
            <a:chOff x="2340000" y="981000"/>
            <a:chExt cx="2592360" cy="863640"/>
          </a:xfrm>
        </p:grpSpPr>
        <p:sp>
          <p:nvSpPr>
            <p:cNvPr id="869" name="Text Box 6"/>
            <p:cNvSpPr/>
            <p:nvPr/>
          </p:nvSpPr>
          <p:spPr>
            <a:xfrm>
              <a:off x="2484360" y="98100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帝死天下三分益州疲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AutoShape 7"/>
            <p:cNvSpPr/>
            <p:nvPr/>
          </p:nvSpPr>
          <p:spPr>
            <a:xfrm>
              <a:off x="2340000" y="1197000"/>
              <a:ext cx="144360" cy="647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Text Box 8"/>
          <p:cNvSpPr/>
          <p:nvPr/>
        </p:nvSpPr>
        <p:spPr>
          <a:xfrm>
            <a:off x="1403280" y="2276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提出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Group 36"/>
          <p:cNvGrpSpPr/>
          <p:nvPr/>
        </p:nvGrpSpPr>
        <p:grpSpPr>
          <a:xfrm>
            <a:off x="2340000" y="1989000"/>
            <a:ext cx="1944720" cy="1224000"/>
            <a:chOff x="2340000" y="1989000"/>
            <a:chExt cx="1944720" cy="1224000"/>
          </a:xfrm>
        </p:grpSpPr>
        <p:sp>
          <p:nvSpPr>
            <p:cNvPr id="873" name="Text Box 9"/>
            <p:cNvSpPr/>
            <p:nvPr/>
          </p:nvSpPr>
          <p:spPr>
            <a:xfrm>
              <a:off x="2484360" y="1989000"/>
              <a:ext cx="18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开张圣听赏罚分明亲贤远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10"/>
            <p:cNvSpPr/>
            <p:nvPr/>
          </p:nvSpPr>
          <p:spPr>
            <a:xfrm>
              <a:off x="2340000" y="2205000"/>
              <a:ext cx="216000" cy="1008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Group 37"/>
          <p:cNvGrpSpPr/>
          <p:nvPr/>
        </p:nvGrpSpPr>
        <p:grpSpPr>
          <a:xfrm>
            <a:off x="5003640" y="1197000"/>
            <a:ext cx="2664000" cy="2016000"/>
            <a:chOff x="5003640" y="1197000"/>
            <a:chExt cx="2664000" cy="2016000"/>
          </a:xfrm>
        </p:grpSpPr>
        <p:sp>
          <p:nvSpPr>
            <p:cNvPr id="876" name="Text Box 12"/>
            <p:cNvSpPr/>
            <p:nvPr/>
          </p:nvSpPr>
          <p:spPr>
            <a:xfrm>
              <a:off x="5435280" y="1628640"/>
              <a:ext cx="2232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</a:rPr>
                <a:t>论述透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</a:rPr>
                <a:t>句句在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AutoShape 13"/>
            <p:cNvSpPr/>
            <p:nvPr/>
          </p:nvSpPr>
          <p:spPr>
            <a:xfrm>
              <a:off x="5003640" y="1197000"/>
              <a:ext cx="216000" cy="201600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52560 h 2016000"/>
                <a:gd name="textAreaBottom" fmla="*/ 1963440 h 20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15"/>
          <p:cNvSpPr/>
          <p:nvPr/>
        </p:nvSpPr>
        <p:spPr>
          <a:xfrm>
            <a:off x="3132000" y="4149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身许国  创业艰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16"/>
          <p:cNvSpPr/>
          <p:nvPr/>
        </p:nvSpPr>
        <p:spPr>
          <a:xfrm>
            <a:off x="3132000" y="4581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夙夜忧叹  请命北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17"/>
          <p:cNvSpPr/>
          <p:nvPr/>
        </p:nvSpPr>
        <p:spPr>
          <a:xfrm>
            <a:off x="3132000" y="5013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述职责  诹善纳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39"/>
          <p:cNvGrpSpPr/>
          <p:nvPr/>
        </p:nvGrpSpPr>
        <p:grpSpPr>
          <a:xfrm>
            <a:off x="6372360" y="4292640"/>
            <a:ext cx="2086920" cy="1009080"/>
            <a:chOff x="6372360" y="4292640"/>
            <a:chExt cx="2086920" cy="1009080"/>
          </a:xfrm>
        </p:grpSpPr>
        <p:sp>
          <p:nvSpPr>
            <p:cNvPr id="882" name="Text Box 18"/>
            <p:cNvSpPr/>
            <p:nvPr/>
          </p:nvSpPr>
          <p:spPr>
            <a:xfrm>
              <a:off x="6516360" y="4292640"/>
              <a:ext cx="19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</a:rPr>
                <a:t>言词恳切字字有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AutoShape 19"/>
            <p:cNvSpPr/>
            <p:nvPr/>
          </p:nvSpPr>
          <p:spPr>
            <a:xfrm>
              <a:off x="6372360" y="4365360"/>
              <a:ext cx="215640" cy="93636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38"/>
          <p:cNvGrpSpPr/>
          <p:nvPr/>
        </p:nvGrpSpPr>
        <p:grpSpPr>
          <a:xfrm>
            <a:off x="1476360" y="4365720"/>
            <a:ext cx="1727280" cy="1008000"/>
            <a:chOff x="1476360" y="4365720"/>
            <a:chExt cx="1727280" cy="1008000"/>
          </a:xfrm>
        </p:grpSpPr>
        <p:sp>
          <p:nvSpPr>
            <p:cNvPr id="885" name="Text Box 14"/>
            <p:cNvSpPr/>
            <p:nvPr/>
          </p:nvSpPr>
          <p:spPr>
            <a:xfrm>
              <a:off x="1476360" y="4365720"/>
              <a:ext cx="1655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Arial"/>
                </a:rPr>
                <a:t>追述身世表明忠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AutoShape 20"/>
            <p:cNvSpPr/>
            <p:nvPr/>
          </p:nvSpPr>
          <p:spPr>
            <a:xfrm>
              <a:off x="2987640" y="4365720"/>
              <a:ext cx="216000" cy="1008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Line 21"/>
          <p:cNvSpPr/>
          <p:nvPr/>
        </p:nvSpPr>
        <p:spPr>
          <a:xfrm>
            <a:off x="1835280" y="3213000"/>
            <a:ext cx="0" cy="1079640"/>
          </a:xfrm>
          <a:prstGeom prst="line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42"/>
          <p:cNvGrpSpPr/>
          <p:nvPr/>
        </p:nvGrpSpPr>
        <p:grpSpPr>
          <a:xfrm>
            <a:off x="2050920" y="2852640"/>
            <a:ext cx="4176720" cy="1025280"/>
            <a:chOff x="2050920" y="2852640"/>
            <a:chExt cx="4176720" cy="1025280"/>
          </a:xfrm>
        </p:grpSpPr>
        <p:grpSp>
          <p:nvGrpSpPr>
            <p:cNvPr id="889" name="Group 41"/>
            <p:cNvGrpSpPr/>
            <p:nvPr/>
          </p:nvGrpSpPr>
          <p:grpSpPr>
            <a:xfrm>
              <a:off x="2050920" y="2852640"/>
              <a:ext cx="4176720" cy="936720"/>
              <a:chOff x="2050920" y="2852640"/>
              <a:chExt cx="4176720" cy="936720"/>
            </a:xfrm>
          </p:grpSpPr>
          <p:sp>
            <p:nvSpPr>
              <p:cNvPr id="890" name="Line 22"/>
              <p:cNvSpPr/>
              <p:nvPr/>
            </p:nvSpPr>
            <p:spPr>
              <a:xfrm>
                <a:off x="2050920" y="3284280"/>
                <a:ext cx="0" cy="505080"/>
              </a:xfrm>
              <a:prstGeom prst="line">
                <a:avLst/>
              </a:prstGeom>
              <a:ln w="255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23"/>
              <p:cNvSpPr/>
              <p:nvPr/>
            </p:nvSpPr>
            <p:spPr>
              <a:xfrm>
                <a:off x="2050920" y="3789360"/>
                <a:ext cx="4176720" cy="0"/>
              </a:xfrm>
              <a:prstGeom prst="line">
                <a:avLst/>
              </a:prstGeom>
              <a:ln w="255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Line 25"/>
              <p:cNvSpPr/>
              <p:nvPr/>
            </p:nvSpPr>
            <p:spPr>
              <a:xfrm flipV="1">
                <a:off x="6227640" y="2852640"/>
                <a:ext cx="0" cy="936720"/>
              </a:xfrm>
              <a:prstGeom prst="line">
                <a:avLst/>
              </a:prstGeom>
              <a:ln w="2556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Text Box 29"/>
            <p:cNvSpPr/>
            <p:nvPr/>
          </p:nvSpPr>
          <p:spPr>
            <a:xfrm>
              <a:off x="3058920" y="335736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晓 之 以 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43"/>
          <p:cNvGrpSpPr/>
          <p:nvPr/>
        </p:nvGrpSpPr>
        <p:grpSpPr>
          <a:xfrm>
            <a:off x="2268360" y="5229000"/>
            <a:ext cx="4896000" cy="665280"/>
            <a:chOff x="2268360" y="5229000"/>
            <a:chExt cx="4896000" cy="665280"/>
          </a:xfrm>
        </p:grpSpPr>
        <p:sp>
          <p:nvSpPr>
            <p:cNvPr id="895" name="Line 26"/>
            <p:cNvSpPr/>
            <p:nvPr/>
          </p:nvSpPr>
          <p:spPr>
            <a:xfrm>
              <a:off x="2268360" y="5300640"/>
              <a:ext cx="0" cy="50508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27"/>
            <p:cNvSpPr/>
            <p:nvPr/>
          </p:nvSpPr>
          <p:spPr>
            <a:xfrm>
              <a:off x="2268360" y="5805720"/>
              <a:ext cx="489600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28"/>
            <p:cNvSpPr/>
            <p:nvPr/>
          </p:nvSpPr>
          <p:spPr>
            <a:xfrm flipV="1">
              <a:off x="7164360" y="5229000"/>
              <a:ext cx="0" cy="57636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Text Box 30"/>
            <p:cNvSpPr/>
            <p:nvPr/>
          </p:nvSpPr>
          <p:spPr>
            <a:xfrm>
              <a:off x="3492360" y="537372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动 之 以 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Text Box 31"/>
          <p:cNvSpPr/>
          <p:nvPr/>
        </p:nvSpPr>
        <p:spPr>
          <a:xfrm>
            <a:off x="1116000" y="5877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出师一表真名世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千载谁堪伯仲间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Group 44"/>
          <p:cNvGrpSpPr/>
          <p:nvPr/>
        </p:nvGrpSpPr>
        <p:grpSpPr>
          <a:xfrm>
            <a:off x="179280" y="1341360"/>
            <a:ext cx="936720" cy="3743280"/>
            <a:chOff x="179280" y="1341360"/>
            <a:chExt cx="936720" cy="3743280"/>
          </a:xfrm>
        </p:grpSpPr>
        <p:sp>
          <p:nvSpPr>
            <p:cNvPr id="901" name="AutoShape 32"/>
            <p:cNvSpPr/>
            <p:nvPr/>
          </p:nvSpPr>
          <p:spPr>
            <a:xfrm>
              <a:off x="900000" y="1341360"/>
              <a:ext cx="216000" cy="37432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97560 h 3743280"/>
                <a:gd name="textAreaBottom" fmla="*/ 3645720 h 37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Text Box 33"/>
            <p:cNvSpPr/>
            <p:nvPr/>
          </p:nvSpPr>
          <p:spPr>
            <a:xfrm>
              <a:off x="179280" y="2349360"/>
              <a:ext cx="826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出师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Group 40"/>
          <p:cNvGrpSpPr/>
          <p:nvPr/>
        </p:nvGrpSpPr>
        <p:grpSpPr>
          <a:xfrm>
            <a:off x="7688520" y="1700280"/>
            <a:ext cx="1155240" cy="4176720"/>
            <a:chOff x="7688520" y="1700280"/>
            <a:chExt cx="1155240" cy="4176720"/>
          </a:xfrm>
        </p:grpSpPr>
        <p:sp>
          <p:nvSpPr>
            <p:cNvPr id="904" name="AutoShape 34"/>
            <p:cNvSpPr/>
            <p:nvPr/>
          </p:nvSpPr>
          <p:spPr>
            <a:xfrm>
              <a:off x="7885080" y="1700280"/>
              <a:ext cx="358920" cy="4176720"/>
            </a:xfrm>
            <a:custGeom>
              <a:avLst/>
              <a:gdLst>
                <a:gd name="textAreaLeft" fmla="*/ 0 w 358920"/>
                <a:gd name="textAreaRight" fmla="*/ 129600 w 358920"/>
                <a:gd name="textAreaTop" fmla="*/ 108720 h 4176720"/>
                <a:gd name="textAreaBottom" fmla="*/ 4068000 h 41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314"/>
                  </a:lnTo>
                  <a:cubicBezTo>
                    <a:pt x="10800" y="10214"/>
                    <a:pt x="16200" y="11114"/>
                    <a:pt x="21600" y="11114"/>
                  </a:cubicBezTo>
                  <a:cubicBezTo>
                    <a:pt x="16200" y="11114"/>
                    <a:pt x="10800" y="12014"/>
                    <a:pt x="10800" y="1291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35"/>
            <p:cNvSpPr/>
            <p:nvPr/>
          </p:nvSpPr>
          <p:spPr>
            <a:xfrm>
              <a:off x="7688520" y="2205000"/>
              <a:ext cx="1155240" cy="31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议论叙事抒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WordArt 4"/>
          <p:cNvSpPr txBox="1"/>
          <p:nvPr/>
        </p:nvSpPr>
        <p:spPr>
          <a:xfrm rot="20938200">
            <a:off x="3419280" y="333000"/>
            <a:ext cx="17269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020000"/>
                </a:gradFill>
                <a:latin typeface="隶书"/>
              </a:rPr>
              <a:t>总结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020000"/>
              </a:gradFill>
              <a:latin typeface="隶书"/>
              <a:ea typeface="隶书"/>
            </a:endParaRPr>
          </a:p>
        </p:txBody>
      </p:sp>
      <p:sp>
        <p:nvSpPr>
          <p:cNvPr id="907" name="Text Box 5"/>
          <p:cNvSpPr/>
          <p:nvPr/>
        </p:nvSpPr>
        <p:spPr>
          <a:xfrm>
            <a:off x="0" y="1413000"/>
            <a:ext cx="91440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一、实词总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道：① “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崩殂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道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咨诹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办法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遗：① “以光先帝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德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遗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帝简拔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陛下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给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为：① “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体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有作奸犯科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忠善者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做，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③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众议举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督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做，担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论：① “宜付有司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刑赏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评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与臣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事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议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 Box 4"/>
          <p:cNvSpPr/>
          <p:nvPr/>
        </p:nvSpPr>
        <p:spPr>
          <a:xfrm>
            <a:off x="0" y="765000"/>
            <a:ext cx="8064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无：① “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兴德之言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小，悉以咨之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行：① “然后施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实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淑均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③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能使行阵和睦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行列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益：① “有所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益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于斟酌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5"/>
          <p:cNvSpPr/>
          <p:nvPr/>
        </p:nvSpPr>
        <p:spPr>
          <a:xfrm>
            <a:off x="0" y="393372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二、古今异义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6"/>
          <p:cNvSpPr/>
          <p:nvPr/>
        </p:nvSpPr>
        <p:spPr>
          <a:xfrm>
            <a:off x="0" y="4724280"/>
            <a:ext cx="410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、诚宜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Arial"/>
              </a:rPr>
              <a:t>开张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圣听：开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、不宜妄自</a:t>
            </a:r>
            <a:r>
              <a:rPr b="1" lang="zh-CN" sz="2800" spc="-1" strike="noStrike" u="sng">
                <a:solidFill>
                  <a:srgbClr val="800000"/>
                </a:solidFill>
                <a:uFillTx/>
                <a:latin typeface="Arial"/>
              </a:rPr>
              <a:t>菲薄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：菲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8"/>
          <p:cNvSpPr/>
          <p:nvPr/>
        </p:nvSpPr>
        <p:spPr>
          <a:xfrm>
            <a:off x="3995640" y="4653000"/>
            <a:ext cx="51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古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扩大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;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今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铺面开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9"/>
          <p:cNvSpPr/>
          <p:nvPr/>
        </p:nvSpPr>
        <p:spPr>
          <a:xfrm>
            <a:off x="3995640" y="5300640"/>
            <a:ext cx="40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古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轻视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看不起自己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今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微薄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4"/>
          <p:cNvSpPr/>
          <p:nvPr/>
        </p:nvSpPr>
        <p:spPr>
          <a:xfrm>
            <a:off x="0" y="333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晓畅军事：晓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5"/>
          <p:cNvSpPr/>
          <p:nvPr/>
        </p:nvSpPr>
        <p:spPr>
          <a:xfrm>
            <a:off x="3708360" y="260280"/>
            <a:ext cx="45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古：精通；今：流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0" y="119700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此先汉所以兴隆也：所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7"/>
          <p:cNvSpPr/>
          <p:nvPr/>
        </p:nvSpPr>
        <p:spPr>
          <a:xfrm>
            <a:off x="5219640" y="1197000"/>
            <a:ext cx="31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古：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的原因今：表示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9"/>
          <p:cNvSpPr/>
          <p:nvPr/>
        </p:nvSpPr>
        <p:spPr>
          <a:xfrm>
            <a:off x="0" y="234936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未尝不叹息痛恨于桓、灵也：痛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0"/>
          <p:cNvSpPr/>
          <p:nvPr/>
        </p:nvSpPr>
        <p:spPr>
          <a:xfrm>
            <a:off x="3132000" y="3068640"/>
            <a:ext cx="525636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古：痛心遗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今：很不满意或非常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0" y="422100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先帝不以臣卑鄙：卑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2195640" y="494172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古：出身低微、目光短小今：行为卑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Text Box 4"/>
          <p:cNvSpPr/>
          <p:nvPr/>
        </p:nvSpPr>
        <p:spPr>
          <a:xfrm>
            <a:off x="0" y="476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咨臣以当世之事，由是感激：感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5"/>
          <p:cNvSpPr/>
          <p:nvPr/>
        </p:nvSpPr>
        <p:spPr>
          <a:xfrm>
            <a:off x="2627280" y="105264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古：感动奋发今：感动感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8"/>
          <p:cNvSpPr/>
          <p:nvPr/>
        </p:nvSpPr>
        <p:spPr>
          <a:xfrm>
            <a:off x="0" y="3357720"/>
            <a:ext cx="61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今当远离，临表涕零：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9"/>
          <p:cNvSpPr/>
          <p:nvPr/>
        </p:nvSpPr>
        <p:spPr>
          <a:xfrm>
            <a:off x="5256360" y="3357720"/>
            <a:ext cx="388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古：眼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今：鼻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0"/>
          <p:cNvSpPr/>
          <p:nvPr/>
        </p:nvSpPr>
        <p:spPr>
          <a:xfrm>
            <a:off x="0" y="4653000"/>
            <a:ext cx="61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此诚危急存亡之秋也：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1"/>
          <p:cNvSpPr/>
          <p:nvPr/>
        </p:nvSpPr>
        <p:spPr>
          <a:xfrm>
            <a:off x="5651640" y="4724280"/>
            <a:ext cx="280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古：实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今：诚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 Box 4"/>
          <p:cNvSpPr/>
          <p:nvPr/>
        </p:nvSpPr>
        <p:spPr>
          <a:xfrm>
            <a:off x="266760" y="260280"/>
            <a:ext cx="8640720" cy="58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而：① “先帝创业未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道崩殂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计日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待也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连接状语与中心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于：① “然侍卫之臣不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欲报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陛下也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及于，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③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未尝不叹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桓、灵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对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④ “还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旧都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以：① “咨臣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世之事”：用，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诚直开张圣听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先帝遗德”：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而。“不宜妄自菲薄，引喻失义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塞忠谏之路也。”④表时间、地域等界限。“受命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，夙夜忧叹”。⑤认为。“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宫中之事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Text Box 4098"/>
          <p:cNvSpPr/>
          <p:nvPr/>
        </p:nvSpPr>
        <p:spPr>
          <a:xfrm>
            <a:off x="395280" y="115920"/>
            <a:ext cx="8569440" cy="58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而：① “先帝创业未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道崩殂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计日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待也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连接状语与中心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于：① “然侍卫之臣不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欲报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陛下也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及于，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③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未尝不叹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桓、灵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对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④ “还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旧都”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以：① “咨臣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世之事”：用，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诚直开张圣听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先帝遗德”：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而。“不宜妄自菲薄，引喻失义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塞忠谏之路也。”④表时间、地域等界限。“受命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，夙夜忧叹”。⑤认为。“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宫中之事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3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2" descr="白帝城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2" descr="五丈原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2" descr="武侯祠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2" descr="武侯祠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2" descr="武侯祠4"/>
          <p:cNvPicPr/>
          <p:nvPr/>
        </p:nvPicPr>
        <p:blipFill>
          <a:blip r:embed="rId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3" descr="武侯祠5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6"/>
          <p:cNvSpPr/>
          <p:nvPr/>
        </p:nvSpPr>
        <p:spPr>
          <a:xfrm>
            <a:off x="0" y="1557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诸葛亮辅佐刘备，历尽艰难坎坷，经过多年奋战，终于建立了蜀国，身负丞相重任。蜀国建立后两年，即公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刘备病逝，后主刘禅继位，时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。诸葛亮受遗诏辅佐刘禅，主持蜀国军政大事。公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诸葛亮统率蜀国军队北进，驻军汉中（今陕西南郑县），准备征伐曹魏，夺取中原，复兴汉室。他当时感到刘禅愚昧懦弱，颇有内顾之忧，所以临出发前上书刘禅，恳切劝谏，要刘禅继承刘备遗志，砥砺志行，振作精神，听信忠言，任用贤良，黜斥佞人，严明赏罚，尽心国事，以图完成复兴汉室，统一天下的大业。这就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师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9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你知道写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华文行楷"/>
              </a:rPr>
              <a:t>《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出师表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华文行楷"/>
              </a:rPr>
              <a:t>》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的背景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4T15:08:47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3:44:11Z</dcterms:modified>
  <cp:revision>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