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35D-8CF1-4447-AFC3-C448675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AAC-C74C-4141-91A2-51F74B3F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7A5-CF4D-435D-B364-00E5906C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FC4-41B5-476A-8982-4C4336FF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578-0479-4A4F-9D32-0EE08967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017-C6DC-49D0-A72B-C806D96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123-7B08-40AC-88B9-812A28AD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491-3130-47F3-97B2-64193A0E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FC9-5138-4697-A940-56CA5E2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779-11B3-4E90-8B0F-6F69D26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0DE-88B7-4FA7-B8DD-BD244FD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528-FBD0-4413-A3E6-D5458E0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755-6FAD-4B1C-91AA-9E6A4D9522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7,3,&#24819;&#21040;&#30340;&#23383;" TargetMode="External"/><Relationship Id="rId2" Type="http://schemas.openxmlformats.org/officeDocument/2006/relationships/hyperlink" Target="259,4,&#25193;&#35789;" TargetMode="External"/><Relationship Id="rId3" Type="http://schemas.openxmlformats.org/officeDocument/2006/relationships/hyperlink" Target="260,6,&#35789;&#35821;&#31215;&#32047;" TargetMode="External"/><Relationship Id="rId4" Type="http://schemas.openxmlformats.org/officeDocument/2006/relationships/hyperlink" Target="263,7,&#22635;&#19978;&#21512;&#36866;&#30340;&#35789;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250920" y="6093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2" descr="20061117201243-6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4" descr=""/>
          <p:cNvPicPr/>
          <p:nvPr/>
        </p:nvPicPr>
        <p:blipFill>
          <a:blip r:embed="rId2"/>
          <a:stretch/>
        </p:blipFill>
        <p:spPr>
          <a:xfrm>
            <a:off x="182520" y="2627280"/>
            <a:ext cx="7785000" cy="1627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8520" y="4935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苏教版二年级语文下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选字填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恨   狠   很   根   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凶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仇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心   树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心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手辣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入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4" descr="home04"/>
          <p:cNvPicPr/>
          <p:nvPr/>
        </p:nvPicPr>
        <p:blipFill>
          <a:blip r:embed="rId1"/>
          <a:stretch/>
        </p:blipFill>
        <p:spPr>
          <a:xfrm>
            <a:off x="7451640" y="5229360"/>
            <a:ext cx="657360" cy="73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阿姨特"/>
          <p:cNvPicPr/>
          <p:nvPr/>
        </p:nvPicPr>
        <p:blipFill>
          <a:blip r:embed="rId2"/>
          <a:stretch/>
        </p:blipFill>
        <p:spPr>
          <a:xfrm>
            <a:off x="7380360" y="404640"/>
            <a:ext cx="1116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5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6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3"/>
          <p:cNvPicPr/>
          <p:nvPr/>
        </p:nvPicPr>
        <p:blipFill>
          <a:blip r:embed="rId6"/>
          <a:stretch/>
        </p:blipFill>
        <p:spPr>
          <a:xfrm>
            <a:off x="0" y="0"/>
            <a:ext cx="3492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沉香救母（一）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ea typeface="黑体"/>
                <a:hlinkClick r:id="rId1"/>
              </a:rPr>
              <a:t>想到的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ea typeface="黑体"/>
                <a:hlinkClick r:id="rId2"/>
              </a:rPr>
              <a:t>扩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ea typeface="黑体"/>
                <a:hlinkClick r:id="rId3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ea typeface="黑体"/>
                <a:hlinkClick r:id="rId4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8" descr="p]itee"/>
          <p:cNvPicPr/>
          <p:nvPr/>
        </p:nvPicPr>
        <p:blipFill>
          <a:blip r:embed="rId5"/>
          <a:stretch/>
        </p:blipFill>
        <p:spPr>
          <a:xfrm>
            <a:off x="4643280" y="351792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ljadfs"/>
          <p:cNvPicPr/>
          <p:nvPr/>
        </p:nvPicPr>
        <p:blipFill>
          <a:blip r:embed="rId6"/>
          <a:stretch/>
        </p:blipFill>
        <p:spPr>
          <a:xfrm>
            <a:off x="6732720" y="765000"/>
            <a:ext cx="137160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想到的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叹：双  汉                     含：今   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因：困  音  烟  达          泪：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良：粮  浪  娘  食  狼     告：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恨：狠  很  根  跟          为：办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付：对  时  村  过          武：午   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4" descr="home04"/>
          <p:cNvPicPr/>
          <p:nvPr/>
        </p:nvPicPr>
        <p:blipFill>
          <a:blip r:embed="rId1"/>
          <a:stretch/>
        </p:blipFill>
        <p:spPr>
          <a:xfrm>
            <a:off x="5364000" y="5373720"/>
            <a:ext cx="102420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ajkgjl"/>
          <p:cNvPicPr/>
          <p:nvPr/>
        </p:nvPicPr>
        <p:blipFill>
          <a:blip r:embed="rId2"/>
          <a:stretch/>
        </p:blipFill>
        <p:spPr>
          <a:xfrm>
            <a:off x="4932360" y="333360"/>
            <a:ext cx="1162080" cy="194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720" y="630864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扩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叹：叹气   叹息   惊叹不已   叹为奇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含：含笑   含意   含沙射影   含苞欲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泪：泪水   泪花   眼泪   流泪   落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良：良好   优良   善良   良心   用心良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因：因为   因此   原因   因果   外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" descr="home04"/>
          <p:cNvPicPr/>
          <p:nvPr/>
        </p:nvPicPr>
        <p:blipFill>
          <a:blip r:embed="rId1"/>
          <a:stretch/>
        </p:blipFill>
        <p:spPr>
          <a:xfrm>
            <a:off x="7451640" y="5229360"/>
            <a:ext cx="657360" cy="7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kakhl"/>
          <p:cNvPicPr/>
          <p:nvPr/>
        </p:nvPicPr>
        <p:blipFill>
          <a:blip r:embed="rId2"/>
          <a:stretch/>
        </p:blipFill>
        <p:spPr>
          <a:xfrm>
            <a:off x="539640" y="5229360"/>
            <a:ext cx="12304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为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：因为   为了   为此   为什么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：一分为二      为虎作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恨：仇恨   恨不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付：付出   对付   应付    托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告：告别   告诉   报告   广告   自告奋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武：武打   武术   武力   武功   威武不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习武练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4" descr="home04"/>
          <p:cNvPicPr/>
          <p:nvPr/>
        </p:nvPicPr>
        <p:blipFill>
          <a:blip r:embed="rId1"/>
          <a:stretch/>
        </p:blipFill>
        <p:spPr>
          <a:xfrm>
            <a:off x="6732720" y="5734080"/>
            <a:ext cx="657000" cy="73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安静"/>
          <p:cNvPicPr/>
          <p:nvPr/>
        </p:nvPicPr>
        <p:blipFill>
          <a:blip r:embed="rId2"/>
          <a:stretch/>
        </p:blipFill>
        <p:spPr>
          <a:xfrm>
            <a:off x="0" y="836640"/>
            <a:ext cx="14619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词语积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孩子  沉香  一直  习武练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没有  叹气  真情  神通广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美丽  终于  练就  拜师学艺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善良  因为  向往  二郎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心思  苍老  告别  恨不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古时候  武艺高强   起早贪黑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home04"/>
          <p:cNvPicPr/>
          <p:nvPr/>
        </p:nvPicPr>
        <p:blipFill>
          <a:blip r:embed="rId1"/>
          <a:stretch/>
        </p:blipFill>
        <p:spPr>
          <a:xfrm>
            <a:off x="7020000" y="692280"/>
            <a:ext cx="960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填上合适的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树    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溪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山    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星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风      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绳子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古井    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雪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窗户    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武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4" descr="home04"/>
          <p:cNvPicPr/>
          <p:nvPr/>
        </p:nvPicPr>
        <p:blipFill>
          <a:blip r:embed="rId1"/>
          <a:stretch/>
        </p:blipFill>
        <p:spPr>
          <a:xfrm>
            <a:off x="7451640" y="5229360"/>
            <a:ext cx="6573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连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美丽善良的     二郎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心狠手辣的     女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拜师学艺的     师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武艺高强的     沉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4" descr="home04"/>
          <p:cNvPicPr/>
          <p:nvPr/>
        </p:nvPicPr>
        <p:blipFill>
          <a:blip r:embed="rId1"/>
          <a:stretch/>
        </p:blipFill>
        <p:spPr>
          <a:xfrm>
            <a:off x="7451640" y="5229360"/>
            <a:ext cx="6573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按课文内容填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不久，沉香就告别了爸爸，上山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拜师学艺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不管是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寒冬腊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还是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盛夏酷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他都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起早贪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地跟着师傅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习武练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4" descr="home04"/>
          <p:cNvPicPr/>
          <p:nvPr/>
        </p:nvPicPr>
        <p:blipFill>
          <a:blip r:embed="rId1"/>
          <a:stretch/>
        </p:blipFill>
        <p:spPr>
          <a:xfrm>
            <a:off x="7451640" y="5229360"/>
            <a:ext cx="6573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2:10:0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1:41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