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576-AA89-4293-B444-148D4BEA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DCC-C9A1-4D1E-961D-130231EE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5BB-E169-41D0-A44D-C465FA36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333-2115-406D-A488-5835DBD8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18D-698F-415A-9944-CFE9FA1A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F6C-4C08-47E6-9081-60524FB7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7D1-51DF-4E0A-8DD1-05F6C2F2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8F4-A3AF-44F1-908D-DA4CA2B3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172-23F2-4BF9-927A-10F85630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87E-E8F6-4B5F-83FF-5C00D635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860-C7F2-4233-9F72-67C1C56F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02A-ACD9-4ABA-A193-5F9C53F5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6B9B-13CA-4287-A8A9-723BE39BDA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721F-9B10-402C-9918-44AFA88E46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幻灯片2"/>
          <p:cNvPicPr/>
          <p:nvPr/>
        </p:nvPicPr>
        <p:blipFill>
          <a:blip r:embed="rId1"/>
          <a:stretch/>
        </p:blipFill>
        <p:spPr>
          <a:xfrm>
            <a:off x="1584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4222800" y="196920"/>
            <a:ext cx="46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茶园茶山背景</a:t>
            </a: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PPT</a:t>
            </a: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4788000" y="866880"/>
            <a:ext cx="374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矩形 2"/>
          <p:cNvSpPr/>
          <p:nvPr/>
        </p:nvSpPr>
        <p:spPr>
          <a:xfrm>
            <a:off x="471960" y="39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1149480" y="2851200"/>
            <a:ext cx="705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471960" y="39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152360" y="213984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152360" y="298440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152360" y="383076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" name="矩形 2"/>
          <p:cNvSpPr/>
          <p:nvPr/>
        </p:nvSpPr>
        <p:spPr>
          <a:xfrm>
            <a:off x="762480" y="398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1152360" y="213984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2:10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6:20:2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