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chimes.wav" ContentType="audio/x-wav"/>
  <Override PartName="/ppt/media/image20.jpeg" ContentType="image/jpeg"/>
  <Override PartName="/ppt/media/image19.gif" ContentType="image/gif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23A-4FFA-4F7C-9B8F-A3FA9006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B0E-0D24-42E1-A6A5-4126315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F40-29DB-438E-B4C2-56B580AC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1B9-364D-47F2-B963-3AE5EE27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38E7-9F86-40E2-96DD-59F58DCD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027D-F6B3-4C89-AEAC-DDDEECA0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5193-FF7B-464C-BD7B-1BCAD29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78DE-EEC6-4DB3-B41A-5AF3A535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A6AD-E29B-491F-9FEF-D249ED1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8B8E-7E74-42EB-9536-07957B9F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788B-9345-44AF-9229-EF9D4F0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03E-F078-465C-BE41-1BBE9AA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063C-C8A6-426D-B5DF-620AD53E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3EF6-4232-406E-ACDD-8530DB4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9468-F245-4A5E-A417-8407FDA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CF3E-21B1-40DD-9F0F-172B125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41A-70DF-41DF-A806-5EF43895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FB7-6109-4E87-9003-E264B142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48B-799E-48B6-A228-92263DA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CB0-5E19-4EA3-8216-450E57F7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044-4C37-45A5-B3BC-AC31D47B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787-7FF1-4124-AFAA-566FD3D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8EE-1ADF-4915-BF7B-0683C92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634-B4B4-496F-B695-4EAA77A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F75A-3A14-444B-B460-97C775A31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380880" y="6094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0"/>
          <p:cNvSpPr/>
          <p:nvPr/>
        </p:nvSpPr>
        <p:spPr>
          <a:xfrm flipV="1">
            <a:off x="838080" y="228600"/>
            <a:ext cx="0" cy="175248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0" y="1063440"/>
            <a:ext cx="1752480" cy="504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8B6-4FE9-4CE3-A978-1DCA5E9195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D5AB-59A9-4854-BB76-DBB60292F9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cuo2.wav" TargetMode="External"/><Relationship Id="rId3" Type="http://schemas.openxmlformats.org/officeDocument/2006/relationships/hyperlink" Target="file:///tmp/home/.config/libreoffice/4/user/gallery/dui3.wav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hyperlink" Target="..%5C..%5C&#20013;&#24515;&#26657;&#25945;&#24072;&#20844;&#24320;&#35838;%5C&#21544;&#30340;&#35748;&#35782;&#65288;&#21452;&#20964;&#65289;%5C&#21452;&#20964;.ppt" TargetMode="External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hyperlink" Target="..%5C..%5C&#20013;&#24515;&#26657;&#25945;&#24072;&#20844;&#24320;&#35838;%5C&#21544;&#30340;&#35748;&#35782;&#65288;&#21452;&#20964;&#65289;%5C&#21452;&#20964;.ppt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1026"/>
          <p:cNvSpPr txBox="1"/>
          <p:nvPr/>
        </p:nvSpPr>
        <p:spPr>
          <a:xfrm>
            <a:off x="1828800" y="2286000"/>
            <a:ext cx="5410080" cy="1679400"/>
          </a:xfrm>
          <a:prstGeom prst="rect">
            <a:avLst/>
          </a:prstGeom>
        </p:spPr>
        <p:txBody>
          <a:bodyPr wrap="none" lIns="90000" rIns="90000" tIns="46800" bIns="46800" anchor="t">
            <a:prstTxWarp prst="textChevron">
              <a:avLst>
                <a:gd name="adj" fmla="val 2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吨的认识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845880" y="722160"/>
            <a:ext cx="8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按从大到小的顺序排列下面各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0120" y="1982880"/>
            <a:ext cx="875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20480" y="3279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＞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5800" y="14479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＝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克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5800" y="25272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克＝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00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3554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＝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933800" y="107172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510160" y="215280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933800" y="316080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判断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324000" y="443700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⑥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0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克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450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克＝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（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95280" y="32925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⑤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节车厢的载重是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克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2133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头猪重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（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54560" y="2852640"/>
            <a:ext cx="10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500720" y="1844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588000" y="4005360"/>
            <a:ext cx="120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lyl"/>
          <p:cNvPicPr/>
          <p:nvPr/>
        </p:nvPicPr>
        <p:blipFill>
          <a:blip r:embed="rId1"/>
          <a:stretch/>
        </p:blipFill>
        <p:spPr>
          <a:xfrm>
            <a:off x="0" y="54000"/>
            <a:ext cx="9524880" cy="7149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>
            <a:hlinkClick r:id="rId2"/>
          </p:cNvPr>
          <p:cNvSpPr/>
          <p:nvPr/>
        </p:nvSpPr>
        <p:spPr>
          <a:xfrm>
            <a:off x="1908000" y="530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超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>
            <a:hlinkClick r:id="rId3"/>
          </p:cNvPr>
          <p:cNvSpPr/>
          <p:nvPr/>
        </p:nvSpPr>
        <p:spPr>
          <a:xfrm>
            <a:off x="4788000" y="530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没超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tm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797480" y="1125360"/>
            <a:ext cx="5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对"/>
          <p:cNvPicPr/>
          <p:nvPr/>
        </p:nvPicPr>
        <p:blipFill>
          <a:blip r:embed="rId5"/>
          <a:stretch/>
        </p:blipFill>
        <p:spPr>
          <a:xfrm>
            <a:off x="3492360" y="613404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6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a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61"/>
          <p:cNvPicPr/>
          <p:nvPr/>
        </p:nvPicPr>
        <p:blipFill>
          <a:blip r:embed="rId1"/>
          <a:stretch/>
        </p:blipFill>
        <p:spPr>
          <a:xfrm rot="21178800">
            <a:off x="6019920" y="4978080"/>
            <a:ext cx="2089080" cy="1879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291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兔每小时可以跑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雨燕的速度是野兔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雨燕每小时可以飞多少千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908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592360" y="386064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雨燕每小时可以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6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742160" y="6165720"/>
            <a:ext cx="140184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6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5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220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11-菲弟"/>
          <p:cNvPicPr/>
          <p:nvPr/>
        </p:nvPicPr>
        <p:blipFill>
          <a:blip r:embed="rId3"/>
          <a:stretch/>
        </p:blipFill>
        <p:spPr>
          <a:xfrm>
            <a:off x="0" y="0"/>
            <a:ext cx="1440000" cy="218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80880" y="0"/>
            <a:ext cx="29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华文新魏"/>
              </a:rPr>
              <a:t>扩展练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280" y="3808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粮店运来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吨大米，前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卖出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700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千克，剩下的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卖完。前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平均每天卖出多少千克？后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平均每天卖出多少千克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487480" y="1981080"/>
            <a:ext cx="331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700÷2=8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千克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900720" y="1981080"/>
            <a:ext cx="35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前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天平均每天卖出多少千克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00720" y="2879640"/>
            <a:ext cx="35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后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天平均每天卖出多少千克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368440" y="42861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72680" y="3657600"/>
            <a:ext cx="242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50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7560" y="4267080"/>
            <a:ext cx="407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00-1700=33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千克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51440" y="4952880"/>
            <a:ext cx="34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300÷3=1100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57200" y="5715000"/>
            <a:ext cx="655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答：前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天平均每天卖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850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千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后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天平均每天卖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100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千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435640" y="54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692360" y="63324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一辆载重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的卡车运输建筑材料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797120"/>
          <a:ext cx="7561440" cy="1560600"/>
        </p:xfrm>
        <a:graphic>
          <a:graphicData uri="http://schemas.openxmlformats.org/drawingml/2006/table">
            <a:tbl>
              <a:tblPr/>
              <a:tblGrid>
                <a:gridCol w="1260360"/>
                <a:gridCol w="1260720"/>
                <a:gridCol w="1253880"/>
                <a:gridCol w="1140120"/>
                <a:gridCol w="1387440"/>
                <a:gridCol w="1258920"/>
              </a:tblGrid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千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千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9fc6ff"/>
                        </a:gs>
                        <a:gs pos="100000">
                          <a:srgbClr val="fff3fc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82" name="Text Box 29"/>
          <p:cNvSpPr/>
          <p:nvPr/>
        </p:nvSpPr>
        <p:spPr>
          <a:xfrm>
            <a:off x="1187280" y="3429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要使运输次数最少，该怎样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3635280" y="1197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1"/>
          <p:cNvSpPr/>
          <p:nvPr/>
        </p:nvSpPr>
        <p:spPr>
          <a:xfrm flipH="1" flipV="1">
            <a:off x="3060720" y="3933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2"/>
          <p:cNvSpPr/>
          <p:nvPr/>
        </p:nvSpPr>
        <p:spPr>
          <a:xfrm flipH="1" flipV="1">
            <a:off x="3852000" y="3933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3"/>
          <p:cNvSpPr/>
          <p:nvPr/>
        </p:nvSpPr>
        <p:spPr>
          <a:xfrm flipH="1" flipV="1">
            <a:off x="3491640" y="3933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4"/>
          <p:cNvSpPr/>
          <p:nvPr/>
        </p:nvSpPr>
        <p:spPr>
          <a:xfrm flipH="1" flipV="1">
            <a:off x="5076000" y="3933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5"/>
          <p:cNvSpPr/>
          <p:nvPr/>
        </p:nvSpPr>
        <p:spPr>
          <a:xfrm flipH="1" flipV="1">
            <a:off x="4715640" y="3933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6"/>
          <p:cNvSpPr/>
          <p:nvPr/>
        </p:nvSpPr>
        <p:spPr>
          <a:xfrm flipH="1" flipV="1">
            <a:off x="4284720" y="3933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620640"/>
          <a:ext cx="8964720" cy="6222960"/>
        </p:xfrm>
        <a:graphic>
          <a:graphicData uri="http://schemas.openxmlformats.org/drawingml/2006/table">
            <a:tbl>
              <a:tblPr/>
              <a:tblGrid>
                <a:gridCol w="1017720"/>
                <a:gridCol w="1231920"/>
                <a:gridCol w="1233360"/>
                <a:gridCol w="1235160"/>
                <a:gridCol w="1231920"/>
                <a:gridCol w="1306440"/>
                <a:gridCol w="17082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)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a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)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a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)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a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)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a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)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a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 )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a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黄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石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砖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02"/>
          <p:cNvSpPr/>
          <p:nvPr/>
        </p:nvSpPr>
        <p:spPr>
          <a:xfrm>
            <a:off x="2268360" y="0"/>
            <a:ext cx="49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建筑材料运输方案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teacher"/>
          <p:cNvPicPr/>
          <p:nvPr/>
        </p:nvPicPr>
        <p:blipFill>
          <a:blip r:embed="rId1"/>
          <a:stretch/>
        </p:blipFill>
        <p:spPr>
          <a:xfrm>
            <a:off x="-457200" y="-304920"/>
            <a:ext cx="10896480" cy="81727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979640" y="1916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101760" y="306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练习十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978640" y="40053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页第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3"/>
          <p:cNvPicPr/>
          <p:nvPr/>
        </p:nvPicPr>
        <p:blipFill>
          <a:blip r:embed="rId2"/>
          <a:stretch/>
        </p:blipFill>
        <p:spPr>
          <a:xfrm>
            <a:off x="6588000" y="1268280"/>
            <a:ext cx="914400" cy="6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981080" y="609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计量较重的或大宗物品的重量，通常用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做单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E:\我的课件\课件演示\吨的认识\1.jpg"/>
          <p:cNvPicPr/>
          <p:nvPr/>
        </p:nvPicPr>
        <p:blipFill>
          <a:blip r:embed="rId1"/>
          <a:srcRect l="11761" t="32655" r="4122" b="6389"/>
          <a:stretch/>
        </p:blipFill>
        <p:spPr>
          <a:xfrm>
            <a:off x="914400" y="2666880"/>
            <a:ext cx="7772400" cy="30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E:\我的课件\课件演示\吨的认识\2.jpg"/>
          <p:cNvPicPr/>
          <p:nvPr/>
        </p:nvPicPr>
        <p:blipFill>
          <a:blip r:embed="rId1"/>
          <a:stretch/>
        </p:blipFill>
        <p:spPr>
          <a:xfrm>
            <a:off x="457200" y="709560"/>
            <a:ext cx="8686800" cy="59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6" descr="E:\我的课件\课件演示\吨的认识\3.jpg"/>
          <p:cNvPicPr/>
          <p:nvPr/>
        </p:nvPicPr>
        <p:blipFill>
          <a:blip r:embed="rId1"/>
          <a:stretch/>
        </p:blipFill>
        <p:spPr>
          <a:xfrm>
            <a:off x="-380880" y="609480"/>
            <a:ext cx="9905760" cy="4800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"/>
          <p:cNvSpPr/>
          <p:nvPr/>
        </p:nvSpPr>
        <p:spPr>
          <a:xfrm>
            <a:off x="2819160" y="231444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392000" y="3032280"/>
            <a:ext cx="49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401520" y="41972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E:\我的课件\课件演示\吨的认识\4.jpg"/>
          <p:cNvPicPr/>
          <p:nvPr/>
        </p:nvPicPr>
        <p:blipFill>
          <a:blip r:embed="rId1"/>
          <a:stretch/>
        </p:blipFill>
        <p:spPr>
          <a:xfrm>
            <a:off x="-304920" y="-14400"/>
            <a:ext cx="9068040" cy="6342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1568520" y="2562120"/>
            <a:ext cx="10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473280" y="256212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34120" y="2562120"/>
            <a:ext cx="10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705720" y="256212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219320" y="5564160"/>
            <a:ext cx="10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048120" y="556416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10080" y="556416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696080" y="5562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E:\我的课件\课件演示\吨的认识\5.jpg"/>
          <p:cNvPicPr/>
          <p:nvPr/>
        </p:nvPicPr>
        <p:blipFill>
          <a:blip r:embed="rId1"/>
          <a:stretch/>
        </p:blipFill>
        <p:spPr>
          <a:xfrm>
            <a:off x="152280" y="996840"/>
            <a:ext cx="883944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964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BJ_053"/>
          <p:cNvPicPr/>
          <p:nvPr/>
        </p:nvPicPr>
        <p:blipFill>
          <a:blip r:embed="rId4"/>
          <a:stretch/>
        </p:blipFill>
        <p:spPr>
          <a:xfrm>
            <a:off x="0" y="81000"/>
            <a:ext cx="9144000" cy="6777000"/>
          </a:xfrm>
          <a:prstGeom prst="rect">
            <a:avLst/>
          </a:prstGeom>
          <a:ln w="0">
            <a:noFill/>
          </a:ln>
        </p:spPr>
      </p:pic>
      <p:pic>
        <p:nvPicPr>
          <p:cNvPr id="106" name="WordArt 5" descr=""/>
          <p:cNvPicPr/>
          <p:nvPr/>
        </p:nvPicPr>
        <p:blipFill>
          <a:blip r:embed="rId5"/>
          <a:stretch/>
        </p:blipFill>
        <p:spPr>
          <a:xfrm>
            <a:off x="1432080" y="755640"/>
            <a:ext cx="6321240" cy="2212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950760" y="588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4211640" y="5877000"/>
            <a:ext cx="1143000" cy="551880"/>
            <a:chOff x="4211640" y="5877000"/>
            <a:chExt cx="1143000" cy="551880"/>
          </a:xfrm>
        </p:grpSpPr>
        <p:pic>
          <p:nvPicPr>
            <p:cNvPr id="109" name="Picture 8" descr="tn001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211640" y="5877000"/>
              <a:ext cx="1143000" cy="5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WordArt 9"/>
            <p:cNvSpPr txBox="1"/>
            <p:nvPr/>
          </p:nvSpPr>
          <p:spPr>
            <a:xfrm>
              <a:off x="4356000" y="5959080"/>
              <a:ext cx="863640" cy="41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华文行楷"/>
                </a:rPr>
                <a:t>游戏园</a:t>
              </a:r>
              <a:endParaRPr b="0" lang="en-US" sz="2400" spc="-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111" name="Group 10"/>
          <p:cNvGrpSpPr/>
          <p:nvPr/>
        </p:nvGrpSpPr>
        <p:grpSpPr>
          <a:xfrm>
            <a:off x="2492280" y="5877000"/>
            <a:ext cx="1143000" cy="551880"/>
            <a:chOff x="2492280" y="5877000"/>
            <a:chExt cx="1143000" cy="551880"/>
          </a:xfrm>
        </p:grpSpPr>
        <p:pic>
          <p:nvPicPr>
            <p:cNvPr id="112" name="Picture 11" descr="tn001"/>
            <p:cNvPicPr/>
            <p:nvPr/>
          </p:nvPicPr>
          <p:blipFill>
            <a:blip r:embed="rId8"/>
            <a:stretch/>
          </p:blipFill>
          <p:spPr>
            <a:xfrm>
              <a:off x="2492280" y="5877000"/>
              <a:ext cx="1143000" cy="5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WordArt 12"/>
            <p:cNvSpPr txBox="1"/>
            <p:nvPr/>
          </p:nvSpPr>
          <p:spPr>
            <a:xfrm>
              <a:off x="2563560" y="5960880"/>
              <a:ext cx="1008360" cy="33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华文行楷"/>
                </a:rPr>
                <a:t>巩固练习</a:t>
              </a:r>
              <a:endParaRPr b="0" lang="en-US" sz="2400" spc="-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114" name="Group 13"/>
          <p:cNvGrpSpPr/>
          <p:nvPr/>
        </p:nvGrpSpPr>
        <p:grpSpPr>
          <a:xfrm>
            <a:off x="5940360" y="5877000"/>
            <a:ext cx="1143000" cy="576000"/>
            <a:chOff x="5940360" y="5877000"/>
            <a:chExt cx="1143000" cy="576000"/>
          </a:xfrm>
        </p:grpSpPr>
        <p:pic>
          <p:nvPicPr>
            <p:cNvPr id="115" name="Picture 14" descr="tn001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940360" y="5877000"/>
              <a:ext cx="1143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15"/>
            <p:cNvSpPr txBox="1"/>
            <p:nvPr/>
          </p:nvSpPr>
          <p:spPr>
            <a:xfrm>
              <a:off x="6072120" y="5968440"/>
              <a:ext cx="936720" cy="34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华文行楷"/>
                </a:rPr>
                <a:t>扩展练习</a:t>
              </a:r>
              <a:endParaRPr b="0" lang="en-US" sz="2400" spc="-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117" name="Group 16"/>
          <p:cNvGrpSpPr/>
          <p:nvPr/>
        </p:nvGrpSpPr>
        <p:grpSpPr>
          <a:xfrm>
            <a:off x="765000" y="5877000"/>
            <a:ext cx="1143000" cy="551880"/>
            <a:chOff x="765000" y="5877000"/>
            <a:chExt cx="1143000" cy="551880"/>
          </a:xfrm>
        </p:grpSpPr>
        <p:pic>
          <p:nvPicPr>
            <p:cNvPr id="118" name="Picture 17" descr="tn001"/>
            <p:cNvPicPr/>
            <p:nvPr/>
          </p:nvPicPr>
          <p:blipFill>
            <a:blip r:embed="rId11"/>
            <a:stretch/>
          </p:blipFill>
          <p:spPr>
            <a:xfrm>
              <a:off x="765000" y="5877000"/>
              <a:ext cx="1143000" cy="5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18"/>
            <p:cNvSpPr txBox="1"/>
            <p:nvPr/>
          </p:nvSpPr>
          <p:spPr>
            <a:xfrm>
              <a:off x="909360" y="5959080"/>
              <a:ext cx="863640" cy="33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华文行楷"/>
                </a:rPr>
                <a:t>基础练习</a:t>
              </a:r>
              <a:endParaRPr b="0" lang="en-US" sz="2400" spc="-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8101080" y="5815080"/>
            <a:ext cx="1042920" cy="1042920"/>
            <a:chOff x="8101080" y="5815080"/>
            <a:chExt cx="1042920" cy="1042920"/>
          </a:xfrm>
        </p:grpSpPr>
        <p:pic>
          <p:nvPicPr>
            <p:cNvPr id="121" name="Picture 20" descr="tn033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8101080" y="5815080"/>
              <a:ext cx="10429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21"/>
            <p:cNvSpPr txBox="1"/>
            <p:nvPr/>
          </p:nvSpPr>
          <p:spPr>
            <a:xfrm>
              <a:off x="8174160" y="6102360"/>
              <a:ext cx="863640" cy="53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退出</a:t>
              </a:r>
              <a:endParaRPr b="0" lang="en-US" sz="2400" spc="-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77880" y="533520"/>
            <a:ext cx="487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新魏"/>
              </a:rPr>
              <a:t>基础练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38120" y="1447920"/>
            <a:ext cx="826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        ）千克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00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     ）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      ）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=800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千克  （          ）千克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=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029200" y="3962520"/>
            <a:ext cx="1600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500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52480" y="2824200"/>
            <a:ext cx="217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300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086600" y="2835360"/>
            <a:ext cx="655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066680" y="3800520"/>
            <a:ext cx="708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403280" y="907920"/>
            <a:ext cx="511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在○里填上＞、＜或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26920" y="1989000"/>
            <a:ext cx="7783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米 ○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毫米  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克 ○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吨 ○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405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千克    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时○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033960" y="3032280"/>
            <a:ext cx="441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71480" y="302904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472080" y="197172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747800" y="198108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44:44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