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BD4-6000-441A-89CE-8D757682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81168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EE2-E4AA-4A1C-8E1E-62F78AD1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892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D6F-5E3C-49A0-8744-C1C241D0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5396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864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5396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864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52A-30FC-4CD5-907A-E9949E91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6CC-AC82-45E7-AF71-8AA24DFC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174-DF52-4EE6-86B7-DEE643AC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709-DEEA-4360-B268-780C3687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B25-2378-4FDD-8CC0-1BFA6623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79280" y="115560"/>
            <a:ext cx="6840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51"/>
              </a:spcBef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B8F-CCE0-404A-92F1-B53FA349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A71-CE46-4959-9E76-62F70C13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892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ABB-BEC8-490B-9F9D-FE620E5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A64-8251-4FD1-9CDB-588F9CA8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rcRect l="0" t="0" r="288" b="1642"/>
          <a:stretch/>
        </p:blipFill>
        <p:spPr>
          <a:xfrm>
            <a:off x="-7920" y="-4680"/>
            <a:ext cx="915192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</a:tabLst>
              <a:defRPr b="1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</a:tabLst>
            </a:pPr>
            <a:fld id="{46BA618B-5E0E-40B0-B69C-33F50C2812D7}" type="datetime">
              <a:rPr b="1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26/7/31</a:t>
            </a:fld>
            <a:endParaRPr b="1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1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7709BE29-C1E3-4C0F-8B51-D3BA49A51D48}" type="slidenum">
              <a:rPr b="1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1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1"/>
          <a:srcRect l="576" t="390" r="576" b="2090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575160"/>
            <a:ext cx="8137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3b3b3b"/>
                </a:solidFill>
                <a:latin typeface="微软雅黑"/>
                <a:ea typeface="微软雅黑"/>
              </a:rPr>
              <a:t>大学生职业生涯规划</a:t>
            </a:r>
            <a:r>
              <a:rPr b="1" lang="zh-CN" sz="5400" spc="-1" strike="noStrike">
                <a:solidFill>
                  <a:srgbClr val="3b3b3b"/>
                </a:solidFill>
                <a:latin typeface="微软雅黑"/>
                <a:ea typeface="微软雅黑"/>
              </a:rPr>
              <a:t>PPT</a:t>
            </a:r>
            <a:endParaRPr b="1" lang="en-US" sz="5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71360" y="5472720"/>
            <a:ext cx="332856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84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设定行动计划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26920" y="1773360"/>
            <a:ext cx="7848720" cy="4319640"/>
            <a:chOff x="826920" y="1773360"/>
            <a:chExt cx="7848720" cy="4319640"/>
          </a:xfrm>
        </p:grpSpPr>
        <p:sp>
          <p:nvSpPr>
            <p:cNvPr id="245" name=""/>
            <p:cNvSpPr/>
            <p:nvPr/>
          </p:nvSpPr>
          <p:spPr>
            <a:xfrm>
              <a:off x="2610000" y="1773360"/>
              <a:ext cx="6065640" cy="2094120"/>
            </a:xfrm>
            <a:prstGeom prst="rightArrow">
              <a:avLst>
                <a:gd name="adj1" fmla="val 75000"/>
                <a:gd name="adj2" fmla="val 49120"/>
              </a:avLst>
            </a:prstGeom>
            <a:solidFill>
              <a:srgbClr val="cae2f8">
                <a:alpha val="89000"/>
              </a:srgbClr>
            </a:solidFill>
            <a:ln w="25560">
              <a:solidFill>
                <a:srgbClr val="cae2f8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6920" y="2241000"/>
              <a:ext cx="1779480" cy="1159920"/>
            </a:xfrm>
            <a:prstGeom prst="roundRect">
              <a:avLst>
                <a:gd name="adj" fmla="val 16667"/>
              </a:avLst>
            </a:pr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82360" y="2297520"/>
              <a:ext cx="166824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应对劣势</a:t>
              </a:r>
              <a:endParaRPr b="1" lang="en-US" sz="2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10000" y="3998880"/>
              <a:ext cx="6065640" cy="2094120"/>
            </a:xfrm>
            <a:prstGeom prst="rightArrow">
              <a:avLst>
                <a:gd name="adj1" fmla="val 75000"/>
                <a:gd name="adj2" fmla="val 49120"/>
              </a:avLst>
            </a:prstGeom>
            <a:solidFill>
              <a:srgbClr val="fee5c8">
                <a:alpha val="89000"/>
              </a:srgbClr>
            </a:solidFill>
            <a:ln w="25560">
              <a:solidFill>
                <a:srgbClr val="fee5c8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6920" y="4544640"/>
              <a:ext cx="1779480" cy="1159920"/>
            </a:xfrm>
            <a:prstGeom prst="roundRect">
              <a:avLst>
                <a:gd name="adj" fmla="val 16667"/>
              </a:avLst>
            </a:prstGeom>
            <a:solidFill>
              <a:srgbClr val="fdbe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2360" y="4601160"/>
              <a:ext cx="166824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应对威胁</a:t>
              </a:r>
              <a:endParaRPr b="1" lang="en-US" sz="2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EF7-9EB9-403F-BC5C-E5E01AFDC6CB}" type="slidenum">
              <a:t>10</a:t>
            </a:fld>
          </a:p>
        </p:txBody>
      </p:sp>
    </p:spTree>
  </p:cSld>
  <p:transition spd="slow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6200" y="476280"/>
            <a:ext cx="6842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生涯愿景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10960" y="836640"/>
            <a:ext cx="8936280" cy="5905440"/>
            <a:chOff x="210960" y="836640"/>
            <a:chExt cx="8936280" cy="5905440"/>
          </a:xfrm>
        </p:grpSpPr>
        <p:sp>
          <p:nvSpPr>
            <p:cNvPr id="253" name=""/>
            <p:cNvSpPr/>
            <p:nvPr/>
          </p:nvSpPr>
          <p:spPr>
            <a:xfrm>
              <a:off x="210960" y="836640"/>
              <a:ext cx="8936280" cy="1636560"/>
            </a:xfrm>
            <a:prstGeom prst="rightArrow">
              <a:avLst>
                <a:gd name="adj1" fmla="val 50000"/>
                <a:gd name="adj2" fmla="val 397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0960" y="1245600"/>
              <a:ext cx="861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短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0960" y="2101320"/>
              <a:ext cx="2059560" cy="302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0960" y="2101320"/>
              <a:ext cx="205956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70520" y="1381680"/>
              <a:ext cx="6876720" cy="1636560"/>
            </a:xfrm>
            <a:prstGeom prst="rightArrow">
              <a:avLst>
                <a:gd name="adj1" fmla="val 50000"/>
                <a:gd name="adj2" fmla="val 3974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70520" y="1791000"/>
              <a:ext cx="65512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中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70520" y="2646720"/>
              <a:ext cx="2059560" cy="295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70520" y="2646720"/>
              <a:ext cx="2059560" cy="29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30440" y="1927080"/>
              <a:ext cx="4816800" cy="1636560"/>
            </a:xfrm>
            <a:prstGeom prst="rightArrow">
              <a:avLst>
                <a:gd name="adj1" fmla="val 50000"/>
                <a:gd name="adj2" fmla="val 397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30440" y="2336400"/>
              <a:ext cx="44913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长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30440" y="3192120"/>
              <a:ext cx="2059560" cy="29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b0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30440" y="3192120"/>
              <a:ext cx="2059560" cy="29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90360" y="2472480"/>
              <a:ext cx="2756880" cy="1636560"/>
            </a:xfrm>
            <a:prstGeom prst="rightArrow">
              <a:avLst>
                <a:gd name="adj1" fmla="val 50000"/>
                <a:gd name="adj2" fmla="val 3974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90360" y="2881800"/>
              <a:ext cx="243144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人生理想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90360" y="3737520"/>
              <a:ext cx="2078640" cy="30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a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90360" y="3737520"/>
              <a:ext cx="2078640" cy="30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264-5964-406C-93EC-F4B6B4618A05}" type="slidenum">
              <a:t>11</a:t>
            </a:fld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3280" y="835200"/>
            <a:ext cx="6842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及时评估标准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618920" y="765000"/>
            <a:ext cx="727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544-2014-4970-8657-A8D89B5642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087640" y="2198520"/>
            <a:ext cx="540072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cademy Engraved LET"/>
              </a:rPr>
              <a:t>Thanks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Academy Engraved LET"/>
              </a:rPr>
              <a:t>Any Question</a:t>
            </a:r>
            <a:r>
              <a:rPr b="0" lang="zh-CN" sz="3600" spc="-1" strike="noStrike">
                <a:solidFill>
                  <a:srgbClr val="262626"/>
                </a:solidFill>
                <a:latin typeface="Academy Engraved LET"/>
              </a:rPr>
              <a:t>？</a:t>
            </a:r>
            <a:endParaRPr b="1" lang="en-US" sz="36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76920" y="4021560"/>
            <a:ext cx="3423600" cy="302400"/>
          </a:xfrm>
          <a:prstGeom prst="rect">
            <a:avLst/>
          </a:prstGeom>
          <a:solidFill>
            <a:srgbClr val="0082b3"/>
          </a:solidFill>
          <a:ln w="0">
            <a:noFill/>
          </a:ln>
        </p:spPr>
        <p:txBody>
          <a:bodyPr lIns="90000" rIns="90000" tIns="46800" bIns="46800" anchor="ctr">
            <a:normAutofit fontScale="65000"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谢谢大家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704-9631-4B2F-89CF-95CA224D0D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3c3c3c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539640" y="1197000"/>
            <a:ext cx="8209080" cy="4280040"/>
            <a:chOff x="539640" y="1197000"/>
            <a:chExt cx="8209080" cy="4280040"/>
          </a:xfrm>
        </p:grpSpPr>
        <p:sp>
          <p:nvSpPr>
            <p:cNvPr id="46" name=""/>
            <p:cNvSpPr/>
            <p:nvPr/>
          </p:nvSpPr>
          <p:spPr>
            <a:xfrm>
              <a:off x="1186920" y="1197000"/>
              <a:ext cx="6979320" cy="428004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cae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36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个人生涯规划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2260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7696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自我认知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0592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b008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5992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职业生涯机会评估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892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32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确定职业发展目标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220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2656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设定行动计划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5552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0952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及时评估调整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388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928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结束语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0A2-2B39-4C5B-B17B-0675B6667647}" type="slidenum">
              <a:t>2</a:t>
            </a:fld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203640" y="851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明确职业方向</a:t>
            </a:r>
            <a:endParaRPr b="1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684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生涯愿景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98080" y="1773000"/>
            <a:ext cx="7481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96000" y="1052640"/>
            <a:ext cx="424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自我评估</a:t>
            </a:r>
            <a:endParaRPr b="1" lang="en-US" sz="72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24000" y="333360"/>
            <a:ext cx="4824360" cy="6048360"/>
            <a:chOff x="324000" y="333360"/>
            <a:chExt cx="4824360" cy="6048360"/>
          </a:xfrm>
        </p:grpSpPr>
        <p:sp>
          <p:nvSpPr>
            <p:cNvPr id="67" name=""/>
            <p:cNvSpPr/>
            <p:nvPr/>
          </p:nvSpPr>
          <p:spPr>
            <a:xfrm>
              <a:off x="324000" y="66780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00" y="66780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5200" y="33336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6880" y="36576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姓名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169632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4000" y="169632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5200" y="136188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6880" y="139428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学校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272484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eb0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4000" y="272484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5200" y="239040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6880" y="242280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院系班级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375336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75336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5200" y="341892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6880" y="345132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性格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78188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000" y="478188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5200" y="444744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6880" y="447984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兴趣爱好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81040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581040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5200" y="547596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6880" y="550836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自我评价 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017-9F7F-4310-863D-2E5F52F89DFC}" type="slidenum">
              <a:t>5</a:t>
            </a:fld>
          </a:p>
        </p:txBody>
      </p:sp>
    </p:spTree>
  </p:cSld>
  <p:transition spd="slow">
    <p:push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920" y="40464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环境评估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34920" y="1557360"/>
            <a:ext cx="6893280" cy="4906800"/>
            <a:chOff x="1834920" y="1557360"/>
            <a:chExt cx="6893280" cy="4906800"/>
          </a:xfrm>
        </p:grpSpPr>
        <p:sp>
          <p:nvSpPr>
            <p:cNvPr id="93" name=""/>
            <p:cNvSpPr/>
            <p:nvPr/>
          </p:nvSpPr>
          <p:spPr>
            <a:xfrm rot="5400000">
              <a:off x="1570320" y="182268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7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35280" y="217548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家庭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5325840" y="-69876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7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69720" y="161316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1570320" y="339372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35280" y="374652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教育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5325840" y="87264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69720" y="318528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570320" y="496512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35280" y="531792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社会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5325840" y="244404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69720" y="475668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F8F-0C25-41B5-8CB9-BAD99DA9F1C5}" type="slidenum">
              <a:t>6</a:t>
            </a:fld>
          </a:p>
        </p:txBody>
      </p:sp>
    </p:spTree>
  </p:cSld>
  <p:transition spd="slow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5" descr=""/>
          <p:cNvPicPr/>
          <p:nvPr/>
        </p:nvPicPr>
        <p:blipFill>
          <a:blip r:embed="rId1"/>
          <a:stretch/>
        </p:blipFill>
        <p:spPr>
          <a:xfrm>
            <a:off x="1763640" y="1014480"/>
            <a:ext cx="6639120" cy="5583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6"/>
          <p:cNvSpPr/>
          <p:nvPr/>
        </p:nvSpPr>
        <p:spPr>
          <a:xfrm>
            <a:off x="4330800" y="3328920"/>
            <a:ext cx="15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会展策划师</a:t>
            </a:r>
            <a:endParaRPr b="1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5989680" y="1332000"/>
            <a:ext cx="124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gency FB"/>
                <a:ea typeface="微软雅黑"/>
              </a:rPr>
              <a:t>01</a:t>
            </a:r>
            <a:endParaRPr b="1" lang="en-US" sz="5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7020000" y="480996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2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2973240" y="571032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3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1979640" y="218448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4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标题 1"/>
          <p:cNvSpPr/>
          <p:nvPr/>
        </p:nvSpPr>
        <p:spPr>
          <a:xfrm>
            <a:off x="1879560" y="252360"/>
            <a:ext cx="6840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3b3b3b"/>
                </a:solidFill>
                <a:latin typeface="微软雅黑"/>
                <a:ea typeface="微软雅黑"/>
              </a:rPr>
              <a:t>职业认识</a:t>
            </a:r>
            <a:endParaRPr b="1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6320" y="3668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职业定位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pic>
        <p:nvPicPr>
          <p:cNvPr id="113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2994120" y="5386320"/>
            <a:ext cx="4110120" cy="11383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66"/>
          <p:cNvGrpSpPr/>
          <p:nvPr/>
        </p:nvGrpSpPr>
        <p:grpSpPr>
          <a:xfrm>
            <a:off x="3282840" y="2144880"/>
            <a:ext cx="3471840" cy="3466800"/>
            <a:chOff x="3282840" y="2144880"/>
            <a:chExt cx="3471840" cy="3466800"/>
          </a:xfrm>
        </p:grpSpPr>
        <p:sp>
          <p:nvSpPr>
            <p:cNvPr id="115" name="Oval 6"/>
            <p:cNvSpPr/>
            <p:nvPr/>
          </p:nvSpPr>
          <p:spPr>
            <a:xfrm>
              <a:off x="3282840" y="2144880"/>
              <a:ext cx="3471840" cy="34668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6" name="Oval 8"/>
            <p:cNvSpPr/>
            <p:nvPr/>
          </p:nvSpPr>
          <p:spPr>
            <a:xfrm>
              <a:off x="3294000" y="2153880"/>
              <a:ext cx="3449520" cy="344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7" name="Oval 9"/>
            <p:cNvSpPr/>
            <p:nvPr/>
          </p:nvSpPr>
          <p:spPr>
            <a:xfrm>
              <a:off x="3649680" y="2509560"/>
              <a:ext cx="2739960" cy="273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3992400" y="2850840"/>
              <a:ext cx="2052720" cy="205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4316400" y="3176280"/>
              <a:ext cx="1407960" cy="14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 flipV="1">
              <a:off x="4597200" y="3455640"/>
              <a:ext cx="846360" cy="8460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1" name="Text Box 67"/>
            <p:cNvSpPr/>
            <p:nvPr/>
          </p:nvSpPr>
          <p:spPr>
            <a:xfrm>
              <a:off x="4902120" y="229680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1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2" name="Text Box 67"/>
            <p:cNvSpPr/>
            <p:nvPr/>
          </p:nvSpPr>
          <p:spPr>
            <a:xfrm>
              <a:off x="4902120" y="263664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2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3" name="Text Box 67"/>
            <p:cNvSpPr/>
            <p:nvPr/>
          </p:nvSpPr>
          <p:spPr>
            <a:xfrm>
              <a:off x="4902120" y="296208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4" name="Text Box 67"/>
            <p:cNvSpPr/>
            <p:nvPr/>
          </p:nvSpPr>
          <p:spPr>
            <a:xfrm>
              <a:off x="4902120" y="3314520"/>
              <a:ext cx="26496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4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25" name="Group 117"/>
          <p:cNvGrpSpPr/>
          <p:nvPr/>
        </p:nvGrpSpPr>
        <p:grpSpPr>
          <a:xfrm>
            <a:off x="4191120" y="3208320"/>
            <a:ext cx="609480" cy="609480"/>
            <a:chOff x="4191120" y="3208320"/>
            <a:chExt cx="609480" cy="609480"/>
          </a:xfrm>
        </p:grpSpPr>
        <p:sp>
          <p:nvSpPr>
            <p:cNvPr id="126" name="Oval 113"/>
            <p:cNvSpPr/>
            <p:nvPr/>
          </p:nvSpPr>
          <p:spPr>
            <a:xfrm>
              <a:off x="4286520" y="330372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7" name="Oval 115"/>
            <p:cNvSpPr/>
            <p:nvPr/>
          </p:nvSpPr>
          <p:spPr>
            <a:xfrm>
              <a:off x="4407120" y="3424320"/>
              <a:ext cx="177840" cy="1778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8" name="Oval 116"/>
            <p:cNvSpPr/>
            <p:nvPr/>
          </p:nvSpPr>
          <p:spPr>
            <a:xfrm>
              <a:off x="4191120" y="320832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29" name="Group 135"/>
          <p:cNvGrpSpPr/>
          <p:nvPr/>
        </p:nvGrpSpPr>
        <p:grpSpPr>
          <a:xfrm>
            <a:off x="5305320" y="3352680"/>
            <a:ext cx="609480" cy="609480"/>
            <a:chOff x="5305320" y="3352680"/>
            <a:chExt cx="609480" cy="609480"/>
          </a:xfrm>
        </p:grpSpPr>
        <p:sp>
          <p:nvSpPr>
            <p:cNvPr id="130" name="Oval 136"/>
            <p:cNvSpPr/>
            <p:nvPr/>
          </p:nvSpPr>
          <p:spPr>
            <a:xfrm>
              <a:off x="5400720" y="344808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1" name="Oval 137"/>
            <p:cNvSpPr/>
            <p:nvPr/>
          </p:nvSpPr>
          <p:spPr>
            <a:xfrm>
              <a:off x="5521320" y="356868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2" name="Oval 138"/>
            <p:cNvSpPr/>
            <p:nvPr/>
          </p:nvSpPr>
          <p:spPr>
            <a:xfrm>
              <a:off x="5305320" y="335268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33" name="Group 139"/>
          <p:cNvGrpSpPr/>
          <p:nvPr/>
        </p:nvGrpSpPr>
        <p:grpSpPr>
          <a:xfrm>
            <a:off x="4728240" y="3162240"/>
            <a:ext cx="722520" cy="722880"/>
            <a:chOff x="4728240" y="3162240"/>
            <a:chExt cx="722520" cy="722880"/>
          </a:xfrm>
        </p:grpSpPr>
        <p:sp>
          <p:nvSpPr>
            <p:cNvPr id="134" name="Oval 140"/>
            <p:cNvSpPr/>
            <p:nvPr/>
          </p:nvSpPr>
          <p:spPr>
            <a:xfrm rot="15481200">
              <a:off x="4879800" y="331380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5" name="Oval 141"/>
            <p:cNvSpPr/>
            <p:nvPr/>
          </p:nvSpPr>
          <p:spPr>
            <a:xfrm rot="15481200">
              <a:off x="5000400" y="343476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6" name="Oval 142"/>
            <p:cNvSpPr/>
            <p:nvPr/>
          </p:nvSpPr>
          <p:spPr>
            <a:xfrm rot="15481200">
              <a:off x="4784400" y="321876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37" name="Group 203"/>
          <p:cNvGrpSpPr/>
          <p:nvPr/>
        </p:nvGrpSpPr>
        <p:grpSpPr>
          <a:xfrm>
            <a:off x="2544840" y="2384280"/>
            <a:ext cx="1953720" cy="1729080"/>
            <a:chOff x="2544840" y="2384280"/>
            <a:chExt cx="1953720" cy="1729080"/>
          </a:xfrm>
        </p:grpSpPr>
        <p:grpSp>
          <p:nvGrpSpPr>
            <p:cNvPr id="138" name="Group 204"/>
            <p:cNvGrpSpPr/>
            <p:nvPr/>
          </p:nvGrpSpPr>
          <p:grpSpPr>
            <a:xfrm>
              <a:off x="2544840" y="2384280"/>
              <a:ext cx="1864440" cy="1729080"/>
              <a:chOff x="2544840" y="2384280"/>
              <a:chExt cx="1864440" cy="1729080"/>
            </a:xfrm>
          </p:grpSpPr>
          <p:sp>
            <p:nvSpPr>
              <p:cNvPr id="139" name="Freeform 205"/>
              <p:cNvSpPr/>
              <p:nvPr/>
            </p:nvSpPr>
            <p:spPr>
              <a:xfrm rot="19522800">
                <a:off x="3452040" y="2945160"/>
                <a:ext cx="779040" cy="869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0" name="Freeform 206"/>
              <p:cNvSpPr/>
              <p:nvPr/>
            </p:nvSpPr>
            <p:spPr>
              <a:xfrm rot="19522800">
                <a:off x="2656800" y="3145320"/>
                <a:ext cx="1069200" cy="728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1" name="Freeform 207"/>
              <p:cNvSpPr/>
              <p:nvPr/>
            </p:nvSpPr>
            <p:spPr>
              <a:xfrm rot="19522800">
                <a:off x="2851920" y="2517120"/>
                <a:ext cx="816840" cy="111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4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2" name="Freeform 208"/>
              <p:cNvSpPr/>
              <p:nvPr/>
            </p:nvSpPr>
            <p:spPr>
              <a:xfrm rot="19522800">
                <a:off x="3090600" y="3008880"/>
                <a:ext cx="640440" cy="88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3" name="Freeform 209"/>
              <p:cNvSpPr/>
              <p:nvPr/>
            </p:nvSpPr>
            <p:spPr>
              <a:xfrm rot="19522800">
                <a:off x="2966760" y="2887200"/>
                <a:ext cx="926280" cy="673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1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0"/>
            <p:cNvGrpSpPr/>
            <p:nvPr/>
          </p:nvGrpSpPr>
          <p:grpSpPr>
            <a:xfrm>
              <a:off x="4110120" y="3341160"/>
              <a:ext cx="388440" cy="304200"/>
              <a:chOff x="4110120" y="3341160"/>
              <a:chExt cx="388440" cy="304200"/>
            </a:xfrm>
          </p:grpSpPr>
          <p:sp>
            <p:nvSpPr>
              <p:cNvPr id="145" name="Freeform 211"/>
              <p:cNvSpPr/>
              <p:nvPr/>
            </p:nvSpPr>
            <p:spPr>
              <a:xfrm rot="19522800">
                <a:off x="4343400" y="3443400"/>
                <a:ext cx="129960" cy="12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1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6" name="Freeform 212"/>
              <p:cNvSpPr/>
              <p:nvPr/>
            </p:nvSpPr>
            <p:spPr>
              <a:xfrm rot="19522800">
                <a:off x="4150800" y="3385800"/>
                <a:ext cx="224640" cy="214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13"/>
            <p:cNvGrpSpPr/>
            <p:nvPr/>
          </p:nvGrpSpPr>
          <p:grpSpPr>
            <a:xfrm>
              <a:off x="4128480" y="3395880"/>
              <a:ext cx="267840" cy="166680"/>
              <a:chOff x="4128480" y="3395880"/>
              <a:chExt cx="267840" cy="166680"/>
            </a:xfrm>
          </p:grpSpPr>
          <p:sp>
            <p:nvSpPr>
              <p:cNvPr id="148" name="Freeform 214"/>
              <p:cNvSpPr/>
              <p:nvPr/>
            </p:nvSpPr>
            <p:spPr>
              <a:xfrm rot="19522800">
                <a:off x="4173120" y="3430800"/>
                <a:ext cx="127440" cy="10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9" name="Freeform 215"/>
              <p:cNvSpPr/>
              <p:nvPr/>
            </p:nvSpPr>
            <p:spPr>
              <a:xfrm rot="19522800">
                <a:off x="4147560" y="3423960"/>
                <a:ext cx="132840" cy="10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0" name="Freeform 216"/>
              <p:cNvSpPr/>
              <p:nvPr/>
            </p:nvSpPr>
            <p:spPr>
              <a:xfrm rot="19522800">
                <a:off x="4195080" y="3436920"/>
                <a:ext cx="123120" cy="99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1" name="Freeform 217"/>
              <p:cNvSpPr/>
              <p:nvPr/>
            </p:nvSpPr>
            <p:spPr>
              <a:xfrm rot="19522800">
                <a:off x="4262040" y="3455280"/>
                <a:ext cx="104040" cy="8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2" name="Freeform 218"/>
              <p:cNvSpPr/>
              <p:nvPr/>
            </p:nvSpPr>
            <p:spPr>
              <a:xfrm rot="19522800">
                <a:off x="4242960" y="3450240"/>
                <a:ext cx="107640" cy="89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3" name="Freeform 219"/>
              <p:cNvSpPr/>
              <p:nvPr/>
            </p:nvSpPr>
            <p:spPr>
              <a:xfrm rot="19522800">
                <a:off x="4281840" y="3459600"/>
                <a:ext cx="99720" cy="8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257"/>
          <p:cNvGrpSpPr/>
          <p:nvPr/>
        </p:nvGrpSpPr>
        <p:grpSpPr>
          <a:xfrm>
            <a:off x="5601600" y="2478240"/>
            <a:ext cx="2000160" cy="1701360"/>
            <a:chOff x="5601600" y="2478240"/>
            <a:chExt cx="2000160" cy="1701360"/>
          </a:xfrm>
        </p:grpSpPr>
        <p:grpSp>
          <p:nvGrpSpPr>
            <p:cNvPr id="155" name="Group 254"/>
            <p:cNvGrpSpPr/>
            <p:nvPr/>
          </p:nvGrpSpPr>
          <p:grpSpPr>
            <a:xfrm>
              <a:off x="5686920" y="2478240"/>
              <a:ext cx="1914840" cy="1701360"/>
              <a:chOff x="5686920" y="2478240"/>
              <a:chExt cx="1914840" cy="1701360"/>
            </a:xfrm>
          </p:grpSpPr>
          <p:sp>
            <p:nvSpPr>
              <p:cNvPr id="156" name="Freeform 239"/>
              <p:cNvSpPr/>
              <p:nvPr/>
            </p:nvSpPr>
            <p:spPr>
              <a:xfrm rot="7222800">
                <a:off x="5869800" y="3078720"/>
                <a:ext cx="778320" cy="870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5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7" name="Freeform 240"/>
              <p:cNvSpPr/>
              <p:nvPr/>
            </p:nvSpPr>
            <p:spPr>
              <a:xfrm rot="7222800">
                <a:off x="6261120" y="2759040"/>
                <a:ext cx="1068480" cy="72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8" name="Freeform 241"/>
              <p:cNvSpPr/>
              <p:nvPr/>
            </p:nvSpPr>
            <p:spPr>
              <a:xfrm rot="7222800">
                <a:off x="6506280" y="2988360"/>
                <a:ext cx="816480" cy="1114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9" name="Freeform 242"/>
              <p:cNvSpPr/>
              <p:nvPr/>
            </p:nvSpPr>
            <p:spPr>
              <a:xfrm rot="7222800">
                <a:off x="6299280" y="2820960"/>
                <a:ext cx="638640" cy="88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0" name="Freeform 243"/>
              <p:cNvSpPr/>
              <p:nvPr/>
            </p:nvSpPr>
            <p:spPr>
              <a:xfrm rot="7222800">
                <a:off x="6236280" y="3141720"/>
                <a:ext cx="92412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6"/>
            <p:cNvGrpSpPr/>
            <p:nvPr/>
          </p:nvGrpSpPr>
          <p:grpSpPr>
            <a:xfrm>
              <a:off x="5601600" y="3437640"/>
              <a:ext cx="375840" cy="303120"/>
              <a:chOff x="5601600" y="3437640"/>
              <a:chExt cx="375840" cy="303120"/>
            </a:xfrm>
          </p:grpSpPr>
          <p:sp>
            <p:nvSpPr>
              <p:cNvPr id="162" name="Freeform 245"/>
              <p:cNvSpPr/>
              <p:nvPr/>
            </p:nvSpPr>
            <p:spPr>
              <a:xfrm rot="7222800">
                <a:off x="5625000" y="3573360"/>
                <a:ext cx="130320" cy="129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3" name="Freeform 246"/>
              <p:cNvSpPr/>
              <p:nvPr/>
            </p:nvSpPr>
            <p:spPr>
              <a:xfrm rot="7222800">
                <a:off x="5714640" y="3481200"/>
                <a:ext cx="225360" cy="21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55"/>
            <p:cNvGrpSpPr/>
            <p:nvPr/>
          </p:nvGrpSpPr>
          <p:grpSpPr>
            <a:xfrm>
              <a:off x="5704560" y="3494160"/>
              <a:ext cx="256680" cy="178200"/>
              <a:chOff x="5704560" y="3494160"/>
              <a:chExt cx="256680" cy="178200"/>
            </a:xfrm>
          </p:grpSpPr>
          <p:sp>
            <p:nvSpPr>
              <p:cNvPr id="165" name="Freeform 248"/>
              <p:cNvSpPr/>
              <p:nvPr/>
            </p:nvSpPr>
            <p:spPr>
              <a:xfrm rot="7222800">
                <a:off x="5797080" y="3533760"/>
                <a:ext cx="12564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6" name="Freeform 249"/>
              <p:cNvSpPr/>
              <p:nvPr/>
            </p:nvSpPr>
            <p:spPr>
              <a:xfrm rot="7222800">
                <a:off x="5814360" y="3524040"/>
                <a:ext cx="132120" cy="10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7" name="Freeform 250"/>
              <p:cNvSpPr/>
              <p:nvPr/>
            </p:nvSpPr>
            <p:spPr>
              <a:xfrm rot="7222800">
                <a:off x="5776200" y="3540960"/>
                <a:ext cx="120600" cy="98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8" name="Freeform 251"/>
              <p:cNvSpPr/>
              <p:nvPr/>
            </p:nvSpPr>
            <p:spPr>
              <a:xfrm rot="7222800">
                <a:off x="5732280" y="3565080"/>
                <a:ext cx="103680" cy="82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9" name="Freeform 252"/>
              <p:cNvSpPr/>
              <p:nvPr/>
            </p:nvSpPr>
            <p:spPr>
              <a:xfrm rot="7222800">
                <a:off x="5746320" y="3556440"/>
                <a:ext cx="106920" cy="8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0" name="Freeform 253"/>
              <p:cNvSpPr/>
              <p:nvPr/>
            </p:nvSpPr>
            <p:spPr>
              <a:xfrm rot="7222800">
                <a:off x="5715720" y="3567600"/>
                <a:ext cx="99000" cy="82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295"/>
          <p:cNvGrpSpPr/>
          <p:nvPr/>
        </p:nvGrpSpPr>
        <p:grpSpPr>
          <a:xfrm>
            <a:off x="5237640" y="4020480"/>
            <a:ext cx="1553040" cy="1597680"/>
            <a:chOff x="5237640" y="4020480"/>
            <a:chExt cx="1553040" cy="1597680"/>
          </a:xfrm>
        </p:grpSpPr>
        <p:grpSp>
          <p:nvGrpSpPr>
            <p:cNvPr id="172" name="Group 292"/>
            <p:cNvGrpSpPr/>
            <p:nvPr/>
          </p:nvGrpSpPr>
          <p:grpSpPr>
            <a:xfrm>
              <a:off x="5296320" y="4073400"/>
              <a:ext cx="1494360" cy="1544760"/>
              <a:chOff x="5296320" y="4073400"/>
              <a:chExt cx="1494360" cy="1544760"/>
            </a:xfrm>
          </p:grpSpPr>
          <p:sp>
            <p:nvSpPr>
              <p:cNvPr id="173" name="Freeform 277"/>
              <p:cNvSpPr/>
              <p:nvPr/>
            </p:nvSpPr>
            <p:spPr>
              <a:xfrm rot="10843800">
                <a:off x="5301720" y="4078080"/>
                <a:ext cx="755640" cy="84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5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4" name="Freeform 278"/>
              <p:cNvSpPr/>
              <p:nvPr/>
            </p:nvSpPr>
            <p:spPr>
              <a:xfrm rot="10843800">
                <a:off x="5747760" y="4410000"/>
                <a:ext cx="1038240" cy="70776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5" name="Freeform 279"/>
              <p:cNvSpPr/>
              <p:nvPr/>
            </p:nvSpPr>
            <p:spPr>
              <a:xfrm rot="10843800">
                <a:off x="5572080" y="4530600"/>
                <a:ext cx="792000" cy="108252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6" name="Freeform 280"/>
              <p:cNvSpPr/>
              <p:nvPr/>
            </p:nvSpPr>
            <p:spPr>
              <a:xfrm rot="10843800">
                <a:off x="5751360" y="4256280"/>
                <a:ext cx="620640" cy="86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7" name="Freeform 281"/>
              <p:cNvSpPr/>
              <p:nvPr/>
            </p:nvSpPr>
            <p:spPr>
              <a:xfrm rot="10843800">
                <a:off x="5469840" y="4527360"/>
                <a:ext cx="898560" cy="65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294"/>
            <p:cNvGrpSpPr/>
            <p:nvPr/>
          </p:nvGrpSpPr>
          <p:grpSpPr>
            <a:xfrm>
              <a:off x="5237640" y="4020480"/>
              <a:ext cx="281520" cy="262080"/>
              <a:chOff x="5237640" y="4020480"/>
              <a:chExt cx="281520" cy="262080"/>
            </a:xfrm>
          </p:grpSpPr>
          <p:sp>
            <p:nvSpPr>
              <p:cNvPr id="179" name="Freeform 283"/>
              <p:cNvSpPr/>
              <p:nvPr/>
            </p:nvSpPr>
            <p:spPr>
              <a:xfrm rot="10843800">
                <a:off x="5238360" y="4020840"/>
                <a:ext cx="127080" cy="12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0" name="Freeform 284"/>
              <p:cNvSpPr/>
              <p:nvPr/>
            </p:nvSpPr>
            <p:spPr>
              <a:xfrm rot="10843800">
                <a:off x="5300280" y="4073400"/>
                <a:ext cx="217440" cy="2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293"/>
            <p:cNvGrpSpPr/>
            <p:nvPr/>
          </p:nvGrpSpPr>
          <p:grpSpPr>
            <a:xfrm>
              <a:off x="5309280" y="4092120"/>
              <a:ext cx="198360" cy="175320"/>
              <a:chOff x="5309280" y="4092120"/>
              <a:chExt cx="198360" cy="175320"/>
            </a:xfrm>
          </p:grpSpPr>
          <p:sp>
            <p:nvSpPr>
              <p:cNvPr id="182" name="Freeform 286"/>
              <p:cNvSpPr/>
              <p:nvPr/>
            </p:nvSpPr>
            <p:spPr>
              <a:xfrm rot="10843800">
                <a:off x="5363640" y="4147560"/>
                <a:ext cx="123840" cy="10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3" name="Freeform 287"/>
              <p:cNvSpPr/>
              <p:nvPr/>
            </p:nvSpPr>
            <p:spPr>
              <a:xfrm rot="10843800">
                <a:off x="5376240" y="4160160"/>
                <a:ext cx="130320" cy="10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4" name="Freeform 288"/>
              <p:cNvSpPr/>
              <p:nvPr/>
            </p:nvSpPr>
            <p:spPr>
              <a:xfrm rot="10843800">
                <a:off x="5350680" y="4138200"/>
                <a:ext cx="120600" cy="95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5" name="Freeform 289"/>
              <p:cNvSpPr/>
              <p:nvPr/>
            </p:nvSpPr>
            <p:spPr>
              <a:xfrm rot="10843800">
                <a:off x="5322240" y="4101480"/>
                <a:ext cx="101880" cy="8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6" name="Freeform 290"/>
              <p:cNvSpPr/>
              <p:nvPr/>
            </p:nvSpPr>
            <p:spPr>
              <a:xfrm rot="10843800">
                <a:off x="5330160" y="4113000"/>
                <a:ext cx="10656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7" name="Freeform 291"/>
              <p:cNvSpPr/>
              <p:nvPr/>
            </p:nvSpPr>
            <p:spPr>
              <a:xfrm rot="10843800">
                <a:off x="5309640" y="4092480"/>
                <a:ext cx="96840" cy="7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139"/>
          <p:cNvGrpSpPr/>
          <p:nvPr/>
        </p:nvGrpSpPr>
        <p:grpSpPr>
          <a:xfrm>
            <a:off x="5089680" y="3870360"/>
            <a:ext cx="609480" cy="609480"/>
            <a:chOff x="5089680" y="3870360"/>
            <a:chExt cx="609480" cy="609480"/>
          </a:xfrm>
        </p:grpSpPr>
        <p:sp>
          <p:nvSpPr>
            <p:cNvPr id="189" name="Oval 140"/>
            <p:cNvSpPr/>
            <p:nvPr/>
          </p:nvSpPr>
          <p:spPr>
            <a:xfrm>
              <a:off x="5185080" y="396576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90" name="Oval 141"/>
            <p:cNvSpPr/>
            <p:nvPr/>
          </p:nvSpPr>
          <p:spPr>
            <a:xfrm>
              <a:off x="5305680" y="408636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91" name="Oval 142"/>
            <p:cNvSpPr/>
            <p:nvPr/>
          </p:nvSpPr>
          <p:spPr>
            <a:xfrm>
              <a:off x="5089680" y="387036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92" name="Group 295"/>
          <p:cNvGrpSpPr/>
          <p:nvPr/>
        </p:nvGrpSpPr>
        <p:grpSpPr>
          <a:xfrm>
            <a:off x="4910040" y="1670760"/>
            <a:ext cx="1603800" cy="1811880"/>
            <a:chOff x="4910040" y="1670760"/>
            <a:chExt cx="1603800" cy="1811880"/>
          </a:xfrm>
        </p:grpSpPr>
        <p:grpSp>
          <p:nvGrpSpPr>
            <p:cNvPr id="193" name="Group 292"/>
            <p:cNvGrpSpPr/>
            <p:nvPr/>
          </p:nvGrpSpPr>
          <p:grpSpPr>
            <a:xfrm>
              <a:off x="4910040" y="1670760"/>
              <a:ext cx="1603800" cy="1730880"/>
              <a:chOff x="4910040" y="1670760"/>
              <a:chExt cx="1603800" cy="1730880"/>
            </a:xfrm>
          </p:grpSpPr>
          <p:sp>
            <p:nvSpPr>
              <p:cNvPr id="194" name="Freeform 277"/>
              <p:cNvSpPr/>
              <p:nvPr/>
            </p:nvSpPr>
            <p:spPr>
              <a:xfrm rot="4339800">
                <a:off x="5049000" y="2491200"/>
                <a:ext cx="755640" cy="84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5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5" name="Freeform 278"/>
              <p:cNvSpPr/>
              <p:nvPr/>
            </p:nvSpPr>
            <p:spPr>
              <a:xfrm rot="4339800">
                <a:off x="4972320" y="1918800"/>
                <a:ext cx="1038240" cy="70776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6" name="Freeform 279"/>
              <p:cNvSpPr/>
              <p:nvPr/>
            </p:nvSpPr>
            <p:spPr>
              <a:xfrm rot="4339800">
                <a:off x="5481720" y="1917720"/>
                <a:ext cx="792000" cy="108252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7" name="Freeform 280"/>
              <p:cNvSpPr/>
              <p:nvPr/>
            </p:nvSpPr>
            <p:spPr>
              <a:xfrm rot="4339800">
                <a:off x="5172120" y="2061720"/>
                <a:ext cx="620640" cy="86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8" name="Freeform 281"/>
              <p:cNvSpPr/>
              <p:nvPr/>
            </p:nvSpPr>
            <p:spPr>
              <a:xfrm rot="4339800">
                <a:off x="5238360" y="2245680"/>
                <a:ext cx="898560" cy="65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94"/>
            <p:cNvGrpSpPr/>
            <p:nvPr/>
          </p:nvGrpSpPr>
          <p:grpSpPr>
            <a:xfrm>
              <a:off x="5071320" y="3136680"/>
              <a:ext cx="266040" cy="345960"/>
              <a:chOff x="5071320" y="3136680"/>
              <a:chExt cx="266040" cy="345960"/>
            </a:xfrm>
          </p:grpSpPr>
          <p:sp>
            <p:nvSpPr>
              <p:cNvPr id="200" name="Freeform 283"/>
              <p:cNvSpPr/>
              <p:nvPr/>
            </p:nvSpPr>
            <p:spPr>
              <a:xfrm rot="4339800">
                <a:off x="5086800" y="3340080"/>
                <a:ext cx="127080" cy="12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1" name="Freeform 284"/>
              <p:cNvSpPr/>
              <p:nvPr/>
            </p:nvSpPr>
            <p:spPr>
              <a:xfrm rot="4339800">
                <a:off x="5096520" y="3167640"/>
                <a:ext cx="217440" cy="2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3"/>
            <p:cNvGrpSpPr/>
            <p:nvPr/>
          </p:nvGrpSpPr>
          <p:grpSpPr>
            <a:xfrm>
              <a:off x="5126040" y="3151440"/>
              <a:ext cx="173880" cy="241200"/>
              <a:chOff x="5126040" y="3151440"/>
              <a:chExt cx="173880" cy="241200"/>
            </a:xfrm>
          </p:grpSpPr>
          <p:sp>
            <p:nvSpPr>
              <p:cNvPr id="203" name="Freeform 286"/>
              <p:cNvSpPr/>
              <p:nvPr/>
            </p:nvSpPr>
            <p:spPr>
              <a:xfrm rot="4339800">
                <a:off x="5157360" y="3199680"/>
                <a:ext cx="123840" cy="10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4" name="Freeform 287"/>
              <p:cNvSpPr/>
              <p:nvPr/>
            </p:nvSpPr>
            <p:spPr>
              <a:xfrm rot="4339800">
                <a:off x="5164200" y="3176280"/>
                <a:ext cx="130320" cy="10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5" name="Freeform 288"/>
              <p:cNvSpPr/>
              <p:nvPr/>
            </p:nvSpPr>
            <p:spPr>
              <a:xfrm rot="4339800">
                <a:off x="5152680" y="3219480"/>
                <a:ext cx="120600" cy="95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6" name="Freeform 289"/>
              <p:cNvSpPr/>
              <p:nvPr/>
            </p:nvSpPr>
            <p:spPr>
              <a:xfrm rot="4339800">
                <a:off x="5132160" y="3276360"/>
                <a:ext cx="101880" cy="8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7" name="Freeform 290"/>
              <p:cNvSpPr/>
              <p:nvPr/>
            </p:nvSpPr>
            <p:spPr>
              <a:xfrm rot="4339800">
                <a:off x="5139720" y="3260160"/>
                <a:ext cx="10656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8" name="Freeform 291"/>
              <p:cNvSpPr/>
              <p:nvPr/>
            </p:nvSpPr>
            <p:spPr>
              <a:xfrm rot="4339800">
                <a:off x="5130000" y="3294720"/>
                <a:ext cx="96840" cy="7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Group 135"/>
          <p:cNvGrpSpPr/>
          <p:nvPr/>
        </p:nvGrpSpPr>
        <p:grpSpPr>
          <a:xfrm>
            <a:off x="4412520" y="3814920"/>
            <a:ext cx="718200" cy="717840"/>
            <a:chOff x="4412520" y="3814920"/>
            <a:chExt cx="718200" cy="717840"/>
          </a:xfrm>
        </p:grpSpPr>
        <p:sp>
          <p:nvSpPr>
            <p:cNvPr id="210" name="Oval 136"/>
            <p:cNvSpPr/>
            <p:nvPr/>
          </p:nvSpPr>
          <p:spPr>
            <a:xfrm rot="10114800">
              <a:off x="4561920" y="396360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11" name="Oval 137"/>
            <p:cNvSpPr/>
            <p:nvPr/>
          </p:nvSpPr>
          <p:spPr>
            <a:xfrm rot="10114800">
              <a:off x="4682160" y="408420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12" name="Oval 138"/>
            <p:cNvSpPr/>
            <p:nvPr/>
          </p:nvSpPr>
          <p:spPr>
            <a:xfrm rot="10114800">
              <a:off x="4466880" y="386892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213" name="Group 257"/>
          <p:cNvGrpSpPr/>
          <p:nvPr/>
        </p:nvGrpSpPr>
        <p:grpSpPr>
          <a:xfrm>
            <a:off x="3179520" y="4166640"/>
            <a:ext cx="1612080" cy="1697760"/>
            <a:chOff x="3179520" y="4166640"/>
            <a:chExt cx="1612080" cy="1697760"/>
          </a:xfrm>
        </p:grpSpPr>
        <p:grpSp>
          <p:nvGrpSpPr>
            <p:cNvPr id="214" name="Group 254"/>
            <p:cNvGrpSpPr/>
            <p:nvPr/>
          </p:nvGrpSpPr>
          <p:grpSpPr>
            <a:xfrm>
              <a:off x="3179520" y="4242600"/>
              <a:ext cx="1612080" cy="1621800"/>
              <a:chOff x="3179520" y="4242600"/>
              <a:chExt cx="1612080" cy="1621800"/>
            </a:xfrm>
          </p:grpSpPr>
          <p:sp>
            <p:nvSpPr>
              <p:cNvPr id="215" name="Freeform 239"/>
              <p:cNvSpPr/>
              <p:nvPr/>
            </p:nvSpPr>
            <p:spPr>
              <a:xfrm rot="15888000">
                <a:off x="3933720" y="4234320"/>
                <a:ext cx="778320" cy="870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5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6" name="Freeform 240"/>
              <p:cNvSpPr/>
              <p:nvPr/>
            </p:nvSpPr>
            <p:spPr>
              <a:xfrm rot="15888000">
                <a:off x="3579480" y="4934880"/>
                <a:ext cx="1068480" cy="72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7" name="Freeform 241"/>
              <p:cNvSpPr/>
              <p:nvPr/>
            </p:nvSpPr>
            <p:spPr>
              <a:xfrm rot="15888000">
                <a:off x="3363120" y="4467960"/>
                <a:ext cx="816480" cy="1114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8" name="Freeform 242"/>
              <p:cNvSpPr/>
              <p:nvPr/>
            </p:nvSpPr>
            <p:spPr>
              <a:xfrm rot="15888000">
                <a:off x="3856320" y="4637520"/>
                <a:ext cx="638640" cy="88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9" name="Freeform 243"/>
              <p:cNvSpPr/>
              <p:nvPr/>
            </p:nvSpPr>
            <p:spPr>
              <a:xfrm rot="15888000">
                <a:off x="3524040" y="4615920"/>
                <a:ext cx="92412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256"/>
            <p:cNvGrpSpPr/>
            <p:nvPr/>
          </p:nvGrpSpPr>
          <p:grpSpPr>
            <a:xfrm>
              <a:off x="4512960" y="4166640"/>
              <a:ext cx="270720" cy="312480"/>
              <a:chOff x="4512960" y="4166640"/>
              <a:chExt cx="270720" cy="312480"/>
            </a:xfrm>
          </p:grpSpPr>
          <p:sp>
            <p:nvSpPr>
              <p:cNvPr id="221" name="Freeform 245"/>
              <p:cNvSpPr/>
              <p:nvPr/>
            </p:nvSpPr>
            <p:spPr>
              <a:xfrm rot="15888000">
                <a:off x="4647960" y="4172400"/>
                <a:ext cx="130320" cy="129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2" name="Freeform 246"/>
              <p:cNvSpPr/>
              <p:nvPr/>
            </p:nvSpPr>
            <p:spPr>
              <a:xfrm rot="15888000">
                <a:off x="4517640" y="4249440"/>
                <a:ext cx="225360" cy="21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55"/>
            <p:cNvGrpSpPr/>
            <p:nvPr/>
          </p:nvGrpSpPr>
          <p:grpSpPr>
            <a:xfrm>
              <a:off x="4532760" y="4251960"/>
              <a:ext cx="182160" cy="215280"/>
              <a:chOff x="4532760" y="4251960"/>
              <a:chExt cx="182160" cy="215280"/>
            </a:xfrm>
          </p:grpSpPr>
          <p:sp>
            <p:nvSpPr>
              <p:cNvPr id="224" name="Freeform 248"/>
              <p:cNvSpPr/>
              <p:nvPr/>
            </p:nvSpPr>
            <p:spPr>
              <a:xfrm rot="15888000">
                <a:off x="4542480" y="4326120"/>
                <a:ext cx="12564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5" name="Freeform 249"/>
              <p:cNvSpPr/>
              <p:nvPr/>
            </p:nvSpPr>
            <p:spPr>
              <a:xfrm rot="15888000">
                <a:off x="4527000" y="4341600"/>
                <a:ext cx="132120" cy="10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6" name="Freeform 250"/>
              <p:cNvSpPr/>
              <p:nvPr/>
            </p:nvSpPr>
            <p:spPr>
              <a:xfrm rot="15888000">
                <a:off x="4561920" y="4312080"/>
                <a:ext cx="120600" cy="98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7" name="Freeform 251"/>
              <p:cNvSpPr/>
              <p:nvPr/>
            </p:nvSpPr>
            <p:spPr>
              <a:xfrm rot="15888000">
                <a:off x="4603320" y="4276440"/>
                <a:ext cx="103680" cy="82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8" name="Freeform 252"/>
              <p:cNvSpPr/>
              <p:nvPr/>
            </p:nvSpPr>
            <p:spPr>
              <a:xfrm rot="15888000">
                <a:off x="4592160" y="4287240"/>
                <a:ext cx="106920" cy="8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9" name="Freeform 253"/>
              <p:cNvSpPr/>
              <p:nvPr/>
            </p:nvSpPr>
            <p:spPr>
              <a:xfrm rot="15888000">
                <a:off x="4619880" y="4263840"/>
                <a:ext cx="99000" cy="82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900000" y="6453360"/>
            <a:ext cx="785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400" spc="-1" strike="noStrike" u="sng">
                <a:solidFill>
                  <a:srgbClr val="76923c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http://www.eeppt.com/moban/gongzuo/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E0C-E9B3-4867-9A8F-BDFCFD1521D8}" type="slidenum">
              <a:t>8</a:t>
            </a:fld>
          </a:p>
        </p:txBody>
      </p:sp>
    </p:spTree>
  </p:cSld>
  <p:transition spd="slow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684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职业生涯评估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042560" y="1484280"/>
            <a:ext cx="7777080" cy="4681440"/>
            <a:chOff x="1042560" y="1484280"/>
            <a:chExt cx="7777080" cy="4681440"/>
          </a:xfrm>
        </p:grpSpPr>
        <p:sp>
          <p:nvSpPr>
            <p:cNvPr id="233" name=""/>
            <p:cNvSpPr/>
            <p:nvPr/>
          </p:nvSpPr>
          <p:spPr>
            <a:xfrm rot="16200000">
              <a:off x="1816560" y="710280"/>
              <a:ext cx="2340720" cy="3888360"/>
            </a:xfrm>
            <a:prstGeom prst="pie">
              <a:avLst/>
            </a:prstGeom>
            <a:solidFill>
              <a:srgbClr val="eb008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42920" y="148428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31280" y="1484280"/>
              <a:ext cx="3888360" cy="2340720"/>
            </a:xfrm>
            <a:prstGeom prst="pie">
              <a:avLst/>
            </a:prstGeom>
            <a:solidFill>
              <a:srgbClr val="a400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31280" y="148428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0800000">
              <a:off x="1042560" y="3825000"/>
              <a:ext cx="3888360" cy="2340720"/>
            </a:xfrm>
            <a:prstGeom prst="pie">
              <a:avLst/>
            </a:prstGeom>
            <a:solidFill>
              <a:srgbClr val="0003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42920" y="441036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5704560" y="3051000"/>
              <a:ext cx="2340720" cy="3888360"/>
            </a:xfrm>
            <a:prstGeom prst="pie">
              <a:avLst/>
            </a:prstGeom>
            <a:solidFill>
              <a:srgbClr val="00aa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31280" y="441036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</a:tabLst>
              </a:pPr>
              <a:endParaRPr b="1" lang="en-US" sz="1600" spc="-1" strike="noStrike">
                <a:solidFill>
                  <a:srgbClr val="262626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900" spc="-1" strike="noStrike">
                <a:solidFill>
                  <a:srgbClr val="262626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9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64880" y="3239640"/>
              <a:ext cx="2333160" cy="1170360"/>
            </a:xfrm>
            <a:prstGeom prst="roundRect">
              <a:avLst>
                <a:gd name="adj" fmla="val 16667"/>
              </a:avLst>
            </a:prstGeom>
            <a:solidFill>
              <a:srgbClr val="f7cbd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22120" y="3296880"/>
              <a:ext cx="221868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OT </a:t>
              </a:r>
              <a:endParaRPr b="1" lang="en-US" sz="36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479-5AA3-4191-961D-597358300668}" type="slidenum">
              <a:t>9</a:t>
            </a:fld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53:32Z</dcterms:modified>
  <cp:revision>2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IP等级">
    <vt:lpwstr>2</vt:lpwstr>
  </property>
  <property fmtid="{D5CDD505-2E9C-101B-9397-08002B2CF9AE}" pid="4" name="价格">
    <vt:lpwstr>2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EN PPT 格式 时尚 蓝 蓝色 灰 灰色 浅灰 典雅 复古 曲线 线 线条 抽象 动态 动感 年轻 活力 青春 简洁 渐变 背景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灰色曲线背景</vt:lpwstr>
  </property>
  <property fmtid="{D5CDD505-2E9C-101B-9397-08002B2CF9AE}" pid="12" name="模板ID">
    <vt:lpwstr>A30220130527A06</vt:lpwstr>
  </property>
  <property fmtid="{D5CDD505-2E9C-101B-9397-08002B2CF9AE}" pid="13" name="模板缩略图">
    <vt:lpwstr>A30220130527A06.png</vt:lpwstr>
  </property>
  <property fmtid="{D5CDD505-2E9C-101B-9397-08002B2CF9AE}" pid="14" name="相关案例">
    <vt:lpwstr>854</vt:lpwstr>
  </property>
  <property fmtid="{D5CDD505-2E9C-101B-9397-08002B2CF9AE}" pid="15" name="缩略图标题">
    <vt:lpwstr>灰色曲线背景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527A0601</vt:lpwstr>
  </property>
  <property fmtid="{D5CDD505-2E9C-101B-9397-08002B2CF9AE}" pid="18" name="附件缩略图">
    <vt:lpwstr>A30220130527A0601.png</vt:lpwstr>
  </property>
  <property fmtid="{D5CDD505-2E9C-101B-9397-08002B2CF9AE}" pid="19" name="附件路径">
    <vt:lpwstr>A30220130527A0601.pptx</vt:lpwstr>
  </property>
</Properties>
</file>