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4D83-3EB4-4FD4-9666-AAAD0CBA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D78-7B27-485B-871E-B928C7AA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556-5808-4782-AA6F-9F2CDEBF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D66-869F-4B9E-B5BF-2009C965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5799-B518-4472-974C-7DD90D08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1DE8-CB79-4A3D-952A-0E8FE9C9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216E-D35D-4087-B312-941821F8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FC12-562A-4375-8D07-8FF33F86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1742-5835-4F4D-8744-C4377063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8F97-1B2F-42FF-A03A-5A22F609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3553-2A07-41C2-A887-369AD365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768-82B3-4D81-8DC3-0505A3D3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F1DA-EB68-462E-81DC-72E9BAD4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605B-7771-405E-B18D-BC8B0030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0292-9A11-4226-BD1F-B22EB957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84A2-8214-46E5-8B50-9A76524E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E3E6-62BF-4C4A-B245-B1C6B4D3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84E-1671-4C1D-B329-4823A056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34A-3A78-4781-A1EA-D691A7E0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E46-F202-4194-9C8D-86C41611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4A2-02E7-4269-9C35-0B58E015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27E5-A845-4EBC-A4CE-AB0675AA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8CC-7A53-4B1E-8DF1-99F19639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8F9-4CC9-4AFF-B400-DFB909F0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FDF3-930B-4210-9A5E-D1DE0BCA980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71C2-822F-4696-B570-35B91DBCA1E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F279-E20C-4481-89F8-7A6AA0FA6C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AB03-FB78-4342-984F-D77A148116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4429080" y="257184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285840" y="-71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329796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36976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94068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-251640" y="-712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4000680" y="25002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72664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322668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-108720" y="-712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301212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158364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336960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486972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-108720" y="-712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315504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236916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458388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-140400" y="-32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585792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"/>
          <p:cNvSpPr/>
          <p:nvPr/>
        </p:nvSpPr>
        <p:spPr>
          <a:xfrm>
            <a:off x="294084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115488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301212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-108720" y="-32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5655600" y="5357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1869120" y="1785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4840" y="5143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551268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114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9:14Z</dcterms:modified>
  <cp:revision>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