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1B1-4CCC-4DA3-A3F3-301CB817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A7F-8884-4CCE-9D95-F574D804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2C0-A13E-44C7-9ADE-A7FAEC7C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CD2-2216-495A-BD39-8CFA08D0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6F2A-0C81-43F6-AF8F-7D440D72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948B-EED3-4C69-9026-2E6312E2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8762-5625-425B-B8AF-27DBF996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074B-9459-4884-81EB-0355FFEC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54FF-E687-44AF-8102-B341EB2C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4217-CF0E-405A-82AC-0679799F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3435-7876-4755-8A9E-EF811669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9EE-CE30-4AE8-93D7-F99E553C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CBFE-295C-43D7-8F2A-38308D73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9547-AE79-429A-AC33-DF08266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04C4-7DC6-4498-BB91-DEE8FC4C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232D-0299-43C4-B9C3-648257C0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9429-5744-47B0-96F8-9A3ACB71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7AF-95C3-483B-8270-3936FA1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348-E82C-4CE0-85AC-514AC6D6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7B0-8218-4F6A-A083-D32280E4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E7F-6016-49CE-B8DE-19C25FCB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E4A-049B-4E85-88B6-E386023E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B81-085C-49FE-AFFE-E3B95D5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728-2A4E-4318-A957-3F24CB9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458E-31D1-48C6-B089-B732CEB18E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392B-5AEE-4725-BB79-02ED4D25C3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-572040" y="285840"/>
            <a:ext cx="71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gency FB"/>
                <a:ea typeface="长城行书体繁"/>
              </a:rPr>
              <a:t>Happy Teacher’s Day </a:t>
            </a:r>
            <a:r>
              <a:rPr b="1" lang="zh-CN" sz="4800" spc="-1" strike="noStrike">
                <a:solidFill>
                  <a:srgbClr val="0070c0"/>
                </a:solidFill>
                <a:latin typeface="Agency FB"/>
                <a:ea typeface="长城行书体繁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3978360" y="1643040"/>
            <a:ext cx="200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您像一支蜡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虽然细弱，但有一分热，发一分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照亮了别人，耗尽了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这无私的奉献，令人用志不忘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只因有您的谆谆教诲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人生路上才得以一次次凯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老师您辛苦了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47:0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4:5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