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05C60-A777-474C-A0C8-CCE1941EA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61C1F-88B0-4447-A3B0-88DE36157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0E04E-7513-4A25-B26B-77DE41E23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E8D32-3132-4B13-98E6-A18AB6F8F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59F24-C9F2-48E5-ACE3-78A2704E9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2867E-FE89-4617-A3AB-2165C7EFC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2D184-9E27-4DD5-A298-CB25BB89A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F70FC-1729-432D-85ED-D2D73323B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F8B83-06F2-464A-B568-19EDBD979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E6B38-3C71-4CF8-A782-E0ED0F20A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B61B4-F0D3-4ED2-9734-58F55F9F2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61778-8356-409F-9B18-4D1188453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0535F-8EBA-4900-9203-1B3B5D75B305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70104-5E00-4C65-84DF-B1A3E5101E67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椭圆 32"/>
          <p:cNvSpPr/>
          <p:nvPr/>
        </p:nvSpPr>
        <p:spPr>
          <a:xfrm>
            <a:off x="8327880" y="4780080"/>
            <a:ext cx="752760" cy="750600"/>
          </a:xfrm>
          <a:prstGeom prst="ellipse">
            <a:avLst/>
          </a:prstGeom>
          <a:solidFill>
            <a:srgbClr val="beef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椭圆 33"/>
          <p:cNvSpPr/>
          <p:nvPr/>
        </p:nvSpPr>
        <p:spPr>
          <a:xfrm>
            <a:off x="7564320" y="4797360"/>
            <a:ext cx="750960" cy="750960"/>
          </a:xfrm>
          <a:prstGeom prst="ellipse">
            <a:avLst/>
          </a:prstGeom>
          <a:solidFill>
            <a:srgbClr val="ff9f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椭圆 34"/>
          <p:cNvSpPr/>
          <p:nvPr/>
        </p:nvSpPr>
        <p:spPr>
          <a:xfrm>
            <a:off x="6813720" y="4797360"/>
            <a:ext cx="750600" cy="750960"/>
          </a:xfrm>
          <a:prstGeom prst="ellipse">
            <a:avLst/>
          </a:prstGeom>
          <a:solidFill>
            <a:srgbClr val="a8eb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椭圆 35"/>
          <p:cNvSpPr/>
          <p:nvPr/>
        </p:nvSpPr>
        <p:spPr>
          <a:xfrm>
            <a:off x="6081840" y="4803840"/>
            <a:ext cx="750600" cy="75096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椭圆 36"/>
          <p:cNvSpPr/>
          <p:nvPr/>
        </p:nvSpPr>
        <p:spPr>
          <a:xfrm>
            <a:off x="5321160" y="4849920"/>
            <a:ext cx="750960" cy="75096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椭圆 37"/>
          <p:cNvSpPr/>
          <p:nvPr/>
        </p:nvSpPr>
        <p:spPr>
          <a:xfrm>
            <a:off x="4548240" y="4767120"/>
            <a:ext cx="750960" cy="75276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椭圆 19"/>
          <p:cNvSpPr/>
          <p:nvPr/>
        </p:nvSpPr>
        <p:spPr>
          <a:xfrm>
            <a:off x="-27000" y="-409680"/>
            <a:ext cx="752400" cy="752760"/>
          </a:xfrm>
          <a:prstGeom prst="ellipse">
            <a:avLst/>
          </a:prstGeom>
          <a:solidFill>
            <a:srgbClr val="beef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椭圆 20"/>
          <p:cNvSpPr/>
          <p:nvPr/>
        </p:nvSpPr>
        <p:spPr>
          <a:xfrm>
            <a:off x="725400" y="-431640"/>
            <a:ext cx="750960" cy="752400"/>
          </a:xfrm>
          <a:prstGeom prst="ellipse">
            <a:avLst/>
          </a:prstGeom>
          <a:solidFill>
            <a:srgbClr val="ff9f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椭圆 21"/>
          <p:cNvSpPr/>
          <p:nvPr/>
        </p:nvSpPr>
        <p:spPr>
          <a:xfrm>
            <a:off x="1536840" y="-417600"/>
            <a:ext cx="750600" cy="750960"/>
          </a:xfrm>
          <a:prstGeom prst="ellipse">
            <a:avLst/>
          </a:prstGeom>
          <a:solidFill>
            <a:srgbClr val="a8eb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椭圆 24"/>
          <p:cNvSpPr/>
          <p:nvPr/>
        </p:nvSpPr>
        <p:spPr>
          <a:xfrm>
            <a:off x="2346480" y="-423720"/>
            <a:ext cx="750600" cy="75060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椭圆 25"/>
          <p:cNvSpPr/>
          <p:nvPr/>
        </p:nvSpPr>
        <p:spPr>
          <a:xfrm>
            <a:off x="3176640" y="-431640"/>
            <a:ext cx="750960" cy="75240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椭圆 26"/>
          <p:cNvSpPr/>
          <p:nvPr/>
        </p:nvSpPr>
        <p:spPr>
          <a:xfrm>
            <a:off x="3984480" y="-378000"/>
            <a:ext cx="750960" cy="75276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椭圆 38"/>
          <p:cNvSpPr/>
          <p:nvPr/>
        </p:nvSpPr>
        <p:spPr>
          <a:xfrm>
            <a:off x="3792600" y="4767120"/>
            <a:ext cx="750960" cy="7527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椭圆 27"/>
          <p:cNvSpPr/>
          <p:nvPr/>
        </p:nvSpPr>
        <p:spPr>
          <a:xfrm>
            <a:off x="4813200" y="-409680"/>
            <a:ext cx="752400" cy="7527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Freeform 8"/>
          <p:cNvSpPr/>
          <p:nvPr/>
        </p:nvSpPr>
        <p:spPr>
          <a:xfrm>
            <a:off x="2124000" y="339840"/>
            <a:ext cx="4765680" cy="4251240"/>
          </a:xfrm>
          <a:prstGeom prst="pie">
            <a:avLst/>
          </a:prstGeom>
          <a:solidFill>
            <a:srgbClr val="beef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reeform 9"/>
          <p:cNvSpPr/>
          <p:nvPr/>
        </p:nvSpPr>
        <p:spPr>
          <a:xfrm>
            <a:off x="2287440" y="426960"/>
            <a:ext cx="4499280" cy="4013280"/>
          </a:xfrm>
          <a:prstGeom prst="pie">
            <a:avLst/>
          </a:prstGeom>
          <a:solidFill>
            <a:srgbClr val="ff9f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Freeform 10"/>
          <p:cNvSpPr/>
          <p:nvPr/>
        </p:nvSpPr>
        <p:spPr>
          <a:xfrm>
            <a:off x="2438280" y="584280"/>
            <a:ext cx="4156200" cy="3692520"/>
          </a:xfrm>
          <a:prstGeom prst="pie">
            <a:avLst/>
          </a:prstGeom>
          <a:solidFill>
            <a:srgbClr val="a8eb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Freeform 10"/>
          <p:cNvSpPr/>
          <p:nvPr/>
        </p:nvSpPr>
        <p:spPr>
          <a:xfrm rot="186000">
            <a:off x="2550960" y="791640"/>
            <a:ext cx="3818160" cy="3367080"/>
          </a:xfrm>
          <a:prstGeom prst="pi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reeform 10"/>
          <p:cNvSpPr/>
          <p:nvPr/>
        </p:nvSpPr>
        <p:spPr>
          <a:xfrm>
            <a:off x="2720880" y="925560"/>
            <a:ext cx="3529080" cy="3025800"/>
          </a:xfrm>
          <a:prstGeom prst="pi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Freeform 10"/>
          <p:cNvSpPr/>
          <p:nvPr/>
        </p:nvSpPr>
        <p:spPr>
          <a:xfrm rot="166800">
            <a:off x="2843280" y="1083960"/>
            <a:ext cx="3255840" cy="2711520"/>
          </a:xfrm>
          <a:prstGeom prst="pi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1" name="组合 15"/>
          <p:cNvGrpSpPr/>
          <p:nvPr/>
        </p:nvGrpSpPr>
        <p:grpSpPr>
          <a:xfrm>
            <a:off x="3319560" y="2171880"/>
            <a:ext cx="2246040" cy="711000"/>
            <a:chOff x="3319560" y="2171880"/>
            <a:chExt cx="2246040" cy="711000"/>
          </a:xfrm>
        </p:grpSpPr>
        <p:sp>
          <p:nvSpPr>
            <p:cNvPr id="62" name="Freeform 11"/>
            <p:cNvSpPr/>
            <p:nvPr/>
          </p:nvSpPr>
          <p:spPr>
            <a:xfrm>
              <a:off x="3319560" y="2176560"/>
              <a:ext cx="607680" cy="689040"/>
            </a:xfrm>
            <a:prstGeom prst="pie">
              <a:avLst/>
            </a:prstGeom>
            <a:solidFill>
              <a:srgbClr val="e36c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reeform 12"/>
            <p:cNvSpPr/>
            <p:nvPr/>
          </p:nvSpPr>
          <p:spPr>
            <a:xfrm>
              <a:off x="3981240" y="2583000"/>
              <a:ext cx="309240" cy="299880"/>
            </a:xfrm>
            <a:prstGeom prst="pie">
              <a:avLst/>
            </a:prstGeom>
            <a:solidFill>
              <a:srgbClr val="e36c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reeform 13"/>
            <p:cNvSpPr/>
            <p:nvPr/>
          </p:nvSpPr>
          <p:spPr>
            <a:xfrm>
              <a:off x="4360680" y="2179800"/>
              <a:ext cx="484200" cy="700200"/>
            </a:xfrm>
            <a:prstGeom prst="pie">
              <a:avLst/>
            </a:prstGeom>
            <a:solidFill>
              <a:srgbClr val="e36c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reeform 14"/>
            <p:cNvSpPr/>
            <p:nvPr/>
          </p:nvSpPr>
          <p:spPr>
            <a:xfrm>
              <a:off x="4859280" y="2171880"/>
              <a:ext cx="706320" cy="703080"/>
            </a:xfrm>
            <a:prstGeom prst="pie">
              <a:avLst/>
            </a:prstGeom>
            <a:solidFill>
              <a:srgbClr val="e36c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66" name="Picture 17" descr=""/>
          <p:cNvPicPr/>
          <p:nvPr/>
        </p:nvPicPr>
        <p:blipFill>
          <a:blip r:embed="rId1"/>
          <a:stretch/>
        </p:blipFill>
        <p:spPr>
          <a:xfrm>
            <a:off x="-4680" y="0"/>
            <a:ext cx="9144000" cy="51451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6" descr="F:\tao\2008051282157673副本.png"/>
          <p:cNvPicPr/>
          <p:nvPr/>
        </p:nvPicPr>
        <p:blipFill>
          <a:blip r:embed="rId2"/>
          <a:stretch/>
        </p:blipFill>
        <p:spPr>
          <a:xfrm>
            <a:off x="3995640" y="1060560"/>
            <a:ext cx="3051360" cy="27241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F:\tao\2008051282157673副本.png"/>
          <p:cNvPicPr/>
          <p:nvPr/>
        </p:nvPicPr>
        <p:blipFill>
          <a:blip r:embed="rId3"/>
          <a:stretch/>
        </p:blipFill>
        <p:spPr>
          <a:xfrm>
            <a:off x="3708360" y="2716200"/>
            <a:ext cx="2073240" cy="18511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6" descr="F:\tao\2008051282157673副本.png"/>
          <p:cNvPicPr/>
          <p:nvPr/>
        </p:nvPicPr>
        <p:blipFill>
          <a:blip r:embed="rId4"/>
          <a:stretch/>
        </p:blipFill>
        <p:spPr>
          <a:xfrm>
            <a:off x="4140360" y="268200"/>
            <a:ext cx="5643360" cy="5038920"/>
          </a:xfrm>
          <a:prstGeom prst="rect">
            <a:avLst/>
          </a:prstGeom>
          <a:ln w="0">
            <a:noFill/>
          </a:ln>
        </p:spPr>
      </p:pic>
      <p:sp>
        <p:nvSpPr>
          <p:cNvPr id="70" name="TextBox 52"/>
          <p:cNvSpPr/>
          <p:nvPr/>
        </p:nvSpPr>
        <p:spPr>
          <a:xfrm>
            <a:off x="-26280" y="2759040"/>
            <a:ext cx="382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宋体"/>
                <a:ea typeface="宋体"/>
              </a:rPr>
              <a:t>&gt;&gt;</a:t>
            </a: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POWERPOI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矩形 53"/>
          <p:cNvSpPr/>
          <p:nvPr/>
        </p:nvSpPr>
        <p:spPr>
          <a:xfrm>
            <a:off x="-4680" y="3557520"/>
            <a:ext cx="2539800" cy="154080"/>
          </a:xfrm>
          <a:prstGeom prst="rect">
            <a:avLst/>
          </a:prstGeom>
          <a:solidFill>
            <a:srgbClr val="ffffff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" dur="2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dur="indefinite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11" dur="800" fill="hold"/>
                                        <p:tgtEl>
                                          <p:spTgt spid="47"/>
                                        </p:tgtEl>
                                      </p:cBhvr>
                                      <p:to x="2000000" y="2000000"/>
                                    </p:animScale>
                                  </p:childTnLst>
                                </p:cTn>
                              </p:par>
                              <p:par>
                                <p:cTn id="12" dur="indefinite" nodeType="withEffect" fill="hold" presetClass="entr" presetID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6" dur="2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dur="indefinite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18" dur="800" fill="hold"/>
                                        <p:tgtEl>
                                          <p:spTgt spid="48"/>
                                        </p:tgtEl>
                                      </p:cBhvr>
                                      <p:to x="2000000" y="2000000"/>
                                    </p:animScale>
                                  </p:childTnLst>
                                </p:cTn>
                              </p:par>
                              <p:par>
                                <p:cTn id="19" dur="indefinite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2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3" dur="2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dur="indefinite" nodeType="withEffect" fill="hold" presetClass="emph" presetID="6">
                                  <p:stCondLst>
                                    <p:cond delay="400"/>
                                  </p:stCondLst>
                                  <p:childTnLst>
                                    <p:animScale>
                                      <p:cBhvr>
                                        <p:cTn id="25" dur="800" fill="hold"/>
                                        <p:tgtEl>
                                          <p:spTgt spid="49"/>
                                        </p:tgtEl>
                                      </p:cBhvr>
                                      <p:to x="2000000" y="2000000"/>
                                    </p:animScale>
                                  </p:childTnLst>
                                </p:cTn>
                              </p:par>
                              <p:par>
                                <p:cTn id="26" dur="indefinite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2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0" dur="2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dur="indefinite" nodeType="withEffect" fill="hold" presetClass="emph" presetID="6">
                                  <p:stCondLst>
                                    <p:cond delay="500"/>
                                  </p:stCondLst>
                                  <p:childTnLst>
                                    <p:animScale>
                                      <p:cBhvr>
                                        <p:cTn id="32" dur="800" fill="hold"/>
                                        <p:tgtEl>
                                          <p:spTgt spid="50"/>
                                        </p:tgtEl>
                                      </p:cBhvr>
                                      <p:to x="2000000" y="2000000"/>
                                    </p:animScale>
                                  </p:childTnLst>
                                </p:cTn>
                              </p:par>
                              <p:par>
                                <p:cTn id="33" dur="indefinite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2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7" dur="2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dur="indefinite" nodeType="withEffect" fill="hold" presetClass="emph" presetID="6">
                                  <p:stCondLst>
                                    <p:cond delay="600"/>
                                  </p:stCondLst>
                                  <p:childTnLst>
                                    <p:animScale>
                                      <p:cBhvr>
                                        <p:cTn id="39" dur="800" fill="hold"/>
                                        <p:tgtEl>
                                          <p:spTgt spid="51"/>
                                        </p:tgtEl>
                                      </p:cBhvr>
                                      <p:to x="2000000" y="2000000"/>
                                    </p:animScale>
                                  </p:childTnLst>
                                </p:cTn>
                              </p:par>
                              <p:par>
                                <p:cTn id="40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2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4" dur="2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dur="indefinite" nodeType="withEffect" fill="hold" presetClass="emph" presetID="6">
                                  <p:stCondLst>
                                    <p:cond delay="700"/>
                                  </p:stCondLst>
                                  <p:childTnLst>
                                    <p:animScale>
                                      <p:cBhvr>
                                        <p:cTn id="46" dur="800" fill="hold"/>
                                        <p:tgtEl>
                                          <p:spTgt spid="52"/>
                                        </p:tgtEl>
                                      </p:cBhvr>
                                      <p:to x="2000000" y="2000000"/>
                                    </p:animScale>
                                  </p:childTnLst>
                                </p:cTn>
                              </p:par>
                              <p:par>
                                <p:cTn id="47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2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1" dur="2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dur="indefinite" nodeType="withEffect" fill="hold" presetClass="emph" presetID="6">
                                  <p:stCondLst>
                                    <p:cond delay="700"/>
                                  </p:stCondLst>
                                  <p:childTnLst>
                                    <p:animScale>
                                      <p:cBhvr>
                                        <p:cTn id="53" dur="800" fill="hold"/>
                                        <p:tgtEl>
                                          <p:spTgt spid="54"/>
                                        </p:tgtEl>
                                      </p:cBhvr>
                                      <p:to x="2000000" y="2000000"/>
                                    </p:animScale>
                                  </p:childTnLst>
                                </p:cTn>
                              </p:par>
                              <p:par>
                                <p:cTn id="54" dur="indefinite" nodeType="withEffect" fill="hold" presetClass="entr" presetID="10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8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dur="indefinite" autoRev="1" nodeType="withEffect" fill="hold" presetClass="emph" presetID="6">
                                  <p:stCondLst>
                                    <p:cond delay="1200"/>
                                  </p:stCondLst>
                                  <p:childTnLst>
                                    <p:animScale>
                                      <p:cBhvr>
                                        <p:cTn id="60" dur="500" fill="hold"/>
                                        <p:tgtEl>
                                          <p:spTgt spid="55"/>
                                        </p:tgtEl>
                                      </p:cBhvr>
                                      <p:to x="95000" y="95000"/>
                                    </p:animScale>
                                  </p:childTnLst>
                                </p:cTn>
                              </p:par>
                              <p:par>
                                <p:cTn id="61" dur="indefinite" nodeType="withEffect" fill="hold" presetClass="entr" presetID="1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dur="indefinite" autoRev="1" nodeType="withEffect" fill="hold" presetClass="emph" presetID="6">
                                  <p:stCondLst>
                                    <p:cond delay="1300"/>
                                  </p:stCondLst>
                                  <p:childTnLst>
                                    <p:animScale>
                                      <p:cBhvr>
                                        <p:cTn id="67" dur="500" fill="hold"/>
                                        <p:tgtEl>
                                          <p:spTgt spid="56"/>
                                        </p:tgtEl>
                                      </p:cBhvr>
                                      <p:to x="95000" y="95000"/>
                                    </p:animScale>
                                  </p:childTnLst>
                                </p:cTn>
                              </p:par>
                              <p:par>
                                <p:cTn id="68" dur="indefinite" nodeType="withEffect" fill="hold" presetClass="entr" presetID="1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dur="indefinite" autoRev="1" nodeType="withEffect" fill="hold" presetClass="emph" presetID="6">
                                  <p:stCondLst>
                                    <p:cond delay="1300"/>
                                  </p:stCondLst>
                                  <p:childTnLst>
                                    <p:animScale>
                                      <p:cBhvr>
                                        <p:cTn id="74" dur="500" fill="hold"/>
                                        <p:tgtEl>
                                          <p:spTgt spid="57"/>
                                        </p:tgtEl>
                                      </p:cBhvr>
                                      <p:to x="95000" y="95000"/>
                                    </p:animScale>
                                  </p:childTnLst>
                                </p:cTn>
                              </p:par>
                              <p:par>
                                <p:cTn id="75" dur="indefinite" nodeType="withEffect" fill="hold" presetClass="entr" presetID="10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dur="indefinite" autoRev="1" nodeType="withEffect" fill="hold" presetClass="emph" presetID="6">
                                  <p:stCondLst>
                                    <p:cond delay="1400"/>
                                  </p:stCondLst>
                                  <p:childTnLst>
                                    <p:animScale>
                                      <p:cBhvr>
                                        <p:cTn id="81" dur="500" fill="hold"/>
                                        <p:tgtEl>
                                          <p:spTgt spid="58"/>
                                        </p:tgtEl>
                                      </p:cBhvr>
                                      <p:to x="95000" y="95000"/>
                                    </p:animScale>
                                  </p:childTnLst>
                                </p:cTn>
                              </p:par>
                              <p:par>
                                <p:cTn id="82" dur="indefinite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dur="indefinite" autoRev="1" nodeType="withEffect" fill="hold" presetClass="emph" presetID="6">
                                  <p:stCondLst>
                                    <p:cond delay="1500"/>
                                  </p:stCondLst>
                                  <p:childTnLst>
                                    <p:animScale>
                                      <p:cBhvr>
                                        <p:cTn id="88" dur="500" fill="hold"/>
                                        <p:tgtEl>
                                          <p:spTgt spid="59"/>
                                        </p:tgtEl>
                                      </p:cBhvr>
                                      <p:to x="95000" y="95000"/>
                                    </p:animScale>
                                  </p:childTnLst>
                                </p:cTn>
                              </p:par>
                              <p:par>
                                <p:cTn id="89" dur="indefinite" nodeType="withEffect" fill="hold" presetClass="entr" presetID="10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dur="indefinite" autoRev="1" nodeType="withEffect" fill="hold" presetClass="emph" presetID="6">
                                  <p:stCondLst>
                                    <p:cond delay="1600"/>
                                  </p:stCondLst>
                                  <p:childTnLst>
                                    <p:animScale>
                                      <p:cBhvr>
                                        <p:cTn id="95" dur="500" fill="hold"/>
                                        <p:tgtEl>
                                          <p:spTgt spid="60"/>
                                        </p:tgtEl>
                                      </p:cBhvr>
                                      <p:to x="95000" y="95000"/>
                                    </p:animScale>
                                  </p:childTnLst>
                                </p:cTn>
                              </p:par>
                              <p:par>
                                <p:cTn id="96" dur="indefinite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2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5" dur="2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dur="indefinite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107" dur="800" fill="hold"/>
                                        <p:tgtEl>
                                          <p:spTgt spid="41"/>
                                        </p:tgtEl>
                                      </p:cBhvr>
                                      <p:to x="2000000" y="2000000"/>
                                    </p:animScale>
                                  </p:childTnLst>
                                </p:cTn>
                              </p:par>
                              <p:par>
                                <p:cTn id="108" dur="indefinite" nodeType="withEffect" fill="hold" presetClass="entr" presetID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2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2" dur="2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dur="indefinite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114" dur="800" fill="hold"/>
                                        <p:tgtEl>
                                          <p:spTgt spid="42"/>
                                        </p:tgtEl>
                                      </p:cBhvr>
                                      <p:to x="2000000" y="2000000"/>
                                    </p:animScale>
                                  </p:childTnLst>
                                </p:cTn>
                              </p:par>
                              <p:par>
                                <p:cTn id="115" dur="indefinite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2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9" dur="2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dur="indefinite" nodeType="withEffect" fill="hold" presetClass="emph" presetID="6">
                                  <p:stCondLst>
                                    <p:cond delay="400"/>
                                  </p:stCondLst>
                                  <p:childTnLst>
                                    <p:animScale>
                                      <p:cBhvr>
                                        <p:cTn id="121" dur="800" fill="hold"/>
                                        <p:tgtEl>
                                          <p:spTgt spid="43"/>
                                        </p:tgtEl>
                                      </p:cBhvr>
                                      <p:to x="2000000" y="2000000"/>
                                    </p:animScale>
                                  </p:childTnLst>
                                </p:cTn>
                              </p:par>
                              <p:par>
                                <p:cTn id="122" dur="indefinite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2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6" dur="2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dur="indefinite" nodeType="withEffect" fill="hold" presetClass="emph" presetID="6">
                                  <p:stCondLst>
                                    <p:cond delay="500"/>
                                  </p:stCondLst>
                                  <p:childTnLst>
                                    <p:animScale>
                                      <p:cBhvr>
                                        <p:cTn id="128" dur="800" fill="hold"/>
                                        <p:tgtEl>
                                          <p:spTgt spid="44"/>
                                        </p:tgtEl>
                                      </p:cBhvr>
                                      <p:to x="2000000" y="2000000"/>
                                    </p:animScale>
                                  </p:childTnLst>
                                </p:cTn>
                              </p:par>
                              <p:par>
                                <p:cTn id="129" dur="indefinite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2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33" dur="2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dur="indefinite" nodeType="withEffect" fill="hold" presetClass="emph" presetID="6">
                                  <p:stCondLst>
                                    <p:cond delay="600"/>
                                  </p:stCondLst>
                                  <p:childTnLst>
                                    <p:animScale>
                                      <p:cBhvr>
                                        <p:cTn id="135" dur="800" fill="hold"/>
                                        <p:tgtEl>
                                          <p:spTgt spid="45"/>
                                        </p:tgtEl>
                                      </p:cBhvr>
                                      <p:to x="2000000" y="2000000"/>
                                    </p:animScale>
                                  </p:childTnLst>
                                </p:cTn>
                              </p:par>
                              <p:par>
                                <p:cTn id="136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2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40" dur="2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dur="indefinite" nodeType="withEffect" fill="hold" presetClass="emph" presetID="6">
                                  <p:stCondLst>
                                    <p:cond delay="700"/>
                                  </p:stCondLst>
                                  <p:childTnLst>
                                    <p:animScale>
                                      <p:cBhvr>
                                        <p:cTn id="142" dur="800" fill="hold"/>
                                        <p:tgtEl>
                                          <p:spTgt spid="46"/>
                                        </p:tgtEl>
                                      </p:cBhvr>
                                      <p:to x="2000000" y="2000000"/>
                                    </p:animScale>
                                  </p:childTnLst>
                                </p:cTn>
                              </p:par>
                              <p:par>
                                <p:cTn id="143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2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47" dur="2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dur="indefinite" nodeType="withEffect" fill="hold" presetClass="emph" presetID="6">
                                  <p:stCondLst>
                                    <p:cond delay="700"/>
                                  </p:stCondLst>
                                  <p:childTnLst>
                                    <p:animScale>
                                      <p:cBhvr>
                                        <p:cTn id="149" dur="800" fill="hold"/>
                                        <p:tgtEl>
                                          <p:spTgt spid="53"/>
                                        </p:tgtEl>
                                      </p:cBhvr>
                                      <p:to x="2000000" y="2000000"/>
                                    </p:animScale>
                                  </p:childTnLst>
                                </p:cTn>
                              </p:par>
                              <p:par>
                                <p:cTn id="150" dur="indefinite" nodeType="withEffect" fill="hold" presetClass="entr" presetID="10">
                                  <p:stCondLst>
                                    <p:cond delay="290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4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4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54" dur="4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dur="indefinite" nodeType="withEffect" fill="hold" presetClass="emph" presetID="8">
                                  <p:stCondLst>
                                    <p:cond delay="2900"/>
                                  </p:stCondLst>
                                  <p:childTnLst>
                                    <p:animRot by="21600000">
                                      <p:cBhvr>
                                        <p:cTn id="156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7" dur="indefinite" nodeType="withEffect" fill="hold" presetClass="path" presetID="0">
                                  <p:stCondLst>
                                    <p:cond delay="2900"/>
                                  </p:stCondLst>
                                  <p:childTnLst>
                                    <p:animMotion origin="layout" path="M -2.22222E-006 2.71186E-006 C 0.00278 -0.01048 0.01788 -0.02034 0.02518 -0.02681 C 0.03351 -0.03359 0.04236 -0.04345 0.05243 -0.04746 C 0.07344 -0.05701 0.10052 -0.05763 0.12222 -0.05886 C 0.14045 -0.05979 0.15851 -0.0601 0.17639 -0.06102 C 0.18507 -0.06164 0.19479 -0.05886 0.20191 -0.06441 C 0.21979 -0.07766 0.2349 -0.09646 0.25261 -0.10971 C 0.25521 -0.11464 0.26337 -0.12758 0.26684 -0.13097 C 0.27136 -0.13436 0.27639 -0.13621 0.28004 -0.14053 C 0.28559 -0.14669 0.29045 -0.15131 0.29757 -0.15563 C 0.30955 -0.17073 0.30347 -0.16703 0.31337 -0.17073 C 0.32379 -0.17874 0.33229 -0.19045 0.34341 -0.19723 C 0.3474 -0.20247 0.34861 -0.20617 0.35452 -0.20832 C 0.35851 -0.21325 0.36059 -0.21541 0.3658 -0.21818 C 0.3757 -0.22743 0.38594 -0.23822 0.39601 -0.24623 C 0.39757 -0.24746 0.39913 -0.24746 0.40052 -0.24808 C 0.40365 -0.25023 0.40608 -0.25208 0.40868 -0.25424 C 0.42257 -0.26564 0.43264 -0.28043 0.44861 -0.28814 C 0.45677 -0.29769 0.4632 -0.30509 0.47222 -0.31248 C 0.48472 -0.32358 0.4757 -0.31279 0.48959 -0.32419 C 0.5066 -0.33714 0.51945 -0.35809 0.53768 -0.36949 C 0.54167 -0.37597 0.54393 -0.37812 0.55035 -0.3809 C 0.55695 -0.38922 0.56216 -0.3963 0.57084 -0.40154 C 0.57639 -0.40863 0.5849 -0.41202 0.59167 -0.41664 C 0.60712 -0.42743 0.59531 -0.42219 0.60747 -0.4262 C 0.61372 -0.43082 0.6191 -0.43359 0.62674 -0.43359 L 0.62483 -0.45424 E">
                                      <p:cBhvr>
                                        <p:cTn id="158" dur="2000" fill="hold"/>
                                        <p:tgtEl>
                                          <p:spTgt spid="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9" dur="indefinite" nodeType="withEffect" fill="hold" presetClass="entr" presetID="10">
                                  <p:stCondLst>
                                    <p:cond delay="310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4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4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63" dur="4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dur="indefinite" nodeType="withEffect" fill="hold" presetClass="emph" presetID="8">
                                  <p:stCondLst>
                                    <p:cond delay="3100"/>
                                  </p:stCondLst>
                                  <p:childTnLst>
                                    <p:animRot by="21600000">
                                      <p:cBhvr>
                                        <p:cTn id="165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6" dur="indefinite" nodeType="withEffect" fill="hold" presetClass="path" presetID="0">
                                  <p:stCondLst>
                                    <p:cond delay="3100"/>
                                  </p:stCondLst>
                                  <p:childTnLst>
                                    <p:animMotion origin="layout" path="M -3.61111E-006 -2.00308E-007 C 0.02066 0.01264 0.08646 0.04684 0.12448 0.07643 C 0.15868 0.09892 0.19566 0.1547 0.22796 0.1772 C 0.23021 0.18521 0.2375 0.20647 0.24063 0.2114 C 0.2448 0.21757 0.24914 0.21972 0.25261 0.22681 C 0.25747 0.23729 0.26198 0.24438 0.26841 0.25146 C 0.27917 0.27581 0.27379 0.27026 0.28264 0.27581 C 0.29202 0.28875 0.29966 0.30817 0.30973 0.31926 C 0.31337 0.32758 0.31441 0.33344 0.3198 0.33713 C 0.32344 0.34484 0.32535 0.34884 0.33004 0.35347 C 0.33889 0.36795 0.34809 0.38552 0.3573 0.39846 C 0.35851 0.40031 0.36007 0.40031 0.36129 0.40154 C 0.36407 0.40462 0.36615 0.4077 0.36858 0.4114 C 0.38108 0.42989 0.39028 0.45393 0.40452 0.46656 C 0.41198 0.48197 0.41771 0.49368 0.42587 0.50601 C 0.43716 0.52419 0.429 0.50632 0.44167 0.5245 C 0.45695 0.54576 0.46841 0.57997 0.4849 0.59815 C 0.48855 0.60894 0.49063 0.61233 0.49636 0.61664 C 0.50226 0.6302 0.50695 0.64191 0.51493 0.65023 C 0.5198 0.66163 0.52743 0.66718 0.53368 0.67458 C 0.54757 0.69214 0.53681 0.68382 0.54792 0.68998 C 0.55348 0.698 0.55834 0.70231 0.56528 0.70231 L 0.56355 0.73621 E">
                                      <p:cBhvr>
                                        <p:cTn id="167" dur="200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8" dur="indefinite" nodeType="withEffect" fill="hold" presetClass="entr" presetID="10">
                                  <p:stCondLst>
                                    <p:cond delay="390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dur="indefinite" nodeType="withEffect" fill="hold" presetClass="entr" presetID="10">
                                  <p:stCondLst>
                                    <p:cond delay="33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4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4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75" dur="4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dur="indefinite" nodeType="withEffect" fill="hold" presetClass="emph" presetID="8">
                                  <p:stCondLst>
                                    <p:cond delay="3300"/>
                                  </p:stCondLst>
                                  <p:childTnLst>
                                    <p:animRot by="-21599939">
                                      <p:cBhvr>
                                        <p:cTn id="177" dur="27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78" dur="indefinite" nodeType="withEffect" fill="hold" presetClass="path" presetID="0">
                                  <p:stCondLst>
                                    <p:cond delay="3300"/>
                                  </p:stCondLst>
                                  <p:childTnLst>
                                    <p:animMotion origin="layout" path="M -3.61111E-006 -0.00031 C -3.61111E-006 0.0265 0.00139 0.05146 0.00139 0.0681 C 0.00417 0.08443 0.00556 0.1094 0.00556 0.1208 C 0.01146 0.14391 0.01598 0.14576 0.01893 0.14884 C 0.02622 0.17534 0.0382 0.24745 0.04236 0.27735 C 0.04236 0.28998 0.04549 0.32357 0.04549 0.33128 C 0.04549 0.34206 0.04688 0.34607 0.04688 0.35624 C 0.04688 0.37195 0.04966 0.38336 0.04966 0.39507 C 0.05296 0.43297 0.05296 0.42373 0.05296 0.43297 C 0.05434 0.453 0.05712 0.48413 0.05712 0.50015 C 0.05851 0.51402 0.05851 0.52265 0.05851 0.5285 C 0.05851 0.54052 0.06164 0.54576 0.06164 0.55285 C 0.06441 0.57688 0.06441 0.6037 0.0658 0.62434 C 0.0658 0.62773 0.0658 0.62681 0.06893 0.62835 C 0.06893 0.63482 0.06893 0.63852 0.06893 0.64499 C 0.07188 0.67396 0.07327 0.71125 0.07639 0.73128 C 0.07917 0.75439 0.07917 0.77349 0.08056 0.79322 C 0.08368 0.82034 0.08056 0.79322 0.08368 0.82219 C 0.08507 0.85454 0.08785 0.90816 0.09115 0.93744 C 0.09254 0.95285 0.09254 0.95901 0.09254 0.96641 C 0.09532 0.98705 0.09532 1.00462 0.09844 1.01849 C 0.09844 1.03574 0.09983 1.04561 0.09983 1.0567 C 0.10261 1.08443 0.10261 1.07088 0.10591 1.08074 E">
                                      <p:cBhvr>
                                        <p:cTn id="179" dur="2700" fill="hold"/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0" dur="indefinite" nodeType="withEffect" fill="hold" presetClass="entr" presetID="45">
                                  <p:stCondLst>
                                    <p:cond delay="5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" dur="indefinite" nodeType="withEffect" fill="hold" presetClass="entr" presetID="22" presetSubtype="4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" dur="4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73" name="矩形 2"/>
          <p:cNvSpPr/>
          <p:nvPr/>
        </p:nvSpPr>
        <p:spPr>
          <a:xfrm>
            <a:off x="1258920" y="1419120"/>
            <a:ext cx="705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一支粉笔两袖清风，三尺讲台四季晴雨，加上五脏六腑，七嘴八舌九思十分用心，滴滴汗水诚滋桃李芳天下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Box 3"/>
          <p:cNvSpPr/>
          <p:nvPr/>
        </p:nvSpPr>
        <p:spPr>
          <a:xfrm>
            <a:off x="5316480" y="3422520"/>
            <a:ext cx="2676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华文行楷"/>
                <a:ea typeface="华文行楷"/>
              </a:rPr>
              <a:t>xxx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矩形 1"/>
          <p:cNvSpPr/>
          <p:nvPr/>
        </p:nvSpPr>
        <p:spPr>
          <a:xfrm flipV="1">
            <a:off x="4859280" y="3574440"/>
            <a:ext cx="541440" cy="3636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矩形 4"/>
          <p:cNvSpPr/>
          <p:nvPr/>
        </p:nvSpPr>
        <p:spPr>
          <a:xfrm>
            <a:off x="0" y="4838760"/>
            <a:ext cx="66600" cy="12204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7" descr="F:\工作夹\公司PPT作品\新logo应用\new logo白.png"/>
          <p:cNvPicPr/>
          <p:nvPr/>
        </p:nvPicPr>
        <p:blipFill>
          <a:blip r:embed="rId2"/>
          <a:stretch/>
        </p:blipFill>
        <p:spPr>
          <a:xfrm>
            <a:off x="139680" y="4838760"/>
            <a:ext cx="492120" cy="1350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withEffect" fill="hold" presetClass="entr" presetID="45">
                                  <p:stCondLst>
                                    <p:cond delay="5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dur="indefinite" nodeType="withEffect" fill="hold" presetClass="entr" presetID="10">
                                  <p:stCondLst>
                                    <p:cond delay="580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360" y="142560"/>
            <a:ext cx="8207280" cy="4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8000" y="952560"/>
            <a:ext cx="8928000" cy="39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Rectangle 7"/>
          <p:cNvSpPr/>
          <p:nvPr/>
        </p:nvSpPr>
        <p:spPr>
          <a:xfrm>
            <a:off x="7286760" y="250920"/>
            <a:ext cx="1388880" cy="26028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6T05:33:00Z</dcterms:created>
  <dc:creator>www.eeppt.com</dc:creator>
  <dc:description>ppt模板下载网站 http://www.eeppt.com</dc:description>
  <cp:keywords>ppt模板下载网站 http:/www.eeppt.com</cp:keywords>
  <dc:language>en-US</dc:language>
  <cp:lastModifiedBy/>
  <dcterms:modified xsi:type="dcterms:W3CDTF">2015-05-20T14:56:27Z</dcterms:modified>
  <cp:revision>13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