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A50D-5983-4C55-8B5B-6338C76D6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C8A3-D874-4CFC-920C-064D488C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5D8C-B944-4C06-A6E5-F811F4DCE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23E0-711A-475F-B725-D7DD4B0E5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CEB3-F44B-48DC-80F3-7BB30DE4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83EE-5AE7-4A8A-9757-92B4CF1F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9D5A-427E-43C4-962F-2B1668BA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F4B8-EC3B-4EBA-A0C5-38DB40D0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64AD-6082-4C73-9A72-33606E92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63A7-9CF5-4B84-A671-E4517F69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B5BD-41C8-4FC6-AC04-7CBA3E5F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C57F-2828-4CB4-B81B-C742B2B2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0628-1C93-4BC0-8C15-6DF8EE3B9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3205080" y="1628640"/>
            <a:ext cx="2382840" cy="3138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3"/>
          <a:stretch/>
        </p:blipFill>
        <p:spPr>
          <a:xfrm>
            <a:off x="1044720" y="3141720"/>
            <a:ext cx="2984400" cy="1041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4"/>
          <a:stretch/>
        </p:blipFill>
        <p:spPr>
          <a:xfrm>
            <a:off x="5869080" y="3213000"/>
            <a:ext cx="143964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0" y="2565360"/>
            <a:ext cx="9325080" cy="16286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4129200" y="2997360"/>
            <a:ext cx="86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教师是火种，点燃了学生的心灵之火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0" y="6453360"/>
            <a:ext cx="792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4170960" y="5373720"/>
            <a:ext cx="12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教师是石级，承受着学生一步步踏实地向上攀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080240" y="69228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教师是一支蜡烛，虽然细弱，但有一分热，发一分光，照亮了别人，耗尽了自己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1403280" y="2924280"/>
            <a:ext cx="668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这无私的奉献，令人永志不忘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324000" y="836640"/>
            <a:ext cx="4103640" cy="1141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3"/>
          <a:stretch/>
        </p:blipFill>
        <p:spPr>
          <a:xfrm>
            <a:off x="2195640" y="476280"/>
            <a:ext cx="1589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6T13:54:32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02:13Z</dcterms:modified>
  <cp:revision>2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