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2.png" ContentType="image/png"/>
  <Override PartName="/ppt/media/image24.png" ContentType="image/png"/>
  <Override PartName="/ppt/media/image11.jpeg" ContentType="image/jpeg"/>
  <Override PartName="/ppt/media/image21.gif" ContentType="image/gif"/>
  <Override PartName="/ppt/media/image10.jpeg" ContentType="image/jpeg"/>
  <Override PartName="/ppt/media/image20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27.jpeg" ContentType="image/jpeg"/>
  <Override PartName="/ppt/media/image33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F76F-4313-4FA7-848D-F35D2CA3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4D34-AEB6-4083-A0FF-6CBA4CD1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17CA-B0B7-43E1-BF9E-58F6362D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9991-3B74-428F-A39B-46FE6FA6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B334-FABD-48D2-A98A-01158F46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43C9-226C-4923-ABC0-D829CE68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5604-DA4A-4C01-B80E-23209379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2106-BA15-472B-8FDE-EB1D4D97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E852-A411-4A07-9A0C-3E59172D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728D-C015-4D0E-A491-EA5B02BF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3AD6-928E-42E2-BCDA-0A4AC1E9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0F0B-04D4-4AA1-AC94-3969C261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2E77-4594-4E95-9D02-A34B1626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E052-D227-46EB-81B5-96CF7F06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4F03-2F10-4296-9B76-25BAB909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E069-CD03-4C3D-A786-3946CDB3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C789-949F-45A4-92AA-1185A262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2CF4-47B3-4B82-B71B-8A6E46A6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5E16-F3A6-44E8-92C0-0731817F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41EF-2E71-4847-8581-E6DE8108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2266-A399-4391-B2EA-81B4D469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153F-255D-4F8F-9191-F7BDFFAB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F1BD-02B7-429D-A11B-8CF36055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5566-6AFF-4F72-9A45-F468424E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5909-3D88-4502-A6C9-FE460562A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9B6A-DCAD-4365-B673-ECBDF732394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1607-BD83-4AA3-B817-5156772720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3.jpeg"/><Relationship Id="rId1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2"/>
          <a:srcRect l="0" t="0" r="16398" b="0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4"/>
          <p:cNvSpPr txBox="1"/>
          <p:nvPr/>
        </p:nvSpPr>
        <p:spPr>
          <a:xfrm>
            <a:off x="990720" y="914400"/>
            <a:ext cx="7704000" cy="18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故宫博物院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11"/>
          <p:cNvPicPr/>
          <p:nvPr/>
        </p:nvPicPr>
        <p:blipFill>
          <a:blip r:embed="rId2"/>
          <a:stretch/>
        </p:blipFill>
        <p:spPr>
          <a:xfrm>
            <a:off x="0" y="0"/>
            <a:ext cx="853272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12"/>
          <p:cNvPicPr/>
          <p:nvPr/>
        </p:nvPicPr>
        <p:blipFill>
          <a:blip r:embed="rId2"/>
          <a:stretch/>
        </p:blipFill>
        <p:spPr>
          <a:xfrm>
            <a:off x="0" y="0"/>
            <a:ext cx="9468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middlehall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8" name="WordArt 4"/>
          <p:cNvSpPr txBox="1"/>
          <p:nvPr/>
        </p:nvSpPr>
        <p:spPr>
          <a:xfrm>
            <a:off x="468360" y="333360"/>
            <a:ext cx="23749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中和殿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prot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22" name="WordArt 4"/>
          <p:cNvSpPr txBox="1"/>
          <p:nvPr/>
        </p:nvSpPr>
        <p:spPr>
          <a:xfrm>
            <a:off x="395280" y="476280"/>
            <a:ext cx="234144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保和殿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200303250306_45607"/>
          <p:cNvPicPr/>
          <p:nvPr/>
        </p:nvPicPr>
        <p:blipFill>
          <a:blip r:embed="rId2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26" name="WordArt 4"/>
          <p:cNvSpPr txBox="1"/>
          <p:nvPr/>
        </p:nvSpPr>
        <p:spPr>
          <a:xfrm>
            <a:off x="6877080" y="765000"/>
            <a:ext cx="205416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保和殿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cpur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WordArt 4"/>
          <p:cNvSpPr txBox="1"/>
          <p:nvPr/>
        </p:nvSpPr>
        <p:spPr>
          <a:xfrm>
            <a:off x="6300720" y="333360"/>
            <a:ext cx="241452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乾清宫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hunio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WordArt 4"/>
          <p:cNvSpPr txBox="1"/>
          <p:nvPr/>
        </p:nvSpPr>
        <p:spPr>
          <a:xfrm>
            <a:off x="6516720" y="404640"/>
            <a:ext cx="219852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交泰殿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79280" y="1084320"/>
            <a:ext cx="107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清 代 放 置 寶 璽 的 地 方。 這 里 收 藏 著 二 十 五 方 代 表 皇 權 的 印 璽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用 金 盒 盛 裝， 黃 綢 覆 蓋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6"/>
          <p:cNvSpPr txBox="1"/>
          <p:nvPr/>
        </p:nvSpPr>
        <p:spPr>
          <a:xfrm>
            <a:off x="1042920" y="6021360"/>
            <a:ext cx="7315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清 代 放 置 寶 璽 的 地 方。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tranqui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WordArt 4"/>
          <p:cNvSpPr txBox="1"/>
          <p:nvPr/>
        </p:nvSpPr>
        <p:spPr>
          <a:xfrm>
            <a:off x="6873840" y="765000"/>
            <a:ext cx="227016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坤宁宫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250920" y="1229040"/>
            <a:ext cx="143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皇 后 的 寢 宮。 圖 為 坤 寧 宮 東 側 室， 是 皇 帝 大 婚 時 的 洞 房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大 婚 時 皇 后 只 在 此 居 住 三 日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然 后 回 到 各 自 所 住 的 宮 內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garden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WordArt 4"/>
          <p:cNvSpPr txBox="1"/>
          <p:nvPr/>
        </p:nvSpPr>
        <p:spPr>
          <a:xfrm>
            <a:off x="324000" y="549360"/>
            <a:ext cx="241452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御花园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northgate"/>
          <p:cNvPicPr/>
          <p:nvPr/>
        </p:nvPicPr>
        <p:blipFill>
          <a:blip r:embed="rId2"/>
          <a:stretch/>
        </p:blipFill>
        <p:spPr>
          <a:xfrm>
            <a:off x="0" y="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149" name="WordArt 4"/>
          <p:cNvSpPr txBox="1"/>
          <p:nvPr/>
        </p:nvSpPr>
        <p:spPr>
          <a:xfrm>
            <a:off x="324000" y="476280"/>
            <a:ext cx="2414520" cy="10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神武门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6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01"/>
          <p:cNvPicPr/>
          <p:nvPr/>
        </p:nvPicPr>
        <p:blipFill>
          <a:blip r:embed="rId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53" name="WordArt 4"/>
          <p:cNvSpPr txBox="1"/>
          <p:nvPr/>
        </p:nvSpPr>
        <p:spPr>
          <a:xfrm>
            <a:off x="6588000" y="981000"/>
            <a:ext cx="182592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景山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0640" y="762120"/>
            <a:ext cx="8163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思考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本文从哪些方面介绍了故宫？故宫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本文主要按什么顺序介绍故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1.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故宫概况（位置、历史、价值），全貌，建筑布局（三大殿、后三宫、御花园）；特点：规模宏大、形体壮丽、建筑精美、布局统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2.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空间顺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1111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304920" y="228600"/>
            <a:ext cx="4647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ff99"/>
                </a:solidFill>
                <a:latin typeface="Times New Roman"/>
                <a:ea typeface="创艺简细圆"/>
              </a:rPr>
              <a:t>说明顺序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28600" y="1676520"/>
            <a:ext cx="868680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00ff"/>
                </a:solidFill>
                <a:latin typeface="创艺简细圆"/>
                <a:ea typeface="创艺简细圆"/>
              </a:rPr>
              <a:t>        </a:t>
            </a:r>
            <a:r>
              <a:rPr b="1" lang="zh-CN" sz="4200" spc="-1" strike="noStrike">
                <a:solidFill>
                  <a:srgbClr val="6600ff"/>
                </a:solidFill>
                <a:latin typeface="创艺简细圆"/>
                <a:ea typeface="创艺简细圆"/>
              </a:rPr>
              <a:t>本文的说明顺序是按照故宫的空间顺序来安排说明顺序的。也就是说作者的参观路线，是按照故宫的建筑顺序来参观的，故宫的建筑顺序是由南向北，作者的参观路线基本上也是沿着由南向北的中轴线前进的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girl_h"/>
          <p:cNvPicPr/>
          <p:nvPr/>
        </p:nvPicPr>
        <p:blipFill>
          <a:blip r:embed="rId3"/>
          <a:stretch/>
        </p:blipFill>
        <p:spPr>
          <a:xfrm>
            <a:off x="4267080" y="228600"/>
            <a:ext cx="46483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文章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部分：概括说明故宫的称属、历史及现状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部分：是全文的重点，概括了故宫博物院的历史、现状、规模、布局特色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—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文章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简介故宫总体布局及建筑特色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紫禁城正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午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安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端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午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凤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庭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金水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汉白玉石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太和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大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紫禁城中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观、规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太和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◆外形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景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置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途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和殿： 概貌、用途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保和殿：用途  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）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前朝”“内廷”通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界地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 (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1763640" y="2133720"/>
            <a:ext cx="441360" cy="3743280"/>
          </a:xfrm>
          <a:custGeom>
            <a:avLst/>
            <a:gdLst>
              <a:gd name="textAreaLeft" fmla="*/ 281880 w 441360"/>
              <a:gd name="textAreaRight" fmla="*/ 441720 w 44136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5"/>
          <p:cNvSpPr txBox="1"/>
          <p:nvPr/>
        </p:nvSpPr>
        <p:spPr>
          <a:xfrm>
            <a:off x="611280" y="378936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前朝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乾清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用途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三宫      交泰殿：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坤宁宫：用途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前三殿比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后三宫特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御花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园林特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              (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从景山鸟瞰故宫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4284720" y="1700280"/>
            <a:ext cx="142920" cy="1584360"/>
          </a:xfrm>
          <a:custGeom>
            <a:avLst/>
            <a:gdLst>
              <a:gd name="textAreaLeft" fmla="*/ 91440 w 142920"/>
              <a:gd name="textAreaRight" fmla="*/ 143280 w 14292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2050920" y="1628640"/>
            <a:ext cx="144720" cy="2952720"/>
          </a:xfrm>
          <a:custGeom>
            <a:avLst/>
            <a:gdLst>
              <a:gd name="textAreaLeft" fmla="*/ 92520 w 144720"/>
              <a:gd name="textAreaRight" fmla="*/ 145080 w 1447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6"/>
          <p:cNvSpPr txBox="1"/>
          <p:nvPr/>
        </p:nvSpPr>
        <p:spPr>
          <a:xfrm>
            <a:off x="971640" y="285264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内廷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2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“前朝”中作者重点介绍了哪个大殿，为什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太和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三大殿的中心，皇帝的宝座在此，是显示皇威的地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故宫建筑群的中心，最全面最突出地体现了故宫的本质特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5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5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“内廷”中作者重点介绍了哪个宫，为什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乾清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皇帝处理日常政务，批阅奏章的地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在介绍太和殿时，立足点是什么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按什么顺序介绍的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在书上圈点出方位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立足点是正中的朱漆方台和雕金蟠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按空间顺序介绍的，按空间顺序写的文字，要有一个立足点，离开立足点，就无法确立方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ggD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太和殿为什么要设在中轴线上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其内景的主要特点是什么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为什么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了强调皇权这个中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内景的主要特点是彩绘了众多的龙的图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皇帝自命为真龙天子，这是皇权的象征，所以用龙来突出皇帝的尊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后三宫”的图案和前三殿有什么不同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三宫”彩绘中凤凰逐渐增加，出现了双凤朝阳、龙风呈祥、飞凤、舞凤、凤凰牡丹等图案。和前三殿相比庄严肃穆的气氛减少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故宫从明永乐四年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1406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开始修建，永乐十八年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1420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基本建成，至今已有近六百年的历史了。它集中体现了我国古代建筑艺术的优秀传统和独特风格。在当时社会条件下，能建筑这样高大雄伟的建筑群，充分反映了我国古代劳动人民的智慧和创造才能，在建筑史上具有十分重要的地位，是祖国珍贵的文化遗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bjgg2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背景27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WordArt 3"/>
          <p:cNvSpPr txBox="1"/>
          <p:nvPr/>
        </p:nvSpPr>
        <p:spPr>
          <a:xfrm>
            <a:off x="1332000" y="1773360"/>
            <a:ext cx="701028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图片欣赏</a:t>
            </a:r>
            <a:endParaRPr b="1" lang="en-US" sz="44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02" name="Picture 4" descr="signature"/>
          <p:cNvPicPr/>
          <p:nvPr/>
        </p:nvPicPr>
        <p:blipFill>
          <a:blip r:embed="rId5"/>
          <a:stretch/>
        </p:blipFill>
        <p:spPr>
          <a:xfrm>
            <a:off x="0" y="468360"/>
            <a:ext cx="9144000" cy="252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signature"/>
          <p:cNvPicPr/>
          <p:nvPr/>
        </p:nvPicPr>
        <p:blipFill>
          <a:blip r:embed="rId6"/>
          <a:stretch/>
        </p:blipFill>
        <p:spPr>
          <a:xfrm>
            <a:off x="0" y="6308640"/>
            <a:ext cx="9144000" cy="252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signature"/>
          <p:cNvPicPr/>
          <p:nvPr/>
        </p:nvPicPr>
        <p:blipFill>
          <a:blip r:embed="rId7"/>
          <a:stretch/>
        </p:blipFill>
        <p:spPr>
          <a:xfrm>
            <a:off x="468360" y="0"/>
            <a:ext cx="209520" cy="7605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signature"/>
          <p:cNvPicPr/>
          <p:nvPr/>
        </p:nvPicPr>
        <p:blipFill>
          <a:blip r:embed="rId8"/>
          <a:stretch/>
        </p:blipFill>
        <p:spPr>
          <a:xfrm>
            <a:off x="8459640" y="-2286000"/>
            <a:ext cx="2527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bjgg3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bjgg3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bjgg3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bjgg3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bjgg3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读一篇说明文应掌握的基本程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确定说明对象的特点；（最核心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确定说明事物的内容；（详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确定说明的顺序及结构；（空间；总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用恰当的说明方法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注意说明语言的准确性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bjgg4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bjgg3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bjggtu1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拓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口头介绍本校觉有特色的一个建筑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bjggtu3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gugong3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gugong4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P481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bjggtu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00200" y="761760"/>
            <a:ext cx="6858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矗立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高耸的直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迥然不同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形容差别很大。迥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差得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鳌头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指皇宫大殿前石阶上刻的鳌的头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考上状元的人可以踏上。独占鳌头比喻取得第一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3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523880" y="533520"/>
            <a:ext cx="723924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磬   攒   鳌头   琉璃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藻井   蟠龙   金銮殿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额枋   鎏金   矗立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迥然不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36560" y="2491560"/>
            <a:ext cx="599868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金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luán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殿 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áan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龙 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liú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金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玉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xǐ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妃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ín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zhàn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蓝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yù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傀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kuǐ lěi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yì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坤宫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修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shàn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击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qìng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zhào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书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684360" y="765000"/>
            <a:ext cx="1514160" cy="7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生字词</a:t>
            </a:r>
            <a:endParaRPr b="0" i="1" lang="en-US" sz="40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meridia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4"/>
          <p:cNvSpPr txBox="1"/>
          <p:nvPr/>
        </p:nvSpPr>
        <p:spPr>
          <a:xfrm>
            <a:off x="2195640" y="260280"/>
            <a:ext cx="4176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午门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gharmon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4"/>
          <p:cNvSpPr txBox="1"/>
          <p:nvPr/>
        </p:nvSpPr>
        <p:spPr>
          <a:xfrm>
            <a:off x="2627280" y="260280"/>
            <a:ext cx="381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太和门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47:33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7:33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