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E1B3-7B77-44B3-98B3-30EF45A0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23B5-B546-43C4-A94E-628D1F75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A05-A033-49A9-9747-F9102D1B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D28-EE6B-475C-A183-5A32B23B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05A-55B8-4D18-BC70-24FA6D5C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5B04-DF52-4C48-A1E9-B5C3FA15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C91A-9AAD-47F1-9150-55F5569C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F25F-4908-4FFF-946A-6C34928F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78B-458D-432E-B69A-22638823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9854-3B2D-4763-8DC1-A90A7D26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6253-E60D-4008-B411-CF5DE79B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EE5F-5E7D-4BA1-B5DE-5E6208D0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7AA02A-23B6-4EEE-AB2A-5C467A3057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"/>
          <p:cNvGrpSpPr/>
          <p:nvPr/>
        </p:nvGrpSpPr>
        <p:grpSpPr>
          <a:xfrm>
            <a:off x="395280" y="843120"/>
            <a:ext cx="8280360" cy="2684880"/>
            <a:chOff x="395280" y="843120"/>
            <a:chExt cx="8280360" cy="2684880"/>
          </a:xfrm>
        </p:grpSpPr>
        <p:sp>
          <p:nvSpPr>
            <p:cNvPr id="42" name="Text Box 2"/>
            <p:cNvSpPr/>
            <p:nvPr/>
          </p:nvSpPr>
          <p:spPr>
            <a:xfrm>
              <a:off x="395280" y="2009160"/>
              <a:ext cx="828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方正兰亭纤黑_GBK"/>
                  <a:ea typeface="方正兰亭纤黑_GBK"/>
                </a:rPr>
                <a:t>定位提案 </a:t>
              </a:r>
              <a:r>
                <a:rPr b="0" lang="en-US" sz="4400" spc="-1" strike="noStrike">
                  <a:solidFill>
                    <a:srgbClr val="ffffff"/>
                  </a:solidFill>
                  <a:latin typeface="方正兰亭纤黑_GBK"/>
                  <a:ea typeface="方正兰亭纤黑_GBK"/>
                </a:rPr>
                <a:t>&amp; </a:t>
              </a:r>
              <a:r>
                <a:rPr b="0" lang="zh-CN" sz="4400" spc="-1" strike="noStrike">
                  <a:solidFill>
                    <a:srgbClr val="ffffff"/>
                  </a:solidFill>
                  <a:latin typeface="方正兰亭纤黑_GBK"/>
                  <a:ea typeface="方正兰亭纤黑_GBK"/>
                </a:rPr>
                <a:t>广告推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931680" y="2946600"/>
              <a:ext cx="724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方正兰亭纤黑_GBK"/>
                  <a:ea typeface="方正兰亭纤黑_GBK"/>
                </a:rPr>
                <a:t>Positioning proposal &amp; advertising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矩形 2"/>
            <p:cNvSpPr/>
            <p:nvPr/>
          </p:nvSpPr>
          <p:spPr>
            <a:xfrm>
              <a:off x="2866320" y="843120"/>
              <a:ext cx="3337920" cy="16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【</a:t>
              </a:r>
              <a:r>
                <a:rPr b="0" lang="en-US" sz="66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xxxx</a:t>
              </a:r>
              <a:r>
                <a:rPr b="0" lang="en-US" sz="66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】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矩形 1"/>
          <p:cNvSpPr/>
          <p:nvPr/>
        </p:nvSpPr>
        <p:spPr>
          <a:xfrm>
            <a:off x="24840" y="98280"/>
            <a:ext cx="1034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500" spc="-1" strike="noStrike">
                <a:solidFill>
                  <a:srgbClr val="c00000"/>
                </a:solidFill>
                <a:latin typeface="Calibri"/>
              </a:rPr>
              <a:t>PPT</a:t>
            </a:r>
            <a:r>
              <a:rPr b="0" lang="zh-CN" sz="500" spc="-1" strike="noStrike">
                <a:solidFill>
                  <a:srgbClr val="c00000"/>
                </a:solidFill>
                <a:latin typeface="Calibri"/>
              </a:rPr>
              <a:t>下载：</a:t>
            </a:r>
            <a:r>
              <a:rPr b="0" lang="en-US" sz="500" spc="-1" strike="noStrike">
                <a:solidFill>
                  <a:srgbClr val="c00000"/>
                </a:solidFill>
                <a:latin typeface="Calibri"/>
              </a:rPr>
              <a:t>www.1ppt.com/xiazai/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3"/>
          <p:cNvSpPr/>
          <p:nvPr/>
        </p:nvSpPr>
        <p:spPr>
          <a:xfrm>
            <a:off x="469800" y="1781280"/>
            <a:ext cx="462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最佳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品质</a:t>
            </a: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楼盘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181" name="椭圆 25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圆角矩形 26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圆角矩形 27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圆角矩形 28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圆角矩形 29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圆角矩形 30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等腰三角形 32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9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190" name="矩形 34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35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23"/>
          <p:cNvSpPr/>
          <p:nvPr/>
        </p:nvSpPr>
        <p:spPr>
          <a:xfrm>
            <a:off x="469800" y="1781280"/>
            <a:ext cx="462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最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完美配套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199" name="椭圆 25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圆角矩形 26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圆角矩形 27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圆角矩形 28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圆角矩形 29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圆角矩形 30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等腰三角形 32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7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208" name="矩形 34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35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23"/>
          <p:cNvSpPr/>
          <p:nvPr/>
        </p:nvSpPr>
        <p:spPr>
          <a:xfrm>
            <a:off x="469800" y="1781280"/>
            <a:ext cx="462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超高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性价比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217" name="椭圆 25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圆角矩形 26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圆角矩形 27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圆角矩形 28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圆角矩形 29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圆角矩形 30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等腰三角形 32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5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226" name="矩形 34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35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2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23"/>
          <p:cNvSpPr/>
          <p:nvPr/>
        </p:nvSpPr>
        <p:spPr>
          <a:xfrm>
            <a:off x="469800" y="1781280"/>
            <a:ext cx="5612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最具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升值潜力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235" name="椭圆 25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圆角矩形 26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圆角矩形 27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圆角矩形 28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圆角矩形 29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圆角矩形 30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等腰三角形 32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3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244" name="矩形 34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35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2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9"/>
          <p:cNvSpPr/>
          <p:nvPr/>
        </p:nvSpPr>
        <p:spPr>
          <a:xfrm>
            <a:off x="0" y="2556000"/>
            <a:ext cx="9144000" cy="82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文本框 6"/>
          <p:cNvSpPr/>
          <p:nvPr/>
        </p:nvSpPr>
        <p:spPr>
          <a:xfrm>
            <a:off x="1995840" y="257040"/>
            <a:ext cx="17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找出</a:t>
            </a: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的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17"/>
          <p:cNvSpPr/>
          <p:nvPr/>
        </p:nvSpPr>
        <p:spPr>
          <a:xfrm>
            <a:off x="3697200" y="987480"/>
            <a:ext cx="54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品牌核心价值</a:t>
            </a:r>
            <a:r>
              <a:rPr b="0" lang="zh-CN" sz="2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（</a:t>
            </a: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VELUE</a:t>
            </a:r>
            <a:r>
              <a:rPr b="0" lang="zh-CN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1"/>
          <p:cNvSpPr/>
          <p:nvPr/>
        </p:nvSpPr>
        <p:spPr>
          <a:xfrm>
            <a:off x="2389320" y="270684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方正兰亭特黑_GBK"/>
                <a:ea typeface="方正兰亭特黑_GBK"/>
              </a:rPr>
              <a:t>满足客户根本需求，才能掌握核心价值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7"/>
          <p:cNvSpPr/>
          <p:nvPr/>
        </p:nvSpPr>
        <p:spPr>
          <a:xfrm>
            <a:off x="3780000" y="1563840"/>
            <a:ext cx="53640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5"/>
          <p:cNvSpPr/>
          <p:nvPr/>
        </p:nvSpPr>
        <p:spPr>
          <a:xfrm>
            <a:off x="718560" y="933480"/>
            <a:ext cx="21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XXXX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0"/>
          <p:cNvSpPr/>
          <p:nvPr/>
        </p:nvSpPr>
        <p:spPr>
          <a:xfrm>
            <a:off x="1914480" y="644400"/>
            <a:ext cx="53229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9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客户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11"/>
          <p:cNvSpPr/>
          <p:nvPr/>
        </p:nvSpPr>
        <p:spPr>
          <a:xfrm>
            <a:off x="2065320" y="3244680"/>
            <a:ext cx="517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CLIE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圆角矩形 21"/>
          <p:cNvSpPr/>
          <p:nvPr/>
        </p:nvSpPr>
        <p:spPr>
          <a:xfrm>
            <a:off x="201600" y="2273400"/>
            <a:ext cx="8748720" cy="2065320"/>
          </a:xfrm>
          <a:prstGeom prst="roundRect">
            <a:avLst>
              <a:gd name="adj" fmla="val 296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文本框 1"/>
          <p:cNvSpPr/>
          <p:nvPr/>
        </p:nvSpPr>
        <p:spPr>
          <a:xfrm>
            <a:off x="31932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客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直接连接符 3"/>
          <p:cNvSpPr/>
          <p:nvPr/>
        </p:nvSpPr>
        <p:spPr>
          <a:xfrm>
            <a:off x="9572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文本框 6"/>
          <p:cNvSpPr/>
          <p:nvPr/>
        </p:nvSpPr>
        <p:spPr>
          <a:xfrm>
            <a:off x="1358640" y="2570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购房理由 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254160" y="1924200"/>
            <a:ext cx="8638920" cy="56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5"/>
          <p:cNvSpPr/>
          <p:nvPr/>
        </p:nvSpPr>
        <p:spPr>
          <a:xfrm>
            <a:off x="2868120" y="7714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客户问卷调查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90520" y="2300400"/>
          <a:ext cx="8575560" cy="1890720"/>
        </p:xfrm>
        <a:graphic>
          <a:graphicData uri="http://schemas.openxmlformats.org/drawingml/2006/table">
            <a:tbl>
              <a:tblPr/>
              <a:tblGrid>
                <a:gridCol w="606600"/>
                <a:gridCol w="804600"/>
                <a:gridCol w="733680"/>
                <a:gridCol w="741240"/>
                <a:gridCol w="722160"/>
                <a:gridCol w="1413000"/>
                <a:gridCol w="882720"/>
                <a:gridCol w="639720"/>
                <a:gridCol w="677880"/>
                <a:gridCol w="655560"/>
                <a:gridCol w="698400"/>
              </a:tblGrid>
              <a:tr h="519120">
                <a:tc gridSpan="9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问题买房自住，主要是出于什么考虑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项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扩大住房面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给子女准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给父母养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给自己养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有一个更好的社区自然环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有一个更好的社区生活配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上班方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孩子上学方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周末过去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人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所占比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文本框 1"/>
          <p:cNvSpPr/>
          <p:nvPr/>
        </p:nvSpPr>
        <p:spPr>
          <a:xfrm>
            <a:off x="31932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客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直接连接符 3"/>
          <p:cNvSpPr/>
          <p:nvPr/>
        </p:nvSpPr>
        <p:spPr>
          <a:xfrm>
            <a:off x="9572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6"/>
          <p:cNvSpPr/>
          <p:nvPr/>
        </p:nvSpPr>
        <p:spPr>
          <a:xfrm>
            <a:off x="1413360" y="257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客户说什么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7"/>
          <p:cNvSpPr/>
          <p:nvPr/>
        </p:nvSpPr>
        <p:spPr>
          <a:xfrm>
            <a:off x="3745080" y="1851120"/>
            <a:ext cx="53640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5"/>
          <p:cNvSpPr/>
          <p:nvPr/>
        </p:nvSpPr>
        <p:spPr>
          <a:xfrm>
            <a:off x="792360" y="700200"/>
            <a:ext cx="232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听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客户在说话</a:t>
            </a:r>
            <a:r>
              <a:rPr b="0" lang="en-US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6"/>
          <p:cNvSpPr/>
          <p:nvPr/>
        </p:nvSpPr>
        <p:spPr>
          <a:xfrm>
            <a:off x="3924360" y="555480"/>
            <a:ext cx="56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对乡镇人群人性最根本的诉求追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当初为何想买房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9" name="组合 1"/>
          <p:cNvGrpSpPr/>
          <p:nvPr/>
        </p:nvGrpSpPr>
        <p:grpSpPr>
          <a:xfrm>
            <a:off x="4510080" y="2689200"/>
            <a:ext cx="5027760" cy="1312920"/>
            <a:chOff x="4510080" y="2689200"/>
            <a:chExt cx="5027760" cy="1312920"/>
          </a:xfrm>
        </p:grpSpPr>
        <p:sp>
          <p:nvSpPr>
            <p:cNvPr id="270" name="剪去单角的矩形 15"/>
            <p:cNvSpPr/>
            <p:nvPr/>
          </p:nvSpPr>
          <p:spPr>
            <a:xfrm flipH="1">
              <a:off x="5436360" y="2733480"/>
              <a:ext cx="3706920" cy="1257480"/>
            </a:xfrm>
            <a:custGeom>
              <a:avLst/>
              <a:gdLst/>
              <a:ahLst/>
              <a:rect l="l" t="t" r="r" b="b"/>
              <a:pathLst>
                <a:path w="3706813" h="1258299">
                  <a:moveTo>
                    <a:pt x="0" y="0"/>
                  </a:moveTo>
                  <a:lnTo>
                    <a:pt x="3407413" y="0"/>
                  </a:lnTo>
                  <a:lnTo>
                    <a:pt x="3706813" y="299400"/>
                  </a:lnTo>
                  <a:lnTo>
                    <a:pt x="3706813" y="1258299"/>
                  </a:lnTo>
                  <a:lnTo>
                    <a:pt x="0" y="1258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矩形 8"/>
            <p:cNvSpPr/>
            <p:nvPr/>
          </p:nvSpPr>
          <p:spPr>
            <a:xfrm>
              <a:off x="4510080" y="2689200"/>
              <a:ext cx="5027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      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客户不是单一的群体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         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必须抓住所有群体的</a:t>
              </a:r>
              <a:r>
                <a:rPr b="0" lang="en-US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     </a:t>
              </a:r>
              <a:r>
                <a:rPr b="0" lang="zh-CN" sz="32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共性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矩形 12"/>
          <p:cNvSpPr/>
          <p:nvPr/>
        </p:nvSpPr>
        <p:spPr>
          <a:xfrm>
            <a:off x="471600" y="7108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纤黑_GBK"/>
                <a:ea typeface="方正兰亭纤黑_GBK"/>
              </a:rPr>
              <a:t>在严重同质化的市场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纤黑_GBK"/>
                <a:ea typeface="方正兰亭纤黑_GBK"/>
              </a:rPr>
              <a:t>我们必须给客户解答一个问题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14" descr=""/>
          <p:cNvPicPr/>
          <p:nvPr/>
        </p:nvPicPr>
        <p:blipFill>
          <a:blip r:embed="rId1"/>
          <a:stretch/>
        </p:blipFill>
        <p:spPr>
          <a:xfrm>
            <a:off x="230040" y="2287440"/>
            <a:ext cx="5154840" cy="266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2"/>
          <p:cNvSpPr/>
          <p:nvPr/>
        </p:nvSpPr>
        <p:spPr>
          <a:xfrm>
            <a:off x="1619280" y="191448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——————</a:t>
            </a:r>
            <a:r>
              <a:rPr b="0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客户渴望加入他们，找到组织，加入</a:t>
            </a:r>
            <a:r>
              <a:rPr b="0" lang="en-US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的生活符号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3"/>
          <p:cNvSpPr/>
          <p:nvPr/>
        </p:nvSpPr>
        <p:spPr>
          <a:xfrm>
            <a:off x="1631520" y="879480"/>
            <a:ext cx="438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这就是被归纳概括的</a:t>
            </a:r>
            <a:r>
              <a:rPr b="1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幸福的家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接连接符 5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6"/>
          <p:cNvSpPr/>
          <p:nvPr/>
        </p:nvSpPr>
        <p:spPr>
          <a:xfrm>
            <a:off x="18388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推广定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1"/>
          <p:cNvSpPr/>
          <p:nvPr/>
        </p:nvSpPr>
        <p:spPr>
          <a:xfrm>
            <a:off x="1578600" y="2868480"/>
            <a:ext cx="5483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方正兰亭纤黑_GBK"/>
                <a:ea typeface="方正兰亭纤黑_GBK"/>
              </a:rPr>
              <a:t>新</a:t>
            </a:r>
            <a:r>
              <a:rPr b="1" lang="en-US" sz="6600" spc="-1" strike="noStrike">
                <a:solidFill>
                  <a:srgbClr val="c00000"/>
                </a:solidFill>
                <a:latin typeface="方正兰亭纤黑_GBK"/>
                <a:ea typeface="方正兰亭纤黑_GBK"/>
              </a:rPr>
              <a:t>xxxxxxx</a:t>
            </a:r>
            <a:r>
              <a:rPr b="1" lang="zh-CN" sz="6600" spc="-1" strike="noStrike">
                <a:solidFill>
                  <a:srgbClr val="c00000"/>
                </a:solidFill>
                <a:latin typeface="方正兰亭纤黑_GBK"/>
                <a:ea typeface="方正兰亭纤黑_GBK"/>
              </a:rPr>
              <a:t>社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8"/>
          <p:cNvSpPr/>
          <p:nvPr/>
        </p:nvSpPr>
        <p:spPr>
          <a:xfrm>
            <a:off x="412920" y="2500200"/>
            <a:ext cx="7992720" cy="108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9"/>
          <p:cNvSpPr/>
          <p:nvPr/>
        </p:nvSpPr>
        <p:spPr>
          <a:xfrm>
            <a:off x="423720" y="4192560"/>
            <a:ext cx="7993080" cy="108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1"/>
          <p:cNvSpPr/>
          <p:nvPr/>
        </p:nvSpPr>
        <p:spPr>
          <a:xfrm>
            <a:off x="204120" y="4875120"/>
            <a:ext cx="1034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5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5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500" spc="-1" strike="noStrike">
                <a:solidFill>
                  <a:srgbClr val="eeece1"/>
                </a:solidFill>
                <a:latin typeface="Calibri"/>
              </a:rPr>
              <a:t>www.1ppt.com/xiazai/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6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6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3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0"/>
          <p:cNvSpPr/>
          <p:nvPr/>
        </p:nvSpPr>
        <p:spPr>
          <a:xfrm>
            <a:off x="1914480" y="644400"/>
            <a:ext cx="53229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9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推广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1"/>
          <p:cNvSpPr/>
          <p:nvPr/>
        </p:nvSpPr>
        <p:spPr>
          <a:xfrm>
            <a:off x="600120" y="3305160"/>
            <a:ext cx="798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SPREA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914480" y="644400"/>
            <a:ext cx="53229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9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市场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2"/>
          <p:cNvSpPr/>
          <p:nvPr/>
        </p:nvSpPr>
        <p:spPr>
          <a:xfrm>
            <a:off x="2065320" y="3244680"/>
            <a:ext cx="51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MARKE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6"/>
          <p:cNvSpPr/>
          <p:nvPr/>
        </p:nvSpPr>
        <p:spPr>
          <a:xfrm>
            <a:off x="1885320" y="257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核心推广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5"/>
          <p:cNvSpPr/>
          <p:nvPr/>
        </p:nvSpPr>
        <p:spPr>
          <a:xfrm>
            <a:off x="1130760" y="843120"/>
            <a:ext cx="663156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推广第一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你</a:t>
            </a:r>
            <a:r>
              <a:rPr b="1" lang="en-US" sz="13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XXX</a:t>
            </a:r>
            <a:r>
              <a:rPr b="1" lang="zh-CN" sz="13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？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1885320" y="257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核心推广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5"/>
          <p:cNvSpPr/>
          <p:nvPr/>
        </p:nvSpPr>
        <p:spPr>
          <a:xfrm>
            <a:off x="1045800" y="700200"/>
            <a:ext cx="54475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推广第二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</a:t>
            </a:r>
            <a:r>
              <a:rPr b="1" lang="en-US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XXXXXXXXX</a:t>
            </a:r>
            <a:r>
              <a:rPr b="1" lang="zh-CN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6"/>
          <p:cNvSpPr/>
          <p:nvPr/>
        </p:nvSpPr>
        <p:spPr>
          <a:xfrm>
            <a:off x="1885320" y="257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核心推广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 5"/>
          <p:cNvSpPr/>
          <p:nvPr/>
        </p:nvSpPr>
        <p:spPr>
          <a:xfrm>
            <a:off x="1122480" y="700200"/>
            <a:ext cx="5904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推广第三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我</a:t>
            </a:r>
            <a:r>
              <a:rPr b="1" lang="en-US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XXXXXXXXXX</a:t>
            </a:r>
            <a:r>
              <a:rPr b="1" lang="zh-CN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市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1298880" y="2570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区位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组合 34"/>
          <p:cNvGrpSpPr/>
          <p:nvPr/>
        </p:nvGrpSpPr>
        <p:grpSpPr>
          <a:xfrm>
            <a:off x="1817640" y="700200"/>
            <a:ext cx="5256360" cy="3946320"/>
            <a:chOff x="1817640" y="700200"/>
            <a:chExt cx="5256360" cy="3946320"/>
          </a:xfrm>
        </p:grpSpPr>
        <p:pic>
          <p:nvPicPr>
            <p:cNvPr id="52" name="Picture 24" descr="夹江卫星地图"/>
            <p:cNvPicPr/>
            <p:nvPr/>
          </p:nvPicPr>
          <p:blipFill>
            <a:blip r:embed="rId1"/>
            <a:stretch/>
          </p:blipFill>
          <p:spPr>
            <a:xfrm>
              <a:off x="1817640" y="734040"/>
              <a:ext cx="5256360" cy="3912480"/>
            </a:xfrm>
            <a:prstGeom prst="rect">
              <a:avLst/>
            </a:prstGeom>
            <a:ln w="25560">
              <a:solidFill>
                <a:srgbClr val="c00000"/>
              </a:solidFill>
              <a:miter/>
            </a:ln>
          </p:spPr>
        </p:pic>
        <p:sp>
          <p:nvSpPr>
            <p:cNvPr id="53" name="椭圆 2"/>
            <p:cNvSpPr/>
            <p:nvPr/>
          </p:nvSpPr>
          <p:spPr>
            <a:xfrm>
              <a:off x="3159720" y="2165760"/>
              <a:ext cx="956520" cy="956160"/>
            </a:xfrm>
            <a:prstGeom prst="ellipse">
              <a:avLst/>
            </a:prstGeom>
            <a:solidFill>
              <a:srgbClr val="c0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TextBox 3"/>
            <p:cNvSpPr/>
            <p:nvPr/>
          </p:nvSpPr>
          <p:spPr>
            <a:xfrm>
              <a:off x="3174480" y="2428560"/>
              <a:ext cx="1229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1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商业生活区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1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老城区）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五角星 4"/>
            <p:cNvSpPr/>
            <p:nvPr/>
          </p:nvSpPr>
          <p:spPr>
            <a:xfrm>
              <a:off x="3506760" y="2846520"/>
              <a:ext cx="255600" cy="253800"/>
            </a:xfrm>
            <a:custGeom>
              <a:avLst/>
              <a:gdLst/>
              <a:ahLst/>
              <a:rect l="l" t="t" r="r" b="b"/>
              <a:pathLst>
                <a:path w="255605" h="254026">
                  <a:moveTo>
                    <a:pt x="0" y="97029"/>
                  </a:moveTo>
                  <a:lnTo>
                    <a:pt x="97633" y="97030"/>
                  </a:lnTo>
                  <a:lnTo>
                    <a:pt x="127803" y="0"/>
                  </a:lnTo>
                  <a:lnTo>
                    <a:pt x="157972" y="97030"/>
                  </a:lnTo>
                  <a:lnTo>
                    <a:pt x="255605" y="97029"/>
                  </a:lnTo>
                  <a:lnTo>
                    <a:pt x="176618" y="156996"/>
                  </a:lnTo>
                  <a:lnTo>
                    <a:pt x="206789" y="254025"/>
                  </a:lnTo>
                  <a:lnTo>
                    <a:pt x="127803" y="194057"/>
                  </a:lnTo>
                  <a:lnTo>
                    <a:pt x="48816" y="254025"/>
                  </a:lnTo>
                  <a:lnTo>
                    <a:pt x="78987" y="156996"/>
                  </a:lnTo>
                  <a:lnTo>
                    <a:pt x="0" y="970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椭圆 25"/>
            <p:cNvSpPr/>
            <p:nvPr/>
          </p:nvSpPr>
          <p:spPr>
            <a:xfrm>
              <a:off x="2792160" y="3061440"/>
              <a:ext cx="1530000" cy="1530000"/>
            </a:xfrm>
            <a:prstGeom prst="ellipse">
              <a:avLst/>
            </a:prstGeom>
            <a:solidFill>
              <a:srgbClr val="00b0f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椭圆 26"/>
            <p:cNvSpPr/>
            <p:nvPr/>
          </p:nvSpPr>
          <p:spPr>
            <a:xfrm>
              <a:off x="4594320" y="2439720"/>
              <a:ext cx="1083240" cy="1082880"/>
            </a:xfrm>
            <a:prstGeom prst="ellipse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椭圆 27"/>
            <p:cNvSpPr/>
            <p:nvPr/>
          </p:nvSpPr>
          <p:spPr>
            <a:xfrm>
              <a:off x="5202000" y="2922840"/>
              <a:ext cx="1440000" cy="1440000"/>
            </a:xfrm>
            <a:prstGeom prst="ellipse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椭圆 28"/>
            <p:cNvSpPr/>
            <p:nvPr/>
          </p:nvSpPr>
          <p:spPr>
            <a:xfrm>
              <a:off x="4464720" y="1093320"/>
              <a:ext cx="1123920" cy="1123920"/>
            </a:xfrm>
            <a:prstGeom prst="ellipse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椭圆 29"/>
            <p:cNvSpPr/>
            <p:nvPr/>
          </p:nvSpPr>
          <p:spPr>
            <a:xfrm>
              <a:off x="5513400" y="700200"/>
              <a:ext cx="1041840" cy="1041840"/>
            </a:xfrm>
            <a:prstGeom prst="ellipse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泪滴形 8"/>
            <p:cNvSpPr/>
            <p:nvPr/>
          </p:nvSpPr>
          <p:spPr>
            <a:xfrm rot="7954800">
              <a:off x="4045320" y="1973880"/>
              <a:ext cx="141120" cy="139680"/>
            </a:xfrm>
            <a:custGeom>
              <a:avLst/>
              <a:gdLst/>
              <a:ahLst/>
              <a:rect l="l" t="t" r="r" b="b"/>
              <a:pathLst>
                <a:path w="141301" h="139710">
                  <a:moveTo>
                    <a:pt x="0" y="69855"/>
                  </a:moveTo>
                  <a:cubicBezTo>
                    <a:pt x="0" y="31275"/>
                    <a:pt x="31632" y="0"/>
                    <a:pt x="70651" y="0"/>
                  </a:cubicBezTo>
                  <a:cubicBezTo>
                    <a:pt x="111157" y="0"/>
                    <a:pt x="151663" y="-16765"/>
                    <a:pt x="192169" y="-50296"/>
                  </a:cubicBezTo>
                  <a:cubicBezTo>
                    <a:pt x="158257" y="-10245"/>
                    <a:pt x="141301" y="29805"/>
                    <a:pt x="141301" y="69855"/>
                  </a:cubicBezTo>
                  <a:cubicBezTo>
                    <a:pt x="141301" y="108435"/>
                    <a:pt x="109669" y="139710"/>
                    <a:pt x="70650" y="139710"/>
                  </a:cubicBezTo>
                  <a:cubicBezTo>
                    <a:pt x="31631" y="139710"/>
                    <a:pt x="-1" y="108435"/>
                    <a:pt x="-1" y="69855"/>
                  </a:cubicBezTo>
                  <a:lnTo>
                    <a:pt x="0" y="698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泪滴形 30"/>
            <p:cNvSpPr/>
            <p:nvPr/>
          </p:nvSpPr>
          <p:spPr>
            <a:xfrm rot="7954800">
              <a:off x="4260960" y="3571560"/>
              <a:ext cx="141120" cy="141120"/>
            </a:xfrm>
            <a:custGeom>
              <a:avLst/>
              <a:gdLst/>
              <a:ahLst/>
              <a:rect l="l" t="t" r="r" b="b"/>
              <a:pathLst>
                <a:path w="141302" h="141298">
                  <a:moveTo>
                    <a:pt x="0" y="70649"/>
                  </a:moveTo>
                  <a:cubicBezTo>
                    <a:pt x="0" y="31631"/>
                    <a:pt x="31632" y="0"/>
                    <a:pt x="70651" y="0"/>
                  </a:cubicBezTo>
                  <a:cubicBezTo>
                    <a:pt x="111158" y="0"/>
                    <a:pt x="151664" y="-16956"/>
                    <a:pt x="192171" y="-50867"/>
                  </a:cubicBezTo>
                  <a:cubicBezTo>
                    <a:pt x="158258" y="-10362"/>
                    <a:pt x="141302" y="30144"/>
                    <a:pt x="141302" y="70649"/>
                  </a:cubicBezTo>
                  <a:cubicBezTo>
                    <a:pt x="141302" y="109667"/>
                    <a:pt x="109670" y="141298"/>
                    <a:pt x="70651" y="141298"/>
                  </a:cubicBezTo>
                  <a:cubicBezTo>
                    <a:pt x="31632" y="141298"/>
                    <a:pt x="0" y="109667"/>
                    <a:pt x="0" y="706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泪滴形 31"/>
            <p:cNvSpPr/>
            <p:nvPr/>
          </p:nvSpPr>
          <p:spPr>
            <a:xfrm rot="7954800">
              <a:off x="4413240" y="3087360"/>
              <a:ext cx="141120" cy="141120"/>
            </a:xfrm>
            <a:custGeom>
              <a:avLst/>
              <a:gdLst/>
              <a:ahLst/>
              <a:rect l="l" t="t" r="r" b="b"/>
              <a:pathLst>
                <a:path w="141301" h="141298">
                  <a:moveTo>
                    <a:pt x="0" y="70649"/>
                  </a:moveTo>
                  <a:cubicBezTo>
                    <a:pt x="0" y="31631"/>
                    <a:pt x="31632" y="0"/>
                    <a:pt x="70651" y="0"/>
                  </a:cubicBezTo>
                  <a:cubicBezTo>
                    <a:pt x="111157" y="0"/>
                    <a:pt x="151663" y="-16956"/>
                    <a:pt x="192169" y="-50867"/>
                  </a:cubicBezTo>
                  <a:cubicBezTo>
                    <a:pt x="158257" y="-10362"/>
                    <a:pt x="141301" y="30144"/>
                    <a:pt x="141301" y="70649"/>
                  </a:cubicBezTo>
                  <a:cubicBezTo>
                    <a:pt x="141301" y="109667"/>
                    <a:pt x="109669" y="141298"/>
                    <a:pt x="70650" y="141298"/>
                  </a:cubicBezTo>
                  <a:cubicBezTo>
                    <a:pt x="31631" y="141298"/>
                    <a:pt x="-1" y="109667"/>
                    <a:pt x="-1" y="70649"/>
                  </a:cubicBezTo>
                  <a:lnTo>
                    <a:pt x="0" y="706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泪滴形 32"/>
            <p:cNvSpPr/>
            <p:nvPr/>
          </p:nvSpPr>
          <p:spPr>
            <a:xfrm rot="7954800">
              <a:off x="3463920" y="4292280"/>
              <a:ext cx="141120" cy="141120"/>
            </a:xfrm>
            <a:custGeom>
              <a:avLst/>
              <a:gdLst/>
              <a:ahLst/>
              <a:rect l="l" t="t" r="r" b="b"/>
              <a:pathLst>
                <a:path w="141302" h="141298">
                  <a:moveTo>
                    <a:pt x="0" y="70649"/>
                  </a:moveTo>
                  <a:cubicBezTo>
                    <a:pt x="0" y="31631"/>
                    <a:pt x="31632" y="0"/>
                    <a:pt x="70651" y="0"/>
                  </a:cubicBezTo>
                  <a:cubicBezTo>
                    <a:pt x="111158" y="0"/>
                    <a:pt x="151664" y="-16956"/>
                    <a:pt x="192171" y="-50867"/>
                  </a:cubicBezTo>
                  <a:cubicBezTo>
                    <a:pt x="158258" y="-10362"/>
                    <a:pt x="141302" y="30144"/>
                    <a:pt x="141302" y="70649"/>
                  </a:cubicBezTo>
                  <a:cubicBezTo>
                    <a:pt x="141302" y="109667"/>
                    <a:pt x="109670" y="141298"/>
                    <a:pt x="70651" y="141298"/>
                  </a:cubicBezTo>
                  <a:cubicBezTo>
                    <a:pt x="31632" y="141298"/>
                    <a:pt x="0" y="109667"/>
                    <a:pt x="0" y="706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泪滴形 33"/>
            <p:cNvSpPr/>
            <p:nvPr/>
          </p:nvSpPr>
          <p:spPr>
            <a:xfrm rot="7954800">
              <a:off x="4739400" y="2648520"/>
              <a:ext cx="141120" cy="139680"/>
            </a:xfrm>
            <a:custGeom>
              <a:avLst/>
              <a:gdLst/>
              <a:ahLst/>
              <a:rect l="l" t="t" r="r" b="b"/>
              <a:pathLst>
                <a:path w="141302" h="139710">
                  <a:moveTo>
                    <a:pt x="0" y="69855"/>
                  </a:moveTo>
                  <a:cubicBezTo>
                    <a:pt x="0" y="31275"/>
                    <a:pt x="31632" y="0"/>
                    <a:pt x="70651" y="0"/>
                  </a:cubicBezTo>
                  <a:cubicBezTo>
                    <a:pt x="111158" y="0"/>
                    <a:pt x="151664" y="-16765"/>
                    <a:pt x="192171" y="-50296"/>
                  </a:cubicBezTo>
                  <a:cubicBezTo>
                    <a:pt x="158258" y="-10245"/>
                    <a:pt x="141302" y="29805"/>
                    <a:pt x="141302" y="69855"/>
                  </a:cubicBezTo>
                  <a:cubicBezTo>
                    <a:pt x="141302" y="108435"/>
                    <a:pt x="109670" y="139710"/>
                    <a:pt x="70651" y="139710"/>
                  </a:cubicBezTo>
                  <a:cubicBezTo>
                    <a:pt x="31632" y="139710"/>
                    <a:pt x="0" y="108435"/>
                    <a:pt x="0" y="698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9"/>
          <p:cNvSpPr/>
          <p:nvPr/>
        </p:nvSpPr>
        <p:spPr>
          <a:xfrm>
            <a:off x="-23760" y="2860560"/>
            <a:ext cx="9167760" cy="1079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需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接连接符 3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133704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品牌愿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309600" y="3024360"/>
            <a:ext cx="83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兰亭纤黑_GBK"/>
                <a:ea typeface="方正兰亭纤黑_GBK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方正兰亭纤黑_GBK"/>
                <a:ea typeface="方正兰亭纤黑_GBK"/>
              </a:rPr>
              <a:t>打造“不走寻常路”的品牌风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700200" y="1203480"/>
            <a:ext cx="850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    </a:t>
            </a:r>
            <a:r>
              <a:rPr b="0" lang="zh-CN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我们需要的是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什么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531720" y="3506760"/>
            <a:ext cx="5985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8"/>
          <p:cNvSpPr/>
          <p:nvPr/>
        </p:nvSpPr>
        <p:spPr>
          <a:xfrm>
            <a:off x="684360" y="3003480"/>
            <a:ext cx="42703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本框 6"/>
          <p:cNvSpPr/>
          <p:nvPr/>
        </p:nvSpPr>
        <p:spPr>
          <a:xfrm>
            <a:off x="1147680" y="257040"/>
            <a:ext cx="41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推广重心在何方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393840" y="1919160"/>
            <a:ext cx="439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感染力、号召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崭新推广语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触动人心的感性表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客户思维的导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1370880" y="971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推广重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23"/>
          <p:cNvSpPr/>
          <p:nvPr/>
        </p:nvSpPr>
        <p:spPr>
          <a:xfrm>
            <a:off x="3276720" y="1203480"/>
            <a:ext cx="58608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25"/>
          <p:cNvSpPr/>
          <p:nvPr/>
        </p:nvSpPr>
        <p:spPr>
          <a:xfrm>
            <a:off x="6480" y="1203480"/>
            <a:ext cx="7920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组合 1"/>
          <p:cNvGrpSpPr/>
          <p:nvPr/>
        </p:nvGrpSpPr>
        <p:grpSpPr>
          <a:xfrm>
            <a:off x="5219640" y="2066760"/>
            <a:ext cx="4125960" cy="1930680"/>
            <a:chOff x="5219640" y="2066760"/>
            <a:chExt cx="4125960" cy="1930680"/>
          </a:xfrm>
        </p:grpSpPr>
        <p:grpSp>
          <p:nvGrpSpPr>
            <p:cNvPr id="82" name="组合 32"/>
            <p:cNvGrpSpPr/>
            <p:nvPr/>
          </p:nvGrpSpPr>
          <p:grpSpPr>
            <a:xfrm>
              <a:off x="5724360" y="2153160"/>
              <a:ext cx="3621240" cy="1676880"/>
              <a:chOff x="5724360" y="2153160"/>
              <a:chExt cx="3621240" cy="1676880"/>
            </a:xfrm>
          </p:grpSpPr>
          <p:sp>
            <p:nvSpPr>
              <p:cNvPr id="83" name="剪去单角的矩形 29"/>
              <p:cNvSpPr/>
              <p:nvPr/>
            </p:nvSpPr>
            <p:spPr>
              <a:xfrm>
                <a:off x="5724360" y="2153160"/>
                <a:ext cx="3240360" cy="1676880"/>
              </a:xfrm>
              <a:custGeom>
                <a:avLst/>
                <a:gdLst/>
                <a:ahLst/>
                <a:rect l="l" t="t" r="r" b="b"/>
                <a:pathLst>
                  <a:path w="3241107" h="1677083">
                    <a:moveTo>
                      <a:pt x="0" y="0"/>
                    </a:moveTo>
                    <a:lnTo>
                      <a:pt x="2758375" y="0"/>
                    </a:lnTo>
                    <a:lnTo>
                      <a:pt x="3241107" y="482732"/>
                    </a:lnTo>
                    <a:lnTo>
                      <a:pt x="3241107" y="1677083"/>
                    </a:lnTo>
                    <a:lnTo>
                      <a:pt x="0" y="16770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矩形 4"/>
              <p:cNvSpPr/>
              <p:nvPr/>
            </p:nvSpPr>
            <p:spPr>
              <a:xfrm>
                <a:off x="5925600" y="2329200"/>
                <a:ext cx="34200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方正兰亭纤黑_GBK"/>
                    <a:ea typeface="方正兰亭纤黑_GBK"/>
                  </a:rPr>
                  <a:t>不走寻常路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方正兰亭纤黑_GBK"/>
                    <a:ea typeface="方正兰亭纤黑_GBK"/>
                  </a:rPr>
                  <a:t>  </a:t>
                </a:r>
                <a:r>
                  <a:rPr b="0" lang="zh-CN" sz="40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品牌风格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" name="直接连接符 26"/>
            <p:cNvSpPr/>
            <p:nvPr/>
          </p:nvSpPr>
          <p:spPr>
            <a:xfrm>
              <a:off x="5219640" y="2066760"/>
              <a:ext cx="0" cy="1930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6"/>
          <p:cNvSpPr/>
          <p:nvPr/>
        </p:nvSpPr>
        <p:spPr>
          <a:xfrm>
            <a:off x="1147680" y="257040"/>
            <a:ext cx="41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推广重心在何方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3"/>
          <p:cNvSpPr/>
          <p:nvPr/>
        </p:nvSpPr>
        <p:spPr>
          <a:xfrm>
            <a:off x="1370880" y="971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推广重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3"/>
          <p:cNvSpPr/>
          <p:nvPr/>
        </p:nvSpPr>
        <p:spPr>
          <a:xfrm>
            <a:off x="3276720" y="1203480"/>
            <a:ext cx="58608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25"/>
          <p:cNvSpPr/>
          <p:nvPr/>
        </p:nvSpPr>
        <p:spPr>
          <a:xfrm>
            <a:off x="6480" y="1203480"/>
            <a:ext cx="7920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5" descr="http://img.ea3w.com/165_500x375/164103.jpg"/>
          <p:cNvPicPr/>
          <p:nvPr/>
        </p:nvPicPr>
        <p:blipFill>
          <a:blip r:embed="rId1"/>
          <a:stretch/>
        </p:blipFill>
        <p:spPr>
          <a:xfrm>
            <a:off x="6084720" y="2021040"/>
            <a:ext cx="2533680" cy="190008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pic>
        <p:nvPicPr>
          <p:cNvPr id="93" name="Picture 17" descr="http://i1.cvimage.cn/c/thump/2010/06/24/9b2f8af42363e4df466a9eb69e4fc811_3__337_100.jpg"/>
          <p:cNvPicPr/>
          <p:nvPr/>
        </p:nvPicPr>
        <p:blipFill>
          <a:blip r:embed="rId2"/>
          <a:srcRect l="-729" t="0" r="740" b="22086"/>
          <a:stretch/>
        </p:blipFill>
        <p:spPr>
          <a:xfrm>
            <a:off x="252360" y="1995480"/>
            <a:ext cx="2340000" cy="193680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pic>
        <p:nvPicPr>
          <p:cNvPr id="94" name="Picture 2" descr="http://www.cuec.net.cn/uploadfiles/201022714142594878.jpg"/>
          <p:cNvPicPr/>
          <p:nvPr/>
        </p:nvPicPr>
        <p:blipFill>
          <a:blip r:embed="rId3"/>
          <a:stretch/>
        </p:blipFill>
        <p:spPr>
          <a:xfrm>
            <a:off x="3059280" y="2009880"/>
            <a:ext cx="2535120" cy="192240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2"/>
          <p:cNvSpPr/>
          <p:nvPr/>
        </p:nvSpPr>
        <p:spPr>
          <a:xfrm>
            <a:off x="-36360" y="1695600"/>
            <a:ext cx="532908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品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接连接符 3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6"/>
          <p:cNvSpPr/>
          <p:nvPr/>
        </p:nvSpPr>
        <p:spPr>
          <a:xfrm>
            <a:off x="1954080" y="2570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如何打造“不走寻常路”的品牌风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539640" y="949320"/>
            <a:ext cx="850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How</a:t>
            </a:r>
            <a:r>
              <a:rPr b="0" lang="zh-CN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 </a:t>
            </a:r>
            <a:r>
              <a:rPr b="0" lang="en-US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to do i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5619240" y="48420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15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？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6465960" y="1695600"/>
            <a:ext cx="271440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组合 6"/>
          <p:cNvGrpSpPr/>
          <p:nvPr/>
        </p:nvGrpSpPr>
        <p:grpSpPr>
          <a:xfrm>
            <a:off x="-11160" y="2054160"/>
            <a:ext cx="8753400" cy="3240000"/>
            <a:chOff x="-11160" y="2054160"/>
            <a:chExt cx="8753400" cy="3240000"/>
          </a:xfrm>
        </p:grpSpPr>
        <p:sp>
          <p:nvSpPr>
            <p:cNvPr id="103" name="矩形 7"/>
            <p:cNvSpPr/>
            <p:nvPr/>
          </p:nvSpPr>
          <p:spPr>
            <a:xfrm>
              <a:off x="393120" y="3456000"/>
              <a:ext cx="445968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矩形 8"/>
            <p:cNvSpPr/>
            <p:nvPr/>
          </p:nvSpPr>
          <p:spPr>
            <a:xfrm>
              <a:off x="506880" y="3149640"/>
              <a:ext cx="3182040" cy="74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组合 1"/>
            <p:cNvGrpSpPr/>
            <p:nvPr/>
          </p:nvGrpSpPr>
          <p:grpSpPr>
            <a:xfrm>
              <a:off x="-11160" y="2440080"/>
              <a:ext cx="5665320" cy="2653560"/>
              <a:chOff x="-11160" y="2440080"/>
              <a:chExt cx="5665320" cy="2653560"/>
            </a:xfrm>
          </p:grpSpPr>
          <p:sp>
            <p:nvSpPr>
              <p:cNvPr id="106" name="矩形 15"/>
              <p:cNvSpPr/>
              <p:nvPr/>
            </p:nvSpPr>
            <p:spPr>
              <a:xfrm>
                <a:off x="-11160" y="2523960"/>
                <a:ext cx="5469120" cy="1518840"/>
              </a:xfrm>
              <a:custGeom>
                <a:avLst/>
                <a:gdLst/>
                <a:ahLst/>
                <a:rect l="l" t="t" r="r" b="b"/>
                <a:pathLst>
                  <a:path w="7339012" h="2267556">
                    <a:moveTo>
                      <a:pt x="0" y="12700"/>
                    </a:moveTo>
                    <a:lnTo>
                      <a:pt x="5967412" y="0"/>
                    </a:lnTo>
                    <a:lnTo>
                      <a:pt x="7339012" y="2267556"/>
                    </a:lnTo>
                    <a:lnTo>
                      <a:pt x="0" y="2267556"/>
                    </a:lnTo>
                    <a:lnTo>
                      <a:pt x="0" y="1270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矩形 10"/>
              <p:cNvSpPr/>
              <p:nvPr/>
            </p:nvSpPr>
            <p:spPr>
              <a:xfrm>
                <a:off x="77400" y="2440080"/>
                <a:ext cx="5576760" cy="26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一个品牌核心价值（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VELUE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     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一句核心传播语（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SLOGEN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）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	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        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一个具延展性的画面（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IMAGE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8" name="矩形 16" descr=""/>
            <p:cNvPicPr/>
            <p:nvPr/>
          </p:nvPicPr>
          <p:blipFill>
            <a:blip r:embed="rId1"/>
            <a:stretch/>
          </p:blipFill>
          <p:spPr>
            <a:xfrm>
              <a:off x="4590000" y="2054160"/>
              <a:ext cx="4152240" cy="3240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6"/>
          <p:cNvSpPr/>
          <p:nvPr/>
        </p:nvSpPr>
        <p:spPr>
          <a:xfrm>
            <a:off x="2121480" y="2570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品牌核心价值在哪里 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14"/>
          <p:cNvGrpSpPr/>
          <p:nvPr/>
        </p:nvGrpSpPr>
        <p:grpSpPr>
          <a:xfrm>
            <a:off x="1212840" y="874800"/>
            <a:ext cx="1359000" cy="1301760"/>
            <a:chOff x="1212840" y="874800"/>
            <a:chExt cx="1359000" cy="1301760"/>
          </a:xfrm>
        </p:grpSpPr>
        <p:sp>
          <p:nvSpPr>
            <p:cNvPr id="113" name="椭圆 13"/>
            <p:cNvSpPr/>
            <p:nvPr/>
          </p:nvSpPr>
          <p:spPr>
            <a:xfrm>
              <a:off x="1232640" y="874800"/>
              <a:ext cx="1301760" cy="13017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矩形 9"/>
            <p:cNvSpPr/>
            <p:nvPr/>
          </p:nvSpPr>
          <p:spPr>
            <a:xfrm>
              <a:off x="1212840" y="1090080"/>
              <a:ext cx="1359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高度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差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组合 2047"/>
          <p:cNvGrpSpPr/>
          <p:nvPr/>
        </p:nvGrpSpPr>
        <p:grpSpPr>
          <a:xfrm>
            <a:off x="4834080" y="871560"/>
            <a:ext cx="1301760" cy="1300320"/>
            <a:chOff x="4834080" y="871560"/>
            <a:chExt cx="1301760" cy="1300320"/>
          </a:xfrm>
        </p:grpSpPr>
        <p:sp>
          <p:nvSpPr>
            <p:cNvPr id="116" name="椭圆 27"/>
            <p:cNvSpPr/>
            <p:nvPr/>
          </p:nvSpPr>
          <p:spPr>
            <a:xfrm>
              <a:off x="4834080" y="871560"/>
              <a:ext cx="1301760" cy="130032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矩形 6"/>
            <p:cNvSpPr/>
            <p:nvPr/>
          </p:nvSpPr>
          <p:spPr>
            <a:xfrm>
              <a:off x="5019480" y="1077480"/>
              <a:ext cx="7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广阔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包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组合 15"/>
          <p:cNvGrpSpPr/>
          <p:nvPr/>
        </p:nvGrpSpPr>
        <p:grpSpPr>
          <a:xfrm>
            <a:off x="6597720" y="900000"/>
            <a:ext cx="1301760" cy="1301760"/>
            <a:chOff x="6597720" y="900000"/>
            <a:chExt cx="1301760" cy="1301760"/>
          </a:xfrm>
        </p:grpSpPr>
        <p:sp>
          <p:nvSpPr>
            <p:cNvPr id="119" name="椭圆 30"/>
            <p:cNvSpPr/>
            <p:nvPr/>
          </p:nvSpPr>
          <p:spPr>
            <a:xfrm>
              <a:off x="6597720" y="900000"/>
              <a:ext cx="1301760" cy="13017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矩形 7"/>
            <p:cNvSpPr/>
            <p:nvPr/>
          </p:nvSpPr>
          <p:spPr>
            <a:xfrm>
              <a:off x="6786000" y="1084680"/>
              <a:ext cx="7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强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感染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组合 2048"/>
          <p:cNvGrpSpPr/>
          <p:nvPr/>
        </p:nvGrpSpPr>
        <p:grpSpPr>
          <a:xfrm>
            <a:off x="3019320" y="868320"/>
            <a:ext cx="1301760" cy="1301760"/>
            <a:chOff x="3019320" y="868320"/>
            <a:chExt cx="1301760" cy="1301760"/>
          </a:xfrm>
        </p:grpSpPr>
        <p:sp>
          <p:nvSpPr>
            <p:cNvPr id="122" name="椭圆 28"/>
            <p:cNvSpPr/>
            <p:nvPr/>
          </p:nvSpPr>
          <p:spPr>
            <a:xfrm>
              <a:off x="3019320" y="868320"/>
              <a:ext cx="1301760" cy="13017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矩形 5"/>
            <p:cNvSpPr/>
            <p:nvPr/>
          </p:nvSpPr>
          <p:spPr>
            <a:xfrm>
              <a:off x="3228480" y="1085400"/>
              <a:ext cx="7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产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匹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空心弧 2049"/>
          <p:cNvGrpSpPr/>
          <p:nvPr/>
        </p:nvGrpSpPr>
        <p:grpSpPr>
          <a:xfrm>
            <a:off x="2859120" y="2955960"/>
            <a:ext cx="3413160" cy="1744560"/>
            <a:chOff x="2859120" y="2955960"/>
            <a:chExt cx="3413160" cy="1744560"/>
          </a:xfrm>
        </p:grpSpPr>
        <p:pic>
          <p:nvPicPr>
            <p:cNvPr id="125" name="空心弧 2049" descr=""/>
            <p:cNvPicPr/>
            <p:nvPr/>
          </p:nvPicPr>
          <p:blipFill>
            <a:blip r:embed="rId1"/>
            <a:stretch/>
          </p:blipFill>
          <p:spPr>
            <a:xfrm>
              <a:off x="2859120" y="2955960"/>
              <a:ext cx="341316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886120" y="2989440"/>
              <a:ext cx="335592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组合 2055"/>
          <p:cNvGrpSpPr/>
          <p:nvPr/>
        </p:nvGrpSpPr>
        <p:grpSpPr>
          <a:xfrm>
            <a:off x="2771640" y="3922560"/>
            <a:ext cx="449280" cy="449280"/>
            <a:chOff x="2771640" y="3922560"/>
            <a:chExt cx="449280" cy="449280"/>
          </a:xfrm>
        </p:grpSpPr>
        <p:grpSp>
          <p:nvGrpSpPr>
            <p:cNvPr id="128" name="组合 2053"/>
            <p:cNvGrpSpPr/>
            <p:nvPr/>
          </p:nvGrpSpPr>
          <p:grpSpPr>
            <a:xfrm>
              <a:off x="2771640" y="3922560"/>
              <a:ext cx="449280" cy="449280"/>
              <a:chOff x="2771640" y="3922560"/>
              <a:chExt cx="449280" cy="449280"/>
            </a:xfrm>
          </p:grpSpPr>
          <p:sp>
            <p:nvSpPr>
              <p:cNvPr id="129" name="椭圆 2052"/>
              <p:cNvSpPr/>
              <p:nvPr/>
            </p:nvSpPr>
            <p:spPr>
              <a:xfrm>
                <a:off x="2784960" y="3944880"/>
                <a:ext cx="422280" cy="4222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同心圆 2051"/>
              <p:cNvSpPr/>
              <p:nvPr/>
            </p:nvSpPr>
            <p:spPr>
              <a:xfrm>
                <a:off x="2771640" y="392256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540060" h="540060">
                    <a:moveTo>
                      <a:pt x="0" y="270030"/>
                    </a:moveTo>
                    <a:cubicBezTo>
                      <a:pt x="0" y="120897"/>
                      <a:pt x="120897" y="0"/>
                      <a:pt x="270030" y="0"/>
                    </a:cubicBezTo>
                    <a:cubicBezTo>
                      <a:pt x="419163" y="0"/>
                      <a:pt x="540060" y="120897"/>
                      <a:pt x="540060" y="270030"/>
                    </a:cubicBezTo>
                    <a:cubicBezTo>
                      <a:pt x="540060" y="419163"/>
                      <a:pt x="419163" y="540060"/>
                      <a:pt x="270030" y="540060"/>
                    </a:cubicBezTo>
                    <a:cubicBezTo>
                      <a:pt x="120897" y="540060"/>
                      <a:pt x="0" y="419163"/>
                      <a:pt x="0" y="270030"/>
                    </a:cubicBezTo>
                    <a:close/>
                    <a:moveTo>
                      <a:pt x="47455" y="270030"/>
                    </a:moveTo>
                    <a:cubicBezTo>
                      <a:pt x="47455" y="392955"/>
                      <a:pt x="147105" y="492605"/>
                      <a:pt x="270030" y="492605"/>
                    </a:cubicBezTo>
                    <a:cubicBezTo>
                      <a:pt x="392955" y="492605"/>
                      <a:pt x="492605" y="392955"/>
                      <a:pt x="492605" y="270030"/>
                    </a:cubicBezTo>
                    <a:cubicBezTo>
                      <a:pt x="492605" y="147105"/>
                      <a:pt x="392955" y="47455"/>
                      <a:pt x="270030" y="47455"/>
                    </a:cubicBezTo>
                    <a:cubicBezTo>
                      <a:pt x="147105" y="47455"/>
                      <a:pt x="47455" y="147105"/>
                      <a:pt x="47455" y="2700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" name="TextBox 2054"/>
            <p:cNvSpPr/>
            <p:nvPr/>
          </p:nvSpPr>
          <p:spPr>
            <a:xfrm>
              <a:off x="2820960" y="3981600"/>
              <a:ext cx="27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组合 41"/>
          <p:cNvGrpSpPr/>
          <p:nvPr/>
        </p:nvGrpSpPr>
        <p:grpSpPr>
          <a:xfrm>
            <a:off x="3736800" y="2903400"/>
            <a:ext cx="449280" cy="451080"/>
            <a:chOff x="3736800" y="2903400"/>
            <a:chExt cx="449280" cy="451080"/>
          </a:xfrm>
        </p:grpSpPr>
        <p:grpSp>
          <p:nvGrpSpPr>
            <p:cNvPr id="133" name="组合 42"/>
            <p:cNvGrpSpPr/>
            <p:nvPr/>
          </p:nvGrpSpPr>
          <p:grpSpPr>
            <a:xfrm>
              <a:off x="3736800" y="2903400"/>
              <a:ext cx="449280" cy="451080"/>
              <a:chOff x="3736800" y="2903400"/>
              <a:chExt cx="449280" cy="451080"/>
            </a:xfrm>
          </p:grpSpPr>
          <p:sp>
            <p:nvSpPr>
              <p:cNvPr id="134" name="椭圆 44"/>
              <p:cNvSpPr/>
              <p:nvPr/>
            </p:nvSpPr>
            <p:spPr>
              <a:xfrm>
                <a:off x="3750120" y="2921040"/>
                <a:ext cx="422280" cy="4240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同心圆 45"/>
              <p:cNvSpPr/>
              <p:nvPr/>
            </p:nvSpPr>
            <p:spPr>
              <a:xfrm>
                <a:off x="3736800" y="2903400"/>
                <a:ext cx="449280" cy="451080"/>
              </a:xfrm>
              <a:custGeom>
                <a:avLst/>
                <a:gdLst/>
                <a:ahLst/>
                <a:rect l="l" t="t" r="r" b="b"/>
                <a:pathLst>
                  <a:path w="540060" h="540060">
                    <a:moveTo>
                      <a:pt x="0" y="270030"/>
                    </a:moveTo>
                    <a:cubicBezTo>
                      <a:pt x="0" y="120897"/>
                      <a:pt x="120897" y="0"/>
                      <a:pt x="270030" y="0"/>
                    </a:cubicBezTo>
                    <a:cubicBezTo>
                      <a:pt x="419163" y="0"/>
                      <a:pt x="540060" y="120897"/>
                      <a:pt x="540060" y="270030"/>
                    </a:cubicBezTo>
                    <a:cubicBezTo>
                      <a:pt x="540060" y="419163"/>
                      <a:pt x="419163" y="540060"/>
                      <a:pt x="270030" y="540060"/>
                    </a:cubicBezTo>
                    <a:cubicBezTo>
                      <a:pt x="120897" y="540060"/>
                      <a:pt x="0" y="419163"/>
                      <a:pt x="0" y="270030"/>
                    </a:cubicBezTo>
                    <a:close/>
                    <a:moveTo>
                      <a:pt x="47455" y="270030"/>
                    </a:moveTo>
                    <a:cubicBezTo>
                      <a:pt x="47455" y="392955"/>
                      <a:pt x="147105" y="492605"/>
                      <a:pt x="270030" y="492605"/>
                    </a:cubicBezTo>
                    <a:cubicBezTo>
                      <a:pt x="392955" y="492605"/>
                      <a:pt x="492605" y="392955"/>
                      <a:pt x="492605" y="270030"/>
                    </a:cubicBezTo>
                    <a:cubicBezTo>
                      <a:pt x="492605" y="147105"/>
                      <a:pt x="392955" y="47455"/>
                      <a:pt x="270030" y="47455"/>
                    </a:cubicBezTo>
                    <a:cubicBezTo>
                      <a:pt x="147105" y="47455"/>
                      <a:pt x="47455" y="147105"/>
                      <a:pt x="47455" y="2700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" name="TextBox 43"/>
            <p:cNvSpPr/>
            <p:nvPr/>
          </p:nvSpPr>
          <p:spPr>
            <a:xfrm>
              <a:off x="3786120" y="2962800"/>
              <a:ext cx="27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组合 46"/>
          <p:cNvGrpSpPr/>
          <p:nvPr/>
        </p:nvGrpSpPr>
        <p:grpSpPr>
          <a:xfrm>
            <a:off x="5000760" y="2903400"/>
            <a:ext cx="450720" cy="451080"/>
            <a:chOff x="5000760" y="2903400"/>
            <a:chExt cx="450720" cy="451080"/>
          </a:xfrm>
        </p:grpSpPr>
        <p:grpSp>
          <p:nvGrpSpPr>
            <p:cNvPr id="138" name="组合 47"/>
            <p:cNvGrpSpPr/>
            <p:nvPr/>
          </p:nvGrpSpPr>
          <p:grpSpPr>
            <a:xfrm>
              <a:off x="5000760" y="2903400"/>
              <a:ext cx="450720" cy="451080"/>
              <a:chOff x="5000760" y="2903400"/>
              <a:chExt cx="450720" cy="451080"/>
            </a:xfrm>
          </p:grpSpPr>
          <p:sp>
            <p:nvSpPr>
              <p:cNvPr id="139" name="椭圆 49"/>
              <p:cNvSpPr/>
              <p:nvPr/>
            </p:nvSpPr>
            <p:spPr>
              <a:xfrm>
                <a:off x="5014080" y="2921040"/>
                <a:ext cx="423720" cy="4240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同心圆 50"/>
              <p:cNvSpPr/>
              <p:nvPr/>
            </p:nvSpPr>
            <p:spPr>
              <a:xfrm>
                <a:off x="5000760" y="2903400"/>
                <a:ext cx="450720" cy="451080"/>
              </a:xfrm>
              <a:custGeom>
                <a:avLst/>
                <a:gdLst/>
                <a:ahLst/>
                <a:rect l="l" t="t" r="r" b="b"/>
                <a:pathLst>
                  <a:path w="540060" h="540060">
                    <a:moveTo>
                      <a:pt x="0" y="270030"/>
                    </a:moveTo>
                    <a:cubicBezTo>
                      <a:pt x="0" y="120897"/>
                      <a:pt x="120897" y="0"/>
                      <a:pt x="270030" y="0"/>
                    </a:cubicBezTo>
                    <a:cubicBezTo>
                      <a:pt x="419163" y="0"/>
                      <a:pt x="540060" y="120897"/>
                      <a:pt x="540060" y="270030"/>
                    </a:cubicBezTo>
                    <a:cubicBezTo>
                      <a:pt x="540060" y="419163"/>
                      <a:pt x="419163" y="540060"/>
                      <a:pt x="270030" y="540060"/>
                    </a:cubicBezTo>
                    <a:cubicBezTo>
                      <a:pt x="120897" y="540060"/>
                      <a:pt x="0" y="419163"/>
                      <a:pt x="0" y="270030"/>
                    </a:cubicBezTo>
                    <a:close/>
                    <a:moveTo>
                      <a:pt x="47455" y="270030"/>
                    </a:moveTo>
                    <a:cubicBezTo>
                      <a:pt x="47455" y="392955"/>
                      <a:pt x="147105" y="492605"/>
                      <a:pt x="270030" y="492605"/>
                    </a:cubicBezTo>
                    <a:cubicBezTo>
                      <a:pt x="392955" y="492605"/>
                      <a:pt x="492605" y="392955"/>
                      <a:pt x="492605" y="270030"/>
                    </a:cubicBezTo>
                    <a:cubicBezTo>
                      <a:pt x="492605" y="147105"/>
                      <a:pt x="392955" y="47455"/>
                      <a:pt x="270030" y="47455"/>
                    </a:cubicBezTo>
                    <a:cubicBezTo>
                      <a:pt x="147105" y="47455"/>
                      <a:pt x="47455" y="147105"/>
                      <a:pt x="47455" y="2700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1" name="TextBox 48"/>
            <p:cNvSpPr/>
            <p:nvPr/>
          </p:nvSpPr>
          <p:spPr>
            <a:xfrm>
              <a:off x="5039280" y="2962800"/>
              <a:ext cx="27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组合 51"/>
          <p:cNvGrpSpPr/>
          <p:nvPr/>
        </p:nvGrpSpPr>
        <p:grpSpPr>
          <a:xfrm>
            <a:off x="5878440" y="3878280"/>
            <a:ext cx="451080" cy="450720"/>
            <a:chOff x="5878440" y="3878280"/>
            <a:chExt cx="451080" cy="450720"/>
          </a:xfrm>
        </p:grpSpPr>
        <p:grpSp>
          <p:nvGrpSpPr>
            <p:cNvPr id="143" name="组合 52"/>
            <p:cNvGrpSpPr/>
            <p:nvPr/>
          </p:nvGrpSpPr>
          <p:grpSpPr>
            <a:xfrm>
              <a:off x="5878440" y="3878280"/>
              <a:ext cx="451080" cy="450720"/>
              <a:chOff x="5878440" y="3878280"/>
              <a:chExt cx="451080" cy="450720"/>
            </a:xfrm>
          </p:grpSpPr>
          <p:sp>
            <p:nvSpPr>
              <p:cNvPr id="144" name="椭圆 54"/>
              <p:cNvSpPr/>
              <p:nvPr/>
            </p:nvSpPr>
            <p:spPr>
              <a:xfrm>
                <a:off x="5885640" y="3894480"/>
                <a:ext cx="424080" cy="42372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同心圆 55"/>
              <p:cNvSpPr/>
              <p:nvPr/>
            </p:nvSpPr>
            <p:spPr>
              <a:xfrm>
                <a:off x="5878440" y="3878280"/>
                <a:ext cx="451080" cy="450720"/>
              </a:xfrm>
              <a:custGeom>
                <a:avLst/>
                <a:gdLst/>
                <a:ahLst/>
                <a:rect l="l" t="t" r="r" b="b"/>
                <a:pathLst>
                  <a:path w="540060" h="540060">
                    <a:moveTo>
                      <a:pt x="0" y="270030"/>
                    </a:moveTo>
                    <a:cubicBezTo>
                      <a:pt x="0" y="120897"/>
                      <a:pt x="120897" y="0"/>
                      <a:pt x="270030" y="0"/>
                    </a:cubicBezTo>
                    <a:cubicBezTo>
                      <a:pt x="419163" y="0"/>
                      <a:pt x="540060" y="120897"/>
                      <a:pt x="540060" y="270030"/>
                    </a:cubicBezTo>
                    <a:cubicBezTo>
                      <a:pt x="540060" y="419163"/>
                      <a:pt x="419163" y="540060"/>
                      <a:pt x="270030" y="540060"/>
                    </a:cubicBezTo>
                    <a:cubicBezTo>
                      <a:pt x="120897" y="540060"/>
                      <a:pt x="0" y="419163"/>
                      <a:pt x="0" y="270030"/>
                    </a:cubicBezTo>
                    <a:close/>
                    <a:moveTo>
                      <a:pt x="47455" y="270030"/>
                    </a:moveTo>
                    <a:cubicBezTo>
                      <a:pt x="47455" y="392955"/>
                      <a:pt x="147105" y="492605"/>
                      <a:pt x="270030" y="492605"/>
                    </a:cubicBezTo>
                    <a:cubicBezTo>
                      <a:pt x="392955" y="492605"/>
                      <a:pt x="492605" y="392955"/>
                      <a:pt x="492605" y="270030"/>
                    </a:cubicBezTo>
                    <a:cubicBezTo>
                      <a:pt x="492605" y="147105"/>
                      <a:pt x="392955" y="47455"/>
                      <a:pt x="270030" y="47455"/>
                    </a:cubicBezTo>
                    <a:cubicBezTo>
                      <a:pt x="147105" y="47455"/>
                      <a:pt x="47455" y="147105"/>
                      <a:pt x="47455" y="2700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6" name="TextBox 53"/>
            <p:cNvSpPr/>
            <p:nvPr/>
          </p:nvSpPr>
          <p:spPr>
            <a:xfrm>
              <a:off x="5916960" y="3937680"/>
              <a:ext cx="27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直接连接符 2058"/>
          <p:cNvSpPr/>
          <p:nvPr/>
        </p:nvSpPr>
        <p:spPr>
          <a:xfrm>
            <a:off x="1874880" y="2301840"/>
            <a:ext cx="0" cy="10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直接连接符 60"/>
          <p:cNvSpPr/>
          <p:nvPr/>
        </p:nvSpPr>
        <p:spPr>
          <a:xfrm>
            <a:off x="3699000" y="2293920"/>
            <a:ext cx="0" cy="34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直接连接符 64"/>
          <p:cNvSpPr/>
          <p:nvPr/>
        </p:nvSpPr>
        <p:spPr>
          <a:xfrm>
            <a:off x="5477040" y="229392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直接连接符 66"/>
          <p:cNvSpPr/>
          <p:nvPr/>
        </p:nvSpPr>
        <p:spPr>
          <a:xfrm>
            <a:off x="7257960" y="229392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直接连接符 67"/>
          <p:cNvSpPr/>
          <p:nvPr/>
        </p:nvSpPr>
        <p:spPr>
          <a:xfrm>
            <a:off x="1870200" y="3367080"/>
            <a:ext cx="825480" cy="62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直接连接符 69"/>
          <p:cNvSpPr/>
          <p:nvPr/>
        </p:nvSpPr>
        <p:spPr>
          <a:xfrm flipH="1">
            <a:off x="6443640" y="3368520"/>
            <a:ext cx="814320" cy="5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直接连接符 80"/>
          <p:cNvSpPr/>
          <p:nvPr/>
        </p:nvSpPr>
        <p:spPr>
          <a:xfrm>
            <a:off x="3699000" y="2637000"/>
            <a:ext cx="263520" cy="19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直接连接符 83"/>
          <p:cNvSpPr/>
          <p:nvPr/>
        </p:nvSpPr>
        <p:spPr>
          <a:xfrm flipH="1">
            <a:off x="5230440" y="2635200"/>
            <a:ext cx="250920" cy="19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5"/>
          <p:cNvSpPr/>
          <p:nvPr/>
        </p:nvSpPr>
        <p:spPr>
          <a:xfrm>
            <a:off x="3925080" y="38955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23"/>
          <p:cNvSpPr/>
          <p:nvPr/>
        </p:nvSpPr>
        <p:spPr>
          <a:xfrm>
            <a:off x="469800" y="1781280"/>
            <a:ext cx="462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最具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规模</a:t>
            </a: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楼盘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163" name="椭圆 14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圆角矩形 15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圆角矩形 16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圆角矩形 17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圆角矩形 18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圆角矩形 19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等腰三角形 21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1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172" name="矩形 3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4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1:44:58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07:08Z</dcterms:modified>
  <cp:revision>9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