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8DF-51D1-4720-A0FE-060D7D1A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3F5-8DC6-4A2A-9BE6-7F26382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900-AFAD-4EDC-8DC5-65269EE1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53E-9303-49B1-9B6C-4E58D5E3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BFC-DF3F-432B-B528-77412C7D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D40-AD78-4F8B-AB94-A97DBF6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73B-D6C7-4ECD-A182-B0C5663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3B2-915A-4D1E-A4F3-A303136E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050-A3F0-4326-A56E-B0886B1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E88-6EEB-4F6F-937E-024E48E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65B-1B38-4C1F-878A-FDAB09B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CA3-8BF7-439E-86D5-0F6488A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62D9-D449-477F-BBC6-63BBAB4BEF8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263,-1,NEXT" TargetMode="External"/><Relationship Id="rId4" Type="http://schemas.openxmlformats.org/officeDocument/2006/relationships/hyperlink" Target="263,-1,NEXT" TargetMode="External"/><Relationship Id="rId5" Type="http://schemas.openxmlformats.org/officeDocument/2006/relationships/hyperlink" Target="263,-1,NEXT" TargetMode="External"/><Relationship Id="rId6" Type="http://schemas.openxmlformats.org/officeDocument/2006/relationships/hyperlink" Target="263,-1,NEXT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hoto.genben.cn/haibo/54060/p.shtml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hmsyzx.com/dnzz/web/X0323/htm/sub1/28/22.htm" TargetMode="External"/><Relationship Id="rId5" Type="http://schemas.openxmlformats.org/officeDocument/2006/relationships/image" Target="../media/image17.jpeg"/><Relationship Id="rId6" Type="http://schemas.openxmlformats.org/officeDocument/2006/relationships/hyperlink" Target="http://www.zgdx.gov.cn/Html/2006-8/23/23102384839.htm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7car.com.cn/newsImages/pics/2006/6/17/540640336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7car.com.cn/newsImages/pics/2006/6/17/125214952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junefeng.blogdriver.com/junefeng/626675.html" TargetMode="External"/><Relationship Id="rId4" Type="http://schemas.openxmlformats.org/officeDocument/2006/relationships/hyperlink" Target="http://junefeng.blogdriver.com/junefeng/626675.html" TargetMode="External"/><Relationship Id="rId5" Type="http://schemas.openxmlformats.org/officeDocument/2006/relationships/hyperlink" Target="http://junefeng.blogdriver.com/junefeng/626675.html" TargetMode="External"/><Relationship Id="rId6" Type="http://schemas.openxmlformats.org/officeDocument/2006/relationships/hyperlink" Target="http://junefeng.blogdriver.com/junefeng/626675.html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38080" y="11430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我们的祖国地大物博，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993300"/>
                </a:solidFill>
                <a:latin typeface="华文新魏"/>
                <a:ea typeface="华文新魏"/>
              </a:rPr>
              <a:t>百里不同风，千里不同俗</a:t>
            </a: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华文新魏"/>
              </a:rPr>
              <a:t>”</a:t>
            </a:r>
            <a:r>
              <a:rPr b="1" lang="zh-CN" sz="4000" spc="-1" strike="noStrike">
                <a:solidFill>
                  <a:srgbClr val="993300"/>
                </a:solidFill>
                <a:latin typeface="华文新魏"/>
                <a:ea typeface="华文新魏"/>
              </a:rPr>
              <a:t>，在艺术形式上百花盛开，在民居上也是各有特色。看图片，猜猜这是哪个地方的民居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3084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生词认读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闽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mǐn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粤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yu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   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hān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点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diǎn zhuì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奇葩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í p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  繁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fán shèng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偏僻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piān pì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营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yíng lěi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骚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sāo rǎo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糯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uò mǐ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 黏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ián hé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夯筑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hāng zh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侵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īn shí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布局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ù jú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睦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hé mù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贮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zhù cāng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井然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jǐng rán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酷热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kù rè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傍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àng shuǐ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竹篾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zhú mi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崇山峻岭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hóng shān jùn lǐng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安然无恙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ān rán wú yàng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勤俭持家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ín jiǎn chí jiā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遮天盖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zhē tiān gài dì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蜂拥而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fēng yōng’ ér zhì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20070601103753328_989_o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闽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福建省的别称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粤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广东省的别称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点缀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加以衬托或装饰，使原有事物更加美好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奇葩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奇：罕见的、特殊的、非常的；葩：花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营垒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军营和四周的围墙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夯筑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夯：砸实地基用的工具。本课指客家人在崇山峻岭中夯实地基，筑厚墙，建造了营垒式的土楼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贮仓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贮：储存，积存；仓：库房，仓库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八卦：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ea typeface="楷体_GB2312"/>
                <a:hlinkClick r:id="rId4"/>
              </a:rPr>
              <a:t>我国古代的一套有象征意义的符号。用“──”代表阳，用“</a:t>
            </a:r>
            <a:r>
              <a:rPr b="0" lang="en-US" sz="2000" spc="-1" strike="noStrike" u="sng">
                <a:solidFill>
                  <a:srgbClr val="dc5900"/>
                </a:solidFill>
                <a:uFillTx/>
                <a:latin typeface="Arial"/>
                <a:ea typeface="楷体_GB2312"/>
                <a:hlinkClick r:id="rId5"/>
              </a:rPr>
              <a:t>--”</a:t>
            </a:r>
            <a:r>
              <a:rPr b="0" lang="zh-CN" sz="2000" spc="-1" strike="noStrike" u="sng">
                <a:solidFill>
                  <a:srgbClr val="dc5900"/>
                </a:solidFill>
                <a:uFillTx/>
                <a:latin typeface="Arial"/>
                <a:ea typeface="楷体_GB2312"/>
                <a:hlinkClick r:id="rId6"/>
              </a:rPr>
              <a:t>代表阴，用三个这样的符号组成八种形式，叫做八卦。每一卦形代表一定的事物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骚扰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扰乱；使不安宁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侵蚀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逐渐侵害使变坏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崇尚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尊重，推崇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酷热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形容非常热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和睦相处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睦，和好。彼此友好地相处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安然无恙：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楷体_GB2312"/>
              </a:rPr>
              <a:t>安然：平安；恙：病。原指人平安没有病。现泛指事物未遭损害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28600" y="152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词语理解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008419114536222"/>
          <p:cNvPicPr/>
          <p:nvPr/>
        </p:nvPicPr>
        <p:blipFill>
          <a:blip r:embed="rId2"/>
          <a:stretch/>
        </p:blipFill>
        <p:spPr>
          <a:xfrm>
            <a:off x="4857840" y="2057400"/>
            <a:ext cx="4286160" cy="361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未命名"/>
          <p:cNvPicPr/>
          <p:nvPr/>
        </p:nvPicPr>
        <p:blipFill>
          <a:blip r:embed="rId3"/>
          <a:stretch/>
        </p:blipFill>
        <p:spPr>
          <a:xfrm>
            <a:off x="0" y="990720"/>
            <a:ext cx="507672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8004960" y="228600"/>
            <a:ext cx="7898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客家民居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0720" y="0"/>
            <a:ext cx="8229600" cy="57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关于客家人</a:t>
            </a:r>
            <a:endParaRPr b="0" lang="en-US" sz="33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客家人是指原籍为黄河流域地区的汉人，在东晋战乱时南迁，开始成为具有“特殊身份”的一群居民，在后来的几次迁徙行动中，逐渐形成今天具有独特风貌的客家民系。客家人最为明显的特征是讲客家话，客家语系是汉民族八大方言之一。</a:t>
            </a:r>
            <a:endParaRPr b="0" lang="en-US" sz="33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目前，全世界有客家人约</a:t>
            </a:r>
            <a:r>
              <a:rPr b="1" lang="en-US" sz="3300" spc="-1" strike="noStrike">
                <a:solidFill>
                  <a:srgbClr val="007a77"/>
                </a:solidFill>
                <a:latin typeface="Arial"/>
              </a:rPr>
              <a:t>4 500</a:t>
            </a: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万人。其中国内</a:t>
            </a:r>
            <a:r>
              <a:rPr b="1" lang="en-US" sz="3300" spc="-1" strike="noStrike">
                <a:solidFill>
                  <a:srgbClr val="007a77"/>
                </a:solidFill>
                <a:latin typeface="Arial"/>
              </a:rPr>
              <a:t>4 000</a:t>
            </a: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万人，国外有</a:t>
            </a:r>
            <a:r>
              <a:rPr b="1" lang="en-US" sz="3300" spc="-1" strike="noStrike">
                <a:solidFill>
                  <a:srgbClr val="007a77"/>
                </a:solidFill>
                <a:latin typeface="Arial"/>
              </a:rPr>
              <a:t>500</a:t>
            </a: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万人左右。新加坡前总理李光耀、国际知名作家韩素音均是客家人。国内客家人聚居的地区共有</a:t>
            </a:r>
            <a:r>
              <a:rPr b="1" lang="en-US" sz="3300" spc="-1" strike="noStrike">
                <a:solidFill>
                  <a:srgbClr val="007a77"/>
                </a:solidFill>
                <a:latin typeface="Arial"/>
              </a:rPr>
              <a:t>17</a:t>
            </a: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个省、</a:t>
            </a:r>
            <a:r>
              <a:rPr b="1" lang="en-US" sz="3300" spc="-1" strike="noStrike">
                <a:solidFill>
                  <a:srgbClr val="007a77"/>
                </a:solidFill>
                <a:latin typeface="Arial"/>
              </a:rPr>
              <a:t>185</a:t>
            </a: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个市县。广东的客家人有</a:t>
            </a:r>
            <a:r>
              <a:rPr b="1" lang="en-US" sz="3300" spc="-1" strike="noStrike">
                <a:solidFill>
                  <a:srgbClr val="007a77"/>
                </a:solidFill>
                <a:latin typeface="Arial"/>
              </a:rPr>
              <a:t>2 000</a:t>
            </a: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多万，占全省总人数近</a:t>
            </a:r>
            <a:r>
              <a:rPr b="1" lang="en-US" sz="3300" spc="-1" strike="noStrike">
                <a:solidFill>
                  <a:srgbClr val="007a77"/>
                </a:solidFill>
                <a:latin typeface="Arial"/>
              </a:rPr>
              <a:t>30%</a:t>
            </a:r>
            <a:r>
              <a:rPr b="1" lang="zh-CN" sz="33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3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00699137357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4920" y="836640"/>
          <a:ext cx="9109080" cy="5933880"/>
        </p:xfrm>
        <a:graphic>
          <a:graphicData uri="http://schemas.openxmlformats.org/drawingml/2006/table">
            <a:tbl>
              <a:tblPr/>
              <a:tblGrid>
                <a:gridCol w="2376360"/>
                <a:gridCol w="6732720"/>
              </a:tblGrid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位　置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作　用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材　料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结　构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文化特征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Rectangle 22"/>
          <p:cNvSpPr/>
          <p:nvPr/>
        </p:nvSpPr>
        <p:spPr>
          <a:xfrm>
            <a:off x="1646280" y="-720"/>
            <a:ext cx="52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文中画出相关语句填表：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客家民居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56800" y="90756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闽西南、粤东北的崇山峻岭中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3612960" y="169956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防备盗匪骚扰和当地人排挤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2476440" y="2653920"/>
            <a:ext cx="66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土中掺石灰，用糯米饭、鸡蛋清作黏合剂，以竹片、木条作筋骨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3726360" y="3499200"/>
            <a:ext cx="40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大多为三至六层楼，一百至二百多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房屋如橘瓣状排列，布局均匀，宏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壮观；土楼围成圆形的房屋均按八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布局排列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4330800" y="5551200"/>
            <a:ext cx="27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吉祥、幸福、安宁；和睦相处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勤俭持家；平等互助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04920" y="0"/>
            <a:ext cx="883908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读一读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客家民居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部分，思考是围绕哪段话来写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第一段，说明地位，点明是“世界民居奇葩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读第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自然段，客家民居“奇”在何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用料奇特、造型奇特、异常坚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作者用了哪些方法对民居的特点进行说明的，有什么好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举例子（使文章真实可信）、列数据（准确了解事实）、打比方（生动突出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客家民居中，体现了哪些中华传统文化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勤俭持家、和睦相处、平等互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WordArt 3"/>
          <p:cNvSpPr txBox="1"/>
          <p:nvPr/>
        </p:nvSpPr>
        <p:spPr>
          <a:xfrm>
            <a:off x="7524720" y="6237360"/>
            <a:ext cx="137160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27040" y="15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f3d3b"/>
                </a:solidFill>
                <a:latin typeface="Arial"/>
              </a:rPr>
              <a:t>首先概括介绍了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f3d3b"/>
                </a:solidFill>
                <a:latin typeface="Arial"/>
              </a:rPr>
              <a:t>详细介绍了 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f3d3b"/>
                </a:solidFill>
                <a:latin typeface="Arial"/>
              </a:rPr>
              <a:t>紧接着写 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f3d3b"/>
                </a:solidFill>
                <a:latin typeface="Arial"/>
              </a:rPr>
              <a:t>最后写 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f3d3b"/>
                </a:solidFill>
                <a:latin typeface="Arial"/>
              </a:rPr>
              <a:t>运用了：                            等说明方法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971800" y="1600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d3b"/>
                </a:solidFill>
                <a:latin typeface="Arial"/>
              </a:rPr>
              <a:t>客家民居特点、所在的位置和环境，以及在世界民居中的地位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438280" y="22096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d3b"/>
                </a:solidFill>
                <a:latin typeface="Arial"/>
              </a:rPr>
              <a:t>营垒式的住宅及这样建造的原因和作用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752480" y="35812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d3b"/>
                </a:solidFill>
                <a:latin typeface="Arial"/>
              </a:rPr>
              <a:t>举例子、列数据、打比方</a:t>
            </a:r>
            <a:r>
              <a:rPr b="0" lang="zh-CN" sz="1800" spc="-1" strike="noStrike">
                <a:solidFill>
                  <a:srgbClr val="3f3d3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057400" y="26668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d3b"/>
                </a:solidFill>
                <a:latin typeface="Arial"/>
              </a:rPr>
              <a:t>圆形围屋按八卦布局排列及其象征意义</a:t>
            </a:r>
            <a:r>
              <a:rPr b="0" lang="zh-CN" sz="1800" spc="-1" strike="noStrike">
                <a:solidFill>
                  <a:srgbClr val="3f3d3b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905120" y="3124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d3b"/>
                </a:solidFill>
                <a:latin typeface="Arial"/>
              </a:rPr>
              <a:t>圆形围屋内部构造特点及体现出的民俗文化特征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5800" y="533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章内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54060_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2590920"/>
            <a:ext cx="4610160" cy="39718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295280" y="685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</a:rPr>
              <a:t>客家围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Picture 8" descr="pic_748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876920" y="3200400"/>
            <a:ext cx="3886200" cy="3352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wangk0608220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228600"/>
            <a:ext cx="3886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671105617"/>
          <p:cNvPicPr/>
          <p:nvPr/>
        </p:nvPicPr>
        <p:blipFill>
          <a:blip r:embed="rId2"/>
          <a:stretch/>
        </p:blipFill>
        <p:spPr>
          <a:xfrm>
            <a:off x="3124080" y="152280"/>
            <a:ext cx="5251680" cy="6629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2"/>
          <p:cNvSpPr/>
          <p:nvPr/>
        </p:nvSpPr>
        <p:spPr>
          <a:xfrm>
            <a:off x="780840" y="1905120"/>
            <a:ext cx="152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北京胡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0772382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0" descr="kejia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762120" y="685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在闽西南和粤东北的崇山峻岭中，点缀着数以千计的圆形围屋或土楼，这就是被誉为“世界民居奇葩”的客家民居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62120" y="312408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这句话运用了打比方和比较的方法，概括地说明了客家圆形围屋在世界建筑史上的地位。与“世界民居”比较，是一朵特殊的、罕见的花。“点缀”一词用得很妙，说明客家居住地在人烟稀少的边远山区，为下文介绍营垒式的住宅埋下伏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WordArt 15"/>
          <p:cNvSpPr txBox="1"/>
          <p:nvPr/>
        </p:nvSpPr>
        <p:spPr>
          <a:xfrm>
            <a:off x="228600" y="304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重点句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wheel spokes="1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kejia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09480" y="914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　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②它们大多为三至六层楼，一百至二百多间房屋如橘瓣状排列，布局均匀，宏伟壮观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38080" y="31240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作者用列数字、打比方的方法，生动、形象地说明圆形围屋外观和整体布局特点。难怪外国友人远远望见圆形围屋，禁不住发出惊叹──“天上掉下的飞碟，地下冒出的蘑菇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kejia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609480" y="7621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　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③土楼围成圆形的房屋均按八卦布局排列，卦与卦之间设有防火墙，整齐划一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838080" y="2590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八卦是我国古代的一套富有象征意义的符号，是我国传统文化的代表之一。客家民居的圆形围屋，按八卦布局排列，体现了客家人的祖先崇尚圆形，期盼吉祥、幸福和安宁的民族心理和文化传统。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200510209227416"/>
          <p:cNvPicPr/>
          <p:nvPr/>
        </p:nvPicPr>
        <p:blipFill>
          <a:blip r:embed="rId2">
            <a:lum bright="66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傣族，中国少数民族之一。主要聚居在云南省西双版纳傣族自治州等地，主要从事农业。寺塔和竹楼、竹桥显示出别具一格的建筑艺术。傣族是一个有着悠久历史的民族，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傣</a:t>
            </a: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为本民族自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傣族有自己的语言和文字。傣语属汉藏语系壮侗语族壮傣语支。傣文来源于梵文字母的拼音文字，原有傣力、傣那、傣绷、金平四种，现通行西双版纳和德宏两种文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276720" y="5335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关于傣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"/>
                            </p:stCondLst>
                            <p:childTnLst>
                              <p:par>
                                <p:cTn id="5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92211321434263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00812811215716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0820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161800" y="836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踏上傣家人居住的土地，你就走进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的世界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751040" y="2781360"/>
            <a:ext cx="38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傣家人居住地的的特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14080" y="391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充满绿色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00906121137187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909290409279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55_MrEjXlOnjle9"/>
          <p:cNvPicPr/>
          <p:nvPr/>
        </p:nvPicPr>
        <p:blipFill>
          <a:blip r:embed="rId2">
            <a:lum bright="24000"/>
          </a:blip>
          <a:srcRect l="12001" t="306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108190290"/>
          <p:cNvPicPr/>
          <p:nvPr/>
        </p:nvPicPr>
        <p:blipFill>
          <a:blip r:embed="rId3"/>
          <a:stretch/>
        </p:blipFill>
        <p:spPr>
          <a:xfrm>
            <a:off x="568440" y="228600"/>
            <a:ext cx="5070240" cy="6400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7"/>
          <p:cNvSpPr/>
          <p:nvPr/>
        </p:nvSpPr>
        <p:spPr>
          <a:xfrm>
            <a:off x="6251400" y="1447920"/>
            <a:ext cx="152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上海石库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762120"/>
          <a:ext cx="9109080" cy="6037200"/>
        </p:xfrm>
        <a:graphic>
          <a:graphicData uri="http://schemas.openxmlformats.org/drawingml/2006/table">
            <a:tbl>
              <a:tblPr/>
              <a:tblGrid>
                <a:gridCol w="2376360"/>
                <a:gridCol w="67327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成    因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作　用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材　料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结　构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文化特征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22"/>
          <p:cNvSpPr/>
          <p:nvPr/>
        </p:nvSpPr>
        <p:spPr>
          <a:xfrm>
            <a:off x="1646280" y="-720"/>
            <a:ext cx="52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在文中画出相关语句填表：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傣家竹楼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23"/>
          <p:cNvSpPr/>
          <p:nvPr/>
        </p:nvSpPr>
        <p:spPr>
          <a:xfrm>
            <a:off x="2473200" y="838080"/>
            <a:ext cx="667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傣族人居住区地处亚热带，气温高，竹楼有利于防酷热和湿气，所以，至今傣族人保持着</a:t>
            </a:r>
            <a:r>
              <a:rPr b="1" lang="zh-CN" sz="2000" spc="-1" strike="noStrike">
                <a:solidFill>
                  <a:srgbClr val="007a77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多起竹楼，傍水而居</a:t>
            </a:r>
            <a:r>
              <a:rPr b="1" lang="zh-CN" sz="20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的习惯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3404520" y="17294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竹楼有利于防酷热和湿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2476440" y="2653920"/>
            <a:ext cx="666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竹子为主要材料；茅草编织的草排或木片作屋顶，近年来，改为瓦顶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2411280" y="3505320"/>
            <a:ext cx="6732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竹楼呈正方形，分上下两层，楼上住人，楼下关牲口，堆柴禾。竹楼由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至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4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根柱子支撑。屋内横梁穿柱，有的横梁上雕刻着花纹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2411280" y="5638680"/>
            <a:ext cx="673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美观、吉祥、平安，家道兴旺，平等互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22860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思考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读一读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傣家竹楼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部分，傣家竹楼给你的感受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走进了绿色的世界”</a:t>
            </a:r>
            <a:r>
              <a:rPr b="1" lang="en-US" sz="3200" spc="-1" strike="noStrike">
                <a:solidFill>
                  <a:srgbClr val="cc33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绿色之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读课文，为什么称傣家竹楼为“绿色世界”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村边有防护林带；“树满寨，花满园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作者用了哪些方法对民居的特点进行说明的，有什么好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列数字（准确了解事实）、打比方（生动突出）引用材料“按照传统习俗，先要</a:t>
            </a:r>
            <a:r>
              <a:rPr b="1" lang="en-US" sz="3200" spc="-1" strike="noStrike">
                <a:solidFill>
                  <a:srgbClr val="cc3300"/>
                </a:solidFill>
                <a:latin typeface="宋体"/>
              </a:rPr>
              <a:t>~”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（使文章充实具体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傣家竹楼中，体现了哪些中华传统文化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美观、吉祥、平安，家道兴旺，平等互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27040" y="15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首先概括介绍了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接着介绍了 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然后开始写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紧接着写 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最后写 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Arial"/>
              </a:rPr>
              <a:t>运用了：                              等说明方法。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200400" y="16765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傣家竹楼的建筑环境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514600" y="22096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傣族人家“多起竹楼，傍水而居”的传统习俗及缘由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905120" y="35812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傣家建造竹楼时的传统习俗及文化内涵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286000" y="26668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傣族村寨及竹楼的外观特点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2096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竹楼内部结构简单、宽敞、别致等特点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85800" y="533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文章内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828800" y="4038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列数字、打比方、引用材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8720" y="458136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6" descr="20070418230104759"/>
          <p:cNvPicPr/>
          <p:nvPr/>
        </p:nvPicPr>
        <p:blipFill>
          <a:blip r:embed="rId2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838080" y="609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傣族人家至今依然保持着“多起竹楼，傍水而居”的习惯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838080" y="2057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竹楼是傣族传统的建筑形式。这是因为傣族人居住区地处亚热带，气温高，雨水多，空气湿度大，竹楼有利于防酷热和湿气。所以，傣家竹楼是傣族祖先因地制宜创造的一种特殊形式的民居，一直保持至今。傍：靠近，临近。“多起竹楼，傍水而居”可以理解成因为傍水而居，所以以住竹楼为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WordArt 18"/>
          <p:cNvSpPr txBox="1"/>
          <p:nvPr/>
        </p:nvSpPr>
        <p:spPr>
          <a:xfrm>
            <a:off x="152280" y="2286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重点句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20070418230104759"/>
          <p:cNvPicPr/>
          <p:nvPr/>
        </p:nvPicPr>
        <p:blipFill>
          <a:blip r:embed="rId2">
            <a:lum bright="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990720" y="1066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隶书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篱内种植着各种花木果树，可谓“树满寨，花满园”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14400" y="26668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傣族竹楼原本就“藏在浓绿的竹林中”，傣家人还喜欢在竹楼周围，家家户户的竹篱内栽种凤尾竹、槟榔、芒果、香蕉，使村寨更充满诗情画意，真正可以说是“树满寨，花满园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1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912680" y="47628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对客家民居和傣家竹楼的特点有了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体的了解。那么这两篇短文在表达方法上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什么相同或者不同的地方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136760" y="2852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都讲了民居的形成原因，但原因是不同的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014120" y="2238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同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604960" y="35002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文章的开头也截然不同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054080" y="407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同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95076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09480" y="4800600"/>
            <a:ext cx="78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语言描写鲜明生动，两篇短文都运用了很多说明方法，比如，列数字，打比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215600" y="5638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两篇短文也都通过民居，反映了中华传统文化的魅力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0" descr="55_MrEjXlOnjle9"/>
          <p:cNvPicPr/>
          <p:nvPr/>
        </p:nvPicPr>
        <p:blipFill>
          <a:blip r:embed="rId2">
            <a:lum bright="24000"/>
          </a:blip>
          <a:srcRect l="12001" t="306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200400" y="59436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陕西窑洞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9" name="Picture 5" descr="按此在新窗口浏览图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304920"/>
            <a:ext cx="6858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8" descr="55_MrEjXlOnjle9"/>
          <p:cNvPicPr/>
          <p:nvPr/>
        </p:nvPicPr>
        <p:blipFill>
          <a:blip r:embed="rId2">
            <a:lum bright="24000"/>
          </a:blip>
          <a:srcRect l="12001" t="306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12408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无锡民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2" name="Picture 6" descr="按此在新窗口浏览图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533520"/>
            <a:ext cx="80010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55_MrEjXlOnjle9"/>
          <p:cNvPicPr/>
          <p:nvPr/>
        </p:nvPicPr>
        <p:blipFill>
          <a:blip r:embed="rId2">
            <a:lum bright="24000"/>
          </a:blip>
          <a:srcRect l="12001" t="306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0" y="5943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四川羌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(qiāng)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寨民居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" name="Picture 6" descr="138085913"/>
          <p:cNvPicPr/>
          <p:nvPr/>
        </p:nvPicPr>
        <p:blipFill>
          <a:blip r:embed="rId3"/>
          <a:stretch/>
        </p:blipFill>
        <p:spPr>
          <a:xfrm>
            <a:off x="762120" y="533520"/>
            <a:ext cx="754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55_MrEjXlOnjle9"/>
          <p:cNvPicPr/>
          <p:nvPr/>
        </p:nvPicPr>
        <p:blipFill>
          <a:blip r:embed="rId2">
            <a:lum bright="24000"/>
          </a:blip>
          <a:srcRect l="12001" t="306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295280" y="59436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云南西双版纳傣族民居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" name="Picture 6" descr="122714044"/>
          <p:cNvPicPr/>
          <p:nvPr/>
        </p:nvPicPr>
        <p:blipFill>
          <a:blip r:embed="rId3"/>
          <a:stretch/>
        </p:blipFill>
        <p:spPr>
          <a:xfrm>
            <a:off x="762120" y="380880"/>
            <a:ext cx="723888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55_MrEjXlOnjle9"/>
          <p:cNvPicPr/>
          <p:nvPr/>
        </p:nvPicPr>
        <p:blipFill>
          <a:blip r:embed="rId2">
            <a:lum bright="24000"/>
          </a:blip>
          <a:srcRect l="12001" t="3069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553-1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429000" y="57913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客家围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7" descr="81_sr9Hsoz0Nm7o"/>
          <p:cNvPicPr/>
          <p:nvPr/>
        </p:nvPicPr>
        <p:blipFill>
          <a:blip r:embed="rId2">
            <a:lum bright="18000"/>
          </a:blip>
          <a:srcRect l="3334" t="5554" r="4167" b="88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8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AutoShape 10">
            <a:hlinkClick r:id="rId4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AutoShape 12">
            <a:hlinkClick r:id="rId5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AutoShape 14">
            <a:hlinkClick r:id="rId6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85800" y="609480"/>
            <a:ext cx="762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民居是建筑中最早出现的类型，是中国建筑史上对民间居住建筑物的习惯称呼，作为住房的民居在人们的日常生活建筑中占有极为重要的位置。我国的民居建筑是千百年来劳动人民用自己勤劳智慧的双手，在适应与改造大自然的漫长岁月中创造出来的。由于我国幅员广阔，各地区的自然地理条件不同，</a:t>
            </a:r>
            <a:r>
              <a:rPr b="1" lang="en-US" sz="3000" spc="-1" strike="noStrike">
                <a:solidFill>
                  <a:srgbClr val="007a77"/>
                </a:solidFill>
                <a:latin typeface="Arial"/>
              </a:rPr>
              <a:t>56</a:t>
            </a:r>
            <a:r>
              <a:rPr b="1" lang="zh-CN" sz="3000" spc="-1" strike="noStrike">
                <a:solidFill>
                  <a:srgbClr val="007a77"/>
                </a:solidFill>
                <a:latin typeface="Arial"/>
              </a:rPr>
              <a:t>个民族风格与传统各异，生产和生活各具特色，建筑材料千差万别，使我国的民居建筑多姿多彩，富有创造性。今天我们就来认识其中的两个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WordArt 18"/>
          <p:cNvSpPr txBox="1"/>
          <p:nvPr/>
        </p:nvSpPr>
        <p:spPr>
          <a:xfrm>
            <a:off x="380880" y="152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导语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4:4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4:31:39Z</dcterms:modified>
  <cp:revision>1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