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CF7B-B039-4C51-BDE0-398E093D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609-394B-40EC-80E6-F79634C8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065C-C94A-4282-BA0B-1DA8365D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401-EA12-47A0-A700-81F055BE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F60A-AF70-4D21-AB4F-3FCE9CE2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4893-47A8-40AC-A830-9C49F09A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0277-8045-40D8-B7F4-70A13613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F3A5-F637-4E63-8B9D-721CF4D6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D70A-5AAA-4E6E-9C16-E296345A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1BDA-9B97-4B5C-8C94-C3DA8E7E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990C-1A4F-4366-8521-4E025FA7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2E1-1706-4653-9F84-F1B79F45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C752-9CCC-46D1-BB53-CA98222B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93C1-F7CD-4E26-9493-52517B15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E601-221F-4CDD-8883-7DBB6749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21A3-4CEF-429C-AAB5-96FDB7B3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B943-22D3-4692-B807-B8145AC8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130-71CC-46AE-BC44-819A18CF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FCF3-6EB0-4CF8-89A1-056FF33F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BC1-0944-4F5E-9B7F-A49DFEB5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5A5A-56BA-4C51-9BDC-0C8B81ED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1A3-D83D-4B4C-B9B8-5E061665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5DC0-9FC4-405B-81B8-B2E39393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4BD-29C9-49CC-A24B-2343A3FB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96CA-9054-4A17-94DA-72921FF7D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E7B5-1C71-44A6-A0F0-5BD08466058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B481-6C83-46AC-B4C7-D006A6D1C6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63,4,&#28435;&#27743;&#30340;&#27700;&#30495;&#38745;&#21834;,&#38745;&#30340;&#35753;&#20320;&#24863;&#35273;&#19981;&#21040;&#23427;&#22312;&#27969;&#21160;" TargetMode="External"/><Relationship Id="rId2" Type="http://schemas.openxmlformats.org/officeDocument/2006/relationships/hyperlink" Target="264,5,&#28435;&#27743;&#30340;&#27700;&#30495;&#28165;&#21834;,&#28165;&#30340;&#21487;&#20197;&#30475;&#35265;&#27743;&#24213;&#30340;&#27801;&#30707;" TargetMode="External"/><Relationship Id="rId3" Type="http://schemas.openxmlformats.org/officeDocument/2006/relationships/hyperlink" Target="265,6,&#28435;&#27743;&#30340;&#27700;&#30495;&#32511;&#21834;,&#32511;&#30340;&#20223;&#20315;&#37027;&#26159;&#19968;&#22359;&#26080;&#29781;&#30340;&#32737;&#32736;" TargetMode="External"/><Relationship Id="rId4" Type="http://schemas.openxmlformats.org/officeDocument/2006/relationships/hyperlink" Target="263,4,&#28435;&#27743;&#30340;&#27700;&#30495;&#38745;&#21834;,&#38745;&#30340;&#35753;&#20320;&#24863;&#35273;&#19981;&#21040;&#23427;&#22312;&#27969;&#21160;" TargetMode="External"/><Relationship Id="rId5" Type="http://schemas.openxmlformats.org/officeDocument/2006/relationships/hyperlink" Target="264,5,&#28435;&#27743;&#30340;&#27700;&#30495;&#28165;&#21834;,&#28165;&#30340;&#21487;&#20197;&#30475;&#35265;&#27743;&#24213;&#30340;&#27801;&#30707;" TargetMode="External"/><Relationship Id="rId6" Type="http://schemas.openxmlformats.org/officeDocument/2006/relationships/hyperlink" Target="265,6,&#28435;&#27743;&#30340;&#27700;&#30495;&#32511;&#21834;,&#32511;&#30340;&#20223;&#20315;&#37027;&#26159;&#19968;&#22359;&#26080;&#29781;&#30340;&#32737;&#32736;" TargetMode="External"/><Relationship Id="rId7" Type="http://schemas.openxmlformats.org/officeDocument/2006/relationships/hyperlink" Target="266,7,&#26690;&#26519;&#30340;&#23665;&#30495;&#22855;&#21834;,&#20687;&#32769;&#20154;,&#20687;&#24040;&#35937;,&#20687;&#39558;&#39548;,&#22855;&#23792;&#32599;&#21015;,&#24418;&#24577;&#19975;&#21315;." TargetMode="External"/><Relationship Id="rId8" Type="http://schemas.openxmlformats.org/officeDocument/2006/relationships/hyperlink" Target="266,7,&#26690;&#26519;&#30340;&#23665;&#30495;&#22855;&#21834;,&#20687;&#32769;&#20154;,&#20687;&#24040;&#35937;,&#20687;&#39558;&#39548;,&#22855;&#23792;&#32599;&#21015;,&#24418;&#24577;&#19975;&#21315;." TargetMode="External"/><Relationship Id="rId9" Type="http://schemas.openxmlformats.org/officeDocument/2006/relationships/hyperlink" Target="266,7,&#26690;&#26519;&#30340;&#23665;&#30495;&#22855;&#21834;,&#20687;&#32769;&#20154;,&#20687;&#24040;&#35937;,&#20687;&#39558;&#39548;,&#22855;&#23792;&#32599;&#21015;,&#24418;&#24577;&#19975;&#21315;." TargetMode="External"/><Relationship Id="rId10" Type="http://schemas.openxmlformats.org/officeDocument/2006/relationships/hyperlink" Target="267,8,&#26690;&#26519;&#30340;&#23665;&#30495;&#31168;&#21834;,&#20687;&#32736;&#32511;&#30340;&#23631;&#38556;,&#20687;&#26032;&#29983;&#30340;&#31481;&#31499;,&#33394;&#24425;&#26126;&#20029;,&#20498;&#26144;&#27700;&#20013;" TargetMode="External"/><Relationship Id="rId11" Type="http://schemas.openxmlformats.org/officeDocument/2006/relationships/hyperlink" Target="267,8,&#26690;&#26519;&#30340;&#23665;&#30495;&#31168;&#21834;,&#20687;&#32736;&#32511;&#30340;&#23631;&#38556;,&#20687;&#26032;&#29983;&#30340;&#31481;&#31499;,&#33394;&#24425;&#26126;&#20029;,&#20498;&#26144;&#27700;&#20013;" TargetMode="External"/><Relationship Id="rId12" Type="http://schemas.openxmlformats.org/officeDocument/2006/relationships/hyperlink" Target="268,9,&#26690;&#26519;&#30340;&#23665;&#30495;&#38505;&#21834;,&#21361;&#23792;&#20800;&#31435;,&#24618;&#30707;&#23961;&#23755;,&#22909;&#20687;&#19968;&#19981;&#23567;&#24515;&#23601;&#20250;&#26685;&#20498;&#19979;&#26469;." TargetMode="External"/><Relationship Id="rId13" Type="http://schemas.openxmlformats.org/officeDocument/2006/relationships/hyperlink" Target="268,9,&#26690;&#26519;&#30340;&#23665;&#30495;&#38505;&#21834;,&#21361;&#23792;&#20800;&#31435;,&#24618;&#30707;&#23961;&#23755;,&#22909;&#20687;&#19968;&#19981;&#23567;&#24515;&#23601;&#20250;&#26685;&#20498;&#19979;&#26469;." TargetMode="External"/><Relationship Id="rId14" Type="http://schemas.openxmlformats.org/officeDocument/2006/relationships/hyperlink" Target="266,7,&#26690;&#26519;&#30340;&#23665;&#30495;&#22855;&#21834;,&#20687;&#32769;&#20154;,&#20687;&#24040;&#35937;,&#20687;&#39558;&#39548;,&#22855;&#23792;&#32599;&#21015;,&#24418;&#24577;&#19975;&#21315;." TargetMode="External"/><Relationship Id="rId15" Type="http://schemas.openxmlformats.org/officeDocument/2006/relationships/hyperlink" Target="267,8,&#26690;&#26519;&#30340;&#23665;&#30495;&#31168;&#21834;,&#20687;&#32736;&#32511;&#30340;&#23631;&#38556;,&#20687;&#26032;&#29983;&#30340;&#31481;&#31499;,&#33394;&#24425;&#26126;&#20029;,&#20498;&#26144;&#27700;&#20013;" TargetMode="External"/><Relationship Id="rId16" Type="http://schemas.openxmlformats.org/officeDocument/2006/relationships/hyperlink" Target="268,9,&#26690;&#26519;&#30340;&#23665;&#30495;&#38505;&#21834;,&#21361;&#23792;&#20800;&#31435;,&#24618;&#30707;&#23961;&#23755;,&#22909;&#20687;&#19968;&#19981;&#23567;&#24515;&#23601;&#20250;&#26685;&#20498;&#19979;&#26469;." TargetMode="External"/><Relationship Id="rId17" Type="http://schemas.openxmlformats.org/officeDocument/2006/relationships/hyperlink" Target="281,13,&#23792;&#23782;&#38596;&#20255;&#30340;&#27888;&#23665;   &#32418;&#21494;&#20284;&#28779;&#30340;&#39321;&#23665;" TargetMode="External"/><Relationship Id="rId18" Type="http://schemas.openxmlformats.org/officeDocument/2006/relationships/hyperlink" Target="280,12,&#27874;&#28572;&#22766;&#38420;&#30340;&#22823;&#28023;    &#27700;&#24179;&#22914;&#38236;&#30340;&#35199;&#28246;" TargetMode="External"/><Relationship Id="rId19" Type="http://schemas.openxmlformats.org/officeDocument/2006/relationships/hyperlink" Target="282,10,&#24187;&#28783;&#29255; 10" TargetMode="External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63,2,&#24187;&#28783;&#29255; 2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78,2,&#24187;&#28783;&#29255; 2" TargetMode="External"/><Relationship Id="rId2" Type="http://schemas.openxmlformats.org/officeDocument/2006/relationships/hyperlink" Target="278,2,&#24187;&#28783;&#29255; 2" TargetMode="External"/><Relationship Id="rId3" Type="http://schemas.openxmlformats.org/officeDocument/2006/relationships/hyperlink" Target="278,2,&#24187;&#28783;&#29255; 2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278,2,&#24187;&#28783;&#29255; 2" TargetMode="External"/><Relationship Id="rId2" Type="http://schemas.openxmlformats.org/officeDocument/2006/relationships/hyperlink" Target="278,2,&#24187;&#28783;&#29255; 2" TargetMode="External"/><Relationship Id="rId3" Type="http://schemas.openxmlformats.org/officeDocument/2006/relationships/hyperlink" Target="278,2,&#24187;&#28783;&#29255; 2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78,2,&#24187;&#28783;&#29255; 2" TargetMode="External"/><Relationship Id="rId2" Type="http://schemas.openxmlformats.org/officeDocument/2006/relationships/hyperlink" Target="278,2,&#24187;&#28783;&#29255; 2" TargetMode="External"/><Relationship Id="rId3" Type="http://schemas.openxmlformats.org/officeDocument/2006/relationships/hyperlink" Target="278,2,&#24187;&#28783;&#29255; 2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78,2,&#24187;&#28783;&#29255; 2" TargetMode="External"/><Relationship Id="rId2" Type="http://schemas.openxmlformats.org/officeDocument/2006/relationships/hyperlink" Target="278,2,&#24187;&#28783;&#29255; 2" TargetMode="External"/><Relationship Id="rId3" Type="http://schemas.openxmlformats.org/officeDocument/2006/relationships/hyperlink" Target="278,2,&#24187;&#28783;&#29255; 2" TargetMode="External"/><Relationship Id="rId4" Type="http://schemas.openxmlformats.org/officeDocument/2006/relationships/hyperlink" Target="278,2,&#24187;&#28783;&#29255; 2" TargetMode="External"/><Relationship Id="rId5" Type="http://schemas.openxmlformats.org/officeDocument/2006/relationships/hyperlink" Target="278,2,&#24187;&#28783;&#29255; 2" TargetMode="External"/><Relationship Id="rId6" Type="http://schemas.openxmlformats.org/officeDocument/2006/relationships/hyperlink" Target="278,2,&#24187;&#28783;&#29255; 2" TargetMode="External"/><Relationship Id="rId7" Type="http://schemas.openxmlformats.org/officeDocument/2006/relationships/hyperlink" Target="278,2,&#24187;&#28783;&#29255; 2" TargetMode="External"/><Relationship Id="rId8" Type="http://schemas.openxmlformats.org/officeDocument/2006/relationships/hyperlink" Target="278,2,&#24187;&#28783;&#29255; 2" TargetMode="External"/><Relationship Id="rId9" Type="http://schemas.openxmlformats.org/officeDocument/2006/relationships/hyperlink" Target="278,2,&#24187;&#28783;&#29255; 2" TargetMode="External"/><Relationship Id="rId10" Type="http://schemas.openxmlformats.org/officeDocument/2006/relationships/hyperlink" Target="278,2,&#24187;&#28783;&#29255; 2" TargetMode="External"/><Relationship Id="rId11" Type="http://schemas.openxmlformats.org/officeDocument/2006/relationships/hyperlink" Target="278,2,&#24187;&#28783;&#29255; 2" TargetMode="External"/><Relationship Id="rId12" Type="http://schemas.openxmlformats.org/officeDocument/2006/relationships/hyperlink" Target="278,2,&#24187;&#28783;&#29255; 2" TargetMode="External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278,2,&#24187;&#28783;&#29255; 2" TargetMode="External"/><Relationship Id="rId2" Type="http://schemas.openxmlformats.org/officeDocument/2006/relationships/hyperlink" Target="278,2,&#24187;&#28783;&#29255; 2" TargetMode="External"/><Relationship Id="rId3" Type="http://schemas.openxmlformats.org/officeDocument/2006/relationships/hyperlink" Target="278,2,&#24187;&#28783;&#29255; 2" TargetMode="External"/><Relationship Id="rId4" Type="http://schemas.openxmlformats.org/officeDocument/2006/relationships/hyperlink" Target="278,2,&#24187;&#28783;&#29255; 2" TargetMode="External"/><Relationship Id="rId5" Type="http://schemas.openxmlformats.org/officeDocument/2006/relationships/hyperlink" Target="278,2,&#24187;&#28783;&#29255; 2" TargetMode="External"/><Relationship Id="rId6" Type="http://schemas.openxmlformats.org/officeDocument/2006/relationships/hyperlink" Target="278,2,&#24187;&#28783;&#29255; 2" TargetMode="External"/><Relationship Id="rId7" Type="http://schemas.openxmlformats.org/officeDocument/2006/relationships/hyperlink" Target="278,2,&#24187;&#28783;&#29255; 2" TargetMode="External"/><Relationship Id="rId8" Type="http://schemas.openxmlformats.org/officeDocument/2006/relationships/hyperlink" Target="278,2,&#24187;&#28783;&#29255; 2" TargetMode="External"/><Relationship Id="rId9" Type="http://schemas.openxmlformats.org/officeDocument/2006/relationships/hyperlink" Target="278,2,&#24187;&#28783;&#29255; 2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78,2,&#24187;&#28783;&#29255; 2" TargetMode="External"/><Relationship Id="rId2" Type="http://schemas.openxmlformats.org/officeDocument/2006/relationships/hyperlink" Target="278,2,&#24187;&#28783;&#29255; 2" TargetMode="External"/><Relationship Id="rId3" Type="http://schemas.openxmlformats.org/officeDocument/2006/relationships/hyperlink" Target="278,2,&#24187;&#28783;&#29255; 2" TargetMode="External"/><Relationship Id="rId4" Type="http://schemas.openxmlformats.org/officeDocument/2006/relationships/hyperlink" Target="278,2,&#24187;&#28783;&#29255; 2" TargetMode="External"/><Relationship Id="rId5" Type="http://schemas.openxmlformats.org/officeDocument/2006/relationships/hyperlink" Target="278,2,&#24187;&#28783;&#29255; 2" TargetMode="External"/><Relationship Id="rId6" Type="http://schemas.openxmlformats.org/officeDocument/2006/relationships/hyperlink" Target="278,2,&#24187;&#28783;&#29255; 2" TargetMode="External"/><Relationship Id="rId7" Type="http://schemas.openxmlformats.org/officeDocument/2006/relationships/hyperlink" Target="278,2,&#24187;&#28783;&#29255; 2" TargetMode="External"/><Relationship Id="rId8" Type="http://schemas.openxmlformats.org/officeDocument/2006/relationships/hyperlink" Target="278,2,&#24187;&#28783;&#29255; 2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guilin2[1]"/>
          <p:cNvPicPr/>
          <p:nvPr/>
        </p:nvPicPr>
        <p:blipFill>
          <a:blip r:embed="rId1"/>
          <a:srcRect l="0" t="0" r="0" b="60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0000"/>
                </a:solidFill>
                <a:latin typeface="Arial"/>
                <a:ea typeface="方正姚体"/>
              </a:rPr>
              <a:t>桂林山水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006920" y="990720"/>
            <a:ext cx="6806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练习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桂林的山水美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————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教室里真静啊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————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——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————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20061010121919906[1]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362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这样的山围绕着这样的水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这样的水倒映着这样的山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再加上空中云雾迷蒙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山间绿树红花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江上竹筏小舟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让你感觉到像是走进了连绵不断的画卷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真是“舟行碧波上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人在画中游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波澜壮阔的大海    水平如镜的西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大海40805[1]"/>
          <p:cNvPicPr/>
          <p:nvPr/>
        </p:nvPicPr>
        <p:blipFill>
          <a:blip r:embed="rId1"/>
          <a:stretch/>
        </p:blipFill>
        <p:spPr>
          <a:xfrm>
            <a:off x="0" y="2421000"/>
            <a:ext cx="4427640" cy="443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西湖"/>
          <p:cNvPicPr/>
          <p:nvPr/>
        </p:nvPicPr>
        <p:blipFill>
          <a:blip r:embed="rId2"/>
          <a:stretch/>
        </p:blipFill>
        <p:spPr>
          <a:xfrm>
            <a:off x="4572000" y="1197000"/>
            <a:ext cx="4356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泰山154[1]"/>
          <p:cNvPicPr/>
          <p:nvPr/>
        </p:nvPicPr>
        <p:blipFill>
          <a:blip r:embed="rId1"/>
          <a:stretch/>
        </p:blipFill>
        <p:spPr>
          <a:xfrm>
            <a:off x="0" y="1125360"/>
            <a:ext cx="4356000" cy="5732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香山[1]"/>
          <p:cNvPicPr/>
          <p:nvPr/>
        </p:nvPicPr>
        <p:blipFill>
          <a:blip r:embed="rId2"/>
          <a:stretch/>
        </p:blipFill>
        <p:spPr>
          <a:xfrm>
            <a:off x="4572000" y="1557360"/>
            <a:ext cx="4572000" cy="4680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3333ff"/>
                </a:solidFill>
                <a:latin typeface="Arial"/>
              </a:rPr>
              <a:t>峰峦雄伟的泰山   红叶似火的香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0" y="1447920"/>
            <a:ext cx="99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9900"/>
                </a:solidFill>
                <a:latin typeface="Times New Roman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9900"/>
                </a:solidFill>
                <a:latin typeface="Times New Roman"/>
              </a:rPr>
              <a:t>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533520" y="685800"/>
            <a:ext cx="609480" cy="2133720"/>
          </a:xfrm>
          <a:custGeom>
            <a:avLst/>
            <a:gdLst>
              <a:gd name="textAreaLeft" fmla="*/ 389520 w 609480"/>
              <a:gd name="textAreaRight" fmla="*/ 609840 w 6094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533520" y="3657600"/>
            <a:ext cx="609480" cy="2057400"/>
          </a:xfrm>
          <a:custGeom>
            <a:avLst/>
            <a:gdLst>
              <a:gd name="textAreaLeft" fmla="*/ 389520 w 609480"/>
              <a:gd name="textAreaRight" fmla="*/ 609840 w 6094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221120" y="40464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静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221120" y="148428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清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253160" y="246528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绿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184720" y="457200"/>
            <a:ext cx="33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漓江的水真静啊，静得让你感觉不到它在流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3279240" y="1468440"/>
            <a:ext cx="380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漓江的水真清啊，清得可以看见江底的沙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5095080" y="2459160"/>
            <a:ext cx="78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漓江的水真绿啊，绿得仿佛那是一块无瑕的翡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050920" y="3284640"/>
            <a:ext cx="670428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桂林的山真奇啊，一座座拔地而起，各不相连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像老人，像巨象，像骆驼，奇峰罗列，形态万千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393720" y="4437000"/>
            <a:ext cx="4204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桂林的山真秀啊，像翠绿的屏障，像新生的竹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色彩明丽，倒映水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979640" y="5486400"/>
            <a:ext cx="74469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桂林的山真险啊，危峰兀立，怪石嶙峋，好象一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小心就会栽倒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1221120" y="342900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奇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1253160" y="444672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秀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1237320" y="535320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险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0" y="6019920"/>
            <a:ext cx="38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42120" y="0"/>
            <a:ext cx="302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8408880" y="6324480"/>
            <a:ext cx="35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练习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977840" y="914400"/>
            <a:ext cx="5298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理解句子的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读一读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想一想，用什么方法写具体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如果是比喻句，说出把什么比作什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说一说这样写有什么好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8381880" y="6324480"/>
            <a:ext cx="609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句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7"/>
          <p:cNvSpPr/>
          <p:nvPr/>
        </p:nvSpPr>
        <p:spPr>
          <a:xfrm>
            <a:off x="1979640" y="1484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漓江的水真静啊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静的让你感觉不到它在流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F257192003[1]"/>
          <p:cNvPicPr/>
          <p:nvPr/>
        </p:nvPicPr>
        <p:blipFill>
          <a:blip r:embed="rId4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幼圆"/>
                <a:hlinkClick r:id="rId1"/>
              </a:rPr>
              <a:t>漓江的水真清啊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幼圆"/>
                <a:hlinkClick r:id="rId2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幼圆"/>
                <a:hlinkClick r:id="rId3"/>
              </a:rPr>
              <a:t>清的可以看见江底的沙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200561718311365[1]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漓江的水真绿啊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绿的仿佛那是一块无瑕的翡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漓江的水[1]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/>
              </a:rPr>
              <a:t>桂林的山真奇啊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/>
              </a:rPr>
              <a:t>像老人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5"/>
              </a:rPr>
              <a:t>像巨象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6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7"/>
              </a:rPr>
              <a:t>像骆驼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8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9"/>
              </a:rPr>
              <a:t>奇峰罗列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0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1"/>
              </a:rPr>
              <a:t>形态万千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骆驼山"/>
          <p:cNvPicPr/>
          <p:nvPr/>
        </p:nvPicPr>
        <p:blipFill>
          <a:blip r:embed="rId13"/>
          <a:stretch/>
        </p:blipFill>
        <p:spPr>
          <a:xfrm>
            <a:off x="0" y="1197000"/>
            <a:ext cx="4643280" cy="5661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桂林象鼻山"/>
          <p:cNvPicPr/>
          <p:nvPr/>
        </p:nvPicPr>
        <p:blipFill>
          <a:blip r:embed="rId14"/>
          <a:stretch/>
        </p:blipFill>
        <p:spPr>
          <a:xfrm>
            <a:off x="4751280" y="1052640"/>
            <a:ext cx="43927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1"/>
              </a:rPr>
              <a:t>桂林的山真秀啊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3"/>
              </a:rPr>
              <a:t>像翠绿的屏障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4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5"/>
              </a:rPr>
              <a:t>像新生的竹笋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6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7"/>
              </a:rPr>
              <a:t>色彩明丽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8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9"/>
              </a:rPr>
              <a:t>倒映水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2005617182855925[1]"/>
          <p:cNvPicPr/>
          <p:nvPr/>
        </p:nvPicPr>
        <p:blipFill>
          <a:blip r:embed="rId10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桂林的山真险啊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危峰兀立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怪石嶙峋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好像一不小心就会栽倒下来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556546[1]"/>
          <p:cNvPicPr/>
          <p:nvPr/>
        </p:nvPicPr>
        <p:blipFill>
          <a:blip r:embed="rId9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08:23:09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8:12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