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gif" ContentType="image/gif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DDD-78A9-41FB-94DB-7116D3CC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473-976A-4EF6-8298-7B1FD314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073-8AA2-4533-8235-1561D0BD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FBA-5E73-4AA6-B537-DF484F32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0C66-0BBA-45E8-977D-C2D93AD6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54BC-F4DF-4944-B0B7-9DD45822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C9C1-9F7A-4C93-A01B-CB4234DB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853D-FE82-4113-AF30-995696AB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AACE-DD05-4329-82C1-23D89E6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65F9-D935-4957-A308-7F81C7C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81FE-E25F-4E6A-89C4-C24E6E8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7EC-CFB9-490C-9365-5671373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BD88-403D-4094-A390-ED1FE1B8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65DA-0A1B-4C4E-A9E9-5ACA5FBD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EA54-C77C-458E-8352-5F15F884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21ED-6123-4994-BF8D-444B0306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6F63-716A-4B52-80C9-A3802E7B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DCA-E627-4D8D-B447-F111FA92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C63-FF59-4694-B9F9-922B9B76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F1F-8D4A-4F17-BA19-6285BA4D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3A8-EDF0-4CAD-8D93-FD74DE6E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E1E-17D7-4D54-B071-29CBAC3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9FB-643E-45D6-A24B-29B38408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DC5-7575-4678-9360-15A06E1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102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1028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1029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Oval 1030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1031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1032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1033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34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040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041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Oval 1042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043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1044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1045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1046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1047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1048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1049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1050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1051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1052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1053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1054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1055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1056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1057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1058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1059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1060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Freeform 1061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1062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1063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1064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1065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1066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1067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1068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1069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1070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1071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1072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1073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1074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1075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1076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1077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1078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Freeform 1079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80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1081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1082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1083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084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085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1086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Oval 1087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088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089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090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F070-C1A6-4D31-A69D-CCE72657F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6AD4-0BBB-4F5A-945D-60362264BC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&#32838;&#21548;&#32463;&#20856;%5C&#24402;&#21435;&#26469;&#20846;&#36766;3.rm&#35270;&#39057;&#26391;&#35835;.r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陶渊明像 3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6328080" y="71640"/>
            <a:ext cx="237456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归去来兮辞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陶渊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224160" y="457200"/>
            <a:ext cx="2695320" cy="10994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隶书"/>
              </a:rPr>
              <a:t>归去来兮辞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767320" y="22096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一、弃官归田的决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691000" y="37339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二、愉悦恬静的生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071960" y="51814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三、乐天安命的情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832880" y="223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75279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7451640" y="230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73756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7527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1203480" y="238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89080" y="455292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古诗写意7的副本"/>
          <p:cNvPicPr/>
          <p:nvPr/>
        </p:nvPicPr>
        <p:blipFill>
          <a:blip r:embed="rId1"/>
          <a:stretch/>
        </p:blipFill>
        <p:spPr>
          <a:xfrm>
            <a:off x="2819520" y="-304920"/>
            <a:ext cx="6610320" cy="74106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-685800"/>
            <a:ext cx="4648320" cy="7467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归去来兮辞朗读.wav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1332720" y="3124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方正姚体"/>
              </a:rPr>
              <a:t>作者感情线索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24000" y="44164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1187280" y="4952880"/>
            <a:ext cx="648000" cy="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1979640" y="44877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2781360" y="4952880"/>
            <a:ext cx="647640" cy="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3564000" y="45608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黑体"/>
              </a:rPr>
              <a:t>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96779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533520"/>
            <a:ext cx="8686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去来兮辞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家贫，耕植不足以自给。幼稚盈室，瓶无储粟，生生所资，未见其术。亲故多劝余为长吏，脱然有怀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求之靡途。会有四方之事，诸侯以惠爱为德，家叔以余贫苦，遂见用于小邑，于时风波未静，心惮远役，彭泽去家百里，公田之利，足以为酒，故便求之。及少日，眷然有归欤之情。何则？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质性自然，非矫励所得。饥冻虽切，违己交病。尝从人事，皆口腹自役。于是怅然慷慨，深愧平生之志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犹望一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当敛裳宵逝。寻程氏妹丧于武昌，情在骏奔，自免去职。仲秋至冬，在官八十余日。因事顺心，命篇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去来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乙巳岁十一月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>
            <a:hlinkClick r:id="rId1"/>
          </p:cNvPr>
          <p:cNvSpPr/>
          <p:nvPr/>
        </p:nvSpPr>
        <p:spPr>
          <a:xfrm>
            <a:off x="2649600" y="12524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理清本文叙事线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84360" y="2793960"/>
            <a:ext cx="44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决意辞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728720" y="3041640"/>
            <a:ext cx="5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归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2701800" y="3041640"/>
            <a:ext cx="5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抵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822840" y="2637000"/>
            <a:ext cx="67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室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生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4649760" y="3041640"/>
            <a:ext cx="5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涉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5621400" y="3041640"/>
            <a:ext cx="60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出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6745320" y="2919240"/>
            <a:ext cx="56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纵情山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7867800" y="2421000"/>
            <a:ext cx="66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如何安度余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1279440" y="3478320"/>
            <a:ext cx="44784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225252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30048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427500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517212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614664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7345440" y="3502080"/>
            <a:ext cx="4474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6248520" y="1447920"/>
            <a:ext cx="2286000" cy="3962160"/>
          </a:xfrm>
          <a:prstGeom prst="upArrowCallout">
            <a:avLst>
              <a:gd name="adj1" fmla="val 9242"/>
              <a:gd name="adj2" fmla="val 15208"/>
              <a:gd name="adj3" fmla="val 33236"/>
              <a:gd name="adj4" fmla="val 5537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3429000" y="1447920"/>
            <a:ext cx="2286000" cy="3962160"/>
          </a:xfrm>
          <a:prstGeom prst="upArrowCallout">
            <a:avLst>
              <a:gd name="adj1" fmla="val 9242"/>
              <a:gd name="adj2" fmla="val 15208"/>
              <a:gd name="adj3" fmla="val 33236"/>
              <a:gd name="adj4" fmla="val 5537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468360" y="1557360"/>
            <a:ext cx="2286000" cy="3809880"/>
          </a:xfrm>
          <a:prstGeom prst="upArrowCallout">
            <a:avLst>
              <a:gd name="adj1" fmla="val 9242"/>
              <a:gd name="adj2" fmla="val 15208"/>
              <a:gd name="adj3" fmla="val 31959"/>
              <a:gd name="adj4" fmla="val 5537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380880" y="2666880"/>
            <a:ext cx="275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归心似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880" y="3429000"/>
            <a:ext cx="26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抵家之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457200" y="4343400"/>
            <a:ext cx="267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家中景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3352680" y="2666880"/>
            <a:ext cx="265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饮酒自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352680" y="3657600"/>
            <a:ext cx="265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涉园成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352680" y="4572000"/>
            <a:ext cx="265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观景忘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248520" y="2727360"/>
            <a:ext cx="25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重审心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6248520" y="3429000"/>
            <a:ext cx="264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结交乡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6248520" y="403848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出游方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6324480" y="4648320"/>
            <a:ext cx="24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所见所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1027440" y="609480"/>
            <a:ext cx="118656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归家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742440" y="609480"/>
            <a:ext cx="118656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出游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992760" y="609480"/>
            <a:ext cx="118656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日常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272736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Picture 19" descr="36"/>
          <p:cNvPicPr/>
          <p:nvPr/>
        </p:nvPicPr>
        <p:blipFill>
          <a:blip r:embed="rId1"/>
          <a:stretch/>
        </p:blipFill>
        <p:spPr>
          <a:xfrm>
            <a:off x="914400" y="5791320"/>
            <a:ext cx="6858000" cy="7318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0"/>
          <p:cNvSpPr/>
          <p:nvPr/>
        </p:nvSpPr>
        <p:spPr>
          <a:xfrm>
            <a:off x="844236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21"/>
          <p:cNvSpPr/>
          <p:nvPr/>
        </p:nvSpPr>
        <p:spPr>
          <a:xfrm>
            <a:off x="82900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821376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8213760" y="611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AutoShape 28"/>
          <p:cNvSpPr/>
          <p:nvPr/>
        </p:nvSpPr>
        <p:spPr>
          <a:xfrm>
            <a:off x="2590920" y="762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AutoShape 29"/>
          <p:cNvSpPr/>
          <p:nvPr/>
        </p:nvSpPr>
        <p:spPr>
          <a:xfrm>
            <a:off x="5410080" y="762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2604600" y="457200"/>
            <a:ext cx="40075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自责自悲   自恕自乐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1620360" y="2057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往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20360" y="5029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昨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6878160" y="2057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来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6801840" y="4952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今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119200" y="3266640"/>
            <a:ext cx="729000" cy="1341000"/>
          </a:xfrm>
          <a:prstGeom prst="rect">
            <a:avLst/>
          </a:prstGeom>
          <a:solidFill>
            <a:srgbClr val="0099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归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290400" y="3260160"/>
            <a:ext cx="729000" cy="1341000"/>
          </a:xfrm>
          <a:prstGeom prst="rect">
            <a:avLst/>
          </a:prstGeom>
          <a:solidFill>
            <a:srgbClr val="0099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出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3124080" y="2362320"/>
            <a:ext cx="3353040" cy="129960"/>
          </a:xfrm>
          <a:prstGeom prst="rightArrow">
            <a:avLst>
              <a:gd name="adj1" fmla="val 50000"/>
              <a:gd name="adj2" fmla="val 645014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3124080" y="5257800"/>
            <a:ext cx="3353040" cy="69840"/>
          </a:xfrm>
          <a:prstGeom prst="rightArrow">
            <a:avLst>
              <a:gd name="adj1" fmla="val 50000"/>
              <a:gd name="adj2" fmla="val 1200258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1905120" y="2971800"/>
            <a:ext cx="218880" cy="2209680"/>
          </a:xfrm>
          <a:prstGeom prst="downArrow">
            <a:avLst>
              <a:gd name="adj1" fmla="val 50000"/>
              <a:gd name="adj2" fmla="val 2523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7162920" y="3048120"/>
            <a:ext cx="145800" cy="2209680"/>
          </a:xfrm>
          <a:prstGeom prst="downArrow">
            <a:avLst>
              <a:gd name="adj1" fmla="val 50000"/>
              <a:gd name="adj2" fmla="val 37888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821376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4"/>
          <p:cNvSpPr/>
          <p:nvPr/>
        </p:nvSpPr>
        <p:spPr>
          <a:xfrm>
            <a:off x="844236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539640" y="121428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方正舒体"/>
              </a:rPr>
              <a:t>三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187280" y="2852640"/>
            <a:ext cx="741708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一段：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自责自慰，有悔恨之情，也有庆幸之意，应读得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气中声哽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二、第三段：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自安自乐，有喜悦之情，也是自得之意，基调是静谧而愉悦的，应读得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气满声高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四段：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乐天安命，有达观之情，读得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旷达、悠然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1042920" y="1120680"/>
            <a:ext cx="7416720" cy="1498680"/>
            <a:chOff x="1042920" y="1120680"/>
            <a:chExt cx="7416720" cy="1498680"/>
          </a:xfrm>
        </p:grpSpPr>
        <p:sp>
          <p:nvSpPr>
            <p:cNvPr id="352" name="Text Box 7"/>
            <p:cNvSpPr/>
            <p:nvPr/>
          </p:nvSpPr>
          <p:spPr>
            <a:xfrm>
              <a:off x="1042920" y="1120680"/>
              <a:ext cx="741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Arial"/>
                  <a:ea typeface="华文隶书"/>
                </a:rPr>
                <a:t>       </a:t>
              </a:r>
              <a:r>
                <a:rPr b="0" lang="zh-CN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根据“情”的需要，有感情的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8"/>
            <p:cNvSpPr/>
            <p:nvPr/>
          </p:nvSpPr>
          <p:spPr>
            <a:xfrm>
              <a:off x="2195280" y="1915920"/>
              <a:ext cx="338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朗读课文。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Rectangle 9"/>
          <p:cNvSpPr/>
          <p:nvPr/>
        </p:nvSpPr>
        <p:spPr>
          <a:xfrm>
            <a:off x="468360" y="338940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朗诵指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ml82"/>
          <p:cNvPicPr/>
          <p:nvPr/>
        </p:nvPicPr>
        <p:blipFill>
          <a:blip r:embed="rId1"/>
          <a:stretch/>
        </p:blipFill>
        <p:spPr>
          <a:xfrm>
            <a:off x="6553080" y="609480"/>
            <a:ext cx="2286000" cy="2360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ml85"/>
          <p:cNvPicPr/>
          <p:nvPr/>
        </p:nvPicPr>
        <p:blipFill>
          <a:blip r:embed="rId2"/>
          <a:stretch/>
        </p:blipFill>
        <p:spPr>
          <a:xfrm>
            <a:off x="0" y="3860640"/>
            <a:ext cx="2309760" cy="266724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31640" y="1483920"/>
            <a:ext cx="489564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全文主旨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268000" y="2852640"/>
            <a:ext cx="5897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归去来兮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是陶渊明辞官归隐之际与上流社会公开决裂的政治宣言。文章以绝大篇幅写了他脱离官场的无限喜悦，想家归隐田园的无限乐趣，表现了作者对大自然和隐居生活的向往和热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2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0" y="1557360"/>
            <a:ext cx="478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饮  酒（其五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庐在人境，而无车马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君何能尔？心远地自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采菊东篱下，悠然见南山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山气日夕佳，飞鸟相与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此中有真意，欲辩已忘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4680000" y="1557360"/>
            <a:ext cx="4716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归园田居（其三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种豆南山下，草盛豆苗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晨兴理荒秽，带月荷锄归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道狭草木长，夕露沾我衣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衣沾不足惜，但使愿无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2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2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002"/>
          <p:cNvPicPr/>
          <p:nvPr/>
        </p:nvPicPr>
        <p:blipFill>
          <a:blip r:embed="rId1"/>
          <a:stretch/>
        </p:blipFill>
        <p:spPr>
          <a:xfrm>
            <a:off x="3808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92720" y="961920"/>
            <a:ext cx="18097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归园田居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陶渊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77920"/>
            <a:ext cx="685188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少无适俗韵，性本爱丘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误落尘网中，一去三十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羁鸟恋旧林，池鱼思故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开荒南野际，守拙归园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方宅十余亩，草屋八九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榆柳荫后檐，桃李罗堂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暧暧远人村，依依墟里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狗吠深巷中，鸡鸣桑树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户庭无尘杂，虚室有余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久在樊笼里，复得返自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" descr="2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838080" y="2057400"/>
            <a:ext cx="73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陶渊明（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5—427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，东晋诗人。一名潜，字元亮，浔阳柴桑人。世称“靖节先生” 又自称作“五柳先生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401840" y="561960"/>
            <a:ext cx="14000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80d6f"/>
                </a:solidFill>
                <a:latin typeface="Times New Roman"/>
                <a:ea typeface="楷体_GB2312"/>
              </a:rPr>
              <a:t>作者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ecff"/>
                </a:solidFill>
                <a:latin typeface="Arial"/>
              </a:rPr>
              <a:t>陶渊明出任要事：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：任江州祭酒，不久辞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：任桓玄（军阀）幕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7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：因母丧还家。居丧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：出任刘裕参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1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</a:t>
            </a:r>
            <a:r>
              <a:rPr b="0" lang="zh-CN" sz="3200" spc="-1" strike="noStrike">
                <a:solidFill>
                  <a:srgbClr val="afe1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出为彭泽令，在官八十余日，解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辞归，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归去来兮辞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，终生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再出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1258920" y="1628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的一天，担任彭泽县令的陶渊明听说郡里派了督邮来县巡视。县吏劝他穿戴整齐的官服去迎见督邮。陶渊明生平最恨那些狐假虎威，以督邮为名敲诈勒索的官员，气愤地说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决不能为五斗米（指俸禄）折腰，去迎奉伺候这种乡里小人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2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21" name="WordArt 6"/>
          <p:cNvSpPr txBox="1"/>
          <p:nvPr/>
        </p:nvSpPr>
        <p:spPr>
          <a:xfrm>
            <a:off x="395280" y="1484280"/>
            <a:ext cx="503280" cy="41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五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斗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米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的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故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事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900" spc="-1" strike="noStrike">
                <a:solidFill>
                  <a:srgbClr val="ffffff"/>
                </a:solidFill>
                <a:latin typeface="Arial"/>
                <a:ea typeface="华文新魏"/>
              </a:rPr>
              <a:t>辞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辞是战国后期楚国诗人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创造出来的一种新诗体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特点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 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四句为一小节，两句为一组；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以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字句为主，每句三拍，多用语气词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兮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。如</a:t>
            </a:r>
            <a:r>
              <a:rPr b="0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路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漫漫（其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修远（兮），吾将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上下（而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求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押韵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638680" y="68580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屈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295280" y="2514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形式自由，句式散文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781680" y="2971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六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舟遥遥]"/>
          <p:cNvPicPr/>
          <p:nvPr/>
        </p:nvPicPr>
        <p:blipFill>
          <a:blip r:embed="rId1"/>
          <a:stretch/>
        </p:blipFill>
        <p:spPr>
          <a:xfrm>
            <a:off x="533520" y="175248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533520" y="0"/>
            <a:ext cx="331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一读课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742400" y="838080"/>
            <a:ext cx="54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要求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读准字音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了解词义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读好句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8">
            <a:hlinkClick r:id="rId2"/>
          </p:cNvPr>
          <p:cNvSpPr/>
          <p:nvPr/>
        </p:nvSpPr>
        <p:spPr>
          <a:xfrm>
            <a:off x="8305920" y="304920"/>
            <a:ext cx="433440" cy="357120"/>
          </a:xfrm>
          <a:custGeom>
            <a:avLst/>
            <a:gdLst>
              <a:gd name="textAreaLeft" fmla="*/ 22320 w 433440"/>
              <a:gd name="textAreaRight" fmla="*/ 411120 w 433440"/>
              <a:gd name="textAreaTop" fmla="*/ 22320 h 357120"/>
              <a:gd name="textAreaBottom" fmla="*/ 334800 h 357120"/>
            </a:gdLst>
            <a:ahLst/>
            <a:rect l="textAreaLeft" t="textAreaTop" r="textAreaRight" b="textAreaBottom"/>
            <a:pathLst>
              <a:path w="26211" h="21600">
                <a:moveTo>
                  <a:pt x="0" y="0"/>
                </a:moveTo>
                <a:lnTo>
                  <a:pt x="26211" y="0"/>
                </a:lnTo>
                <a:lnTo>
                  <a:pt x="26211" y="21600"/>
                </a:lnTo>
                <a:lnTo>
                  <a:pt x="0" y="21600"/>
                </a:lnTo>
                <a:close/>
              </a:path>
              <a:path fill="lightenLess" w="26211" h="21600">
                <a:moveTo>
                  <a:pt x="0" y="0"/>
                </a:moveTo>
                <a:lnTo>
                  <a:pt x="26211" y="0"/>
                </a:lnTo>
                <a:lnTo>
                  <a:pt x="24861" y="1350"/>
                </a:lnTo>
                <a:lnTo>
                  <a:pt x="1350" y="1350"/>
                </a:lnTo>
                <a:close/>
              </a:path>
              <a:path fill="darken" w="26211" h="21600">
                <a:moveTo>
                  <a:pt x="26211" y="0"/>
                </a:moveTo>
                <a:lnTo>
                  <a:pt x="26211" y="21600"/>
                </a:lnTo>
                <a:lnTo>
                  <a:pt x="24861" y="20250"/>
                </a:lnTo>
                <a:lnTo>
                  <a:pt x="24861" y="1350"/>
                </a:lnTo>
                <a:close/>
              </a:path>
              <a:path fill="darkenLess" w="26211" h="21600">
                <a:moveTo>
                  <a:pt x="2621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861" y="20250"/>
                </a:lnTo>
                <a:close/>
              </a:path>
              <a:path fill="lighten" w="2621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211" h="21600">
                <a:moveTo>
                  <a:pt x="6062" y="8394"/>
                </a:moveTo>
                <a:lnTo>
                  <a:pt x="10516" y="8394"/>
                </a:lnTo>
                <a:lnTo>
                  <a:pt x="14961" y="3756"/>
                </a:lnTo>
                <a:lnTo>
                  <a:pt x="14961" y="17844"/>
                </a:lnTo>
                <a:lnTo>
                  <a:pt x="10516" y="13206"/>
                </a:lnTo>
                <a:lnTo>
                  <a:pt x="6062" y="13206"/>
                </a:lnTo>
                <a:close/>
              </a:path>
              <a:path fill="darken" w="26211" h="21600">
                <a:moveTo>
                  <a:pt x="16623" y="10800"/>
                </a:moveTo>
                <a:lnTo>
                  <a:pt x="20149" y="10800"/>
                </a:lnTo>
              </a:path>
              <a:path fill="darken" w="26211" h="21600">
                <a:moveTo>
                  <a:pt x="16623" y="8394"/>
                </a:moveTo>
                <a:lnTo>
                  <a:pt x="20149" y="5611"/>
                </a:lnTo>
              </a:path>
              <a:path fill="darken" w="26211" h="21600">
                <a:moveTo>
                  <a:pt x="16623" y="13206"/>
                </a:moveTo>
                <a:lnTo>
                  <a:pt x="20149" y="15989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07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075" descr="2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076"/>
          <p:cNvSpPr/>
          <p:nvPr/>
        </p:nvSpPr>
        <p:spPr>
          <a:xfrm>
            <a:off x="1762920" y="200988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óuchà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3077"/>
          <p:cNvSpPr/>
          <p:nvPr/>
        </p:nvSpPr>
        <p:spPr>
          <a:xfrm>
            <a:off x="4860000" y="200988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á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079"/>
          <p:cNvSpPr/>
          <p:nvPr/>
        </p:nvSpPr>
        <p:spPr>
          <a:xfrm>
            <a:off x="1332000" y="285264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ū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080"/>
          <p:cNvSpPr/>
          <p:nvPr/>
        </p:nvSpPr>
        <p:spPr>
          <a:xfrm>
            <a:off x="3059280" y="284940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ā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081"/>
          <p:cNvSpPr/>
          <p:nvPr/>
        </p:nvSpPr>
        <p:spPr>
          <a:xfrm>
            <a:off x="5219640" y="2849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ǎ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3082"/>
          <p:cNvSpPr/>
          <p:nvPr/>
        </p:nvSpPr>
        <p:spPr>
          <a:xfrm>
            <a:off x="1332000" y="37130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ǎ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083"/>
          <p:cNvSpPr/>
          <p:nvPr/>
        </p:nvSpPr>
        <p:spPr>
          <a:xfrm>
            <a:off x="3060360" y="364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i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084"/>
          <p:cNvSpPr/>
          <p:nvPr/>
        </p:nvSpPr>
        <p:spPr>
          <a:xfrm>
            <a:off x="5005080" y="3641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085"/>
          <p:cNvSpPr/>
          <p:nvPr/>
        </p:nvSpPr>
        <p:spPr>
          <a:xfrm>
            <a:off x="6948720" y="36417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3086"/>
          <p:cNvSpPr/>
          <p:nvPr/>
        </p:nvSpPr>
        <p:spPr>
          <a:xfrm>
            <a:off x="3276720" y="4508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ǎotiǎ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087"/>
          <p:cNvSpPr/>
          <p:nvPr/>
        </p:nvSpPr>
        <p:spPr>
          <a:xfrm>
            <a:off x="5724360" y="4508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á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088"/>
          <p:cNvSpPr/>
          <p:nvPr/>
        </p:nvSpPr>
        <p:spPr>
          <a:xfrm>
            <a:off x="7524720" y="4505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ā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3089"/>
          <p:cNvSpPr/>
          <p:nvPr/>
        </p:nvSpPr>
        <p:spPr>
          <a:xfrm>
            <a:off x="1259280" y="45086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hà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3090"/>
          <p:cNvSpPr/>
          <p:nvPr/>
        </p:nvSpPr>
        <p:spPr>
          <a:xfrm>
            <a:off x="7227000" y="2781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091"/>
          <p:cNvSpPr/>
          <p:nvPr/>
        </p:nvSpPr>
        <p:spPr>
          <a:xfrm>
            <a:off x="684360" y="10825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正音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094"/>
          <p:cNvSpPr/>
          <p:nvPr/>
        </p:nvSpPr>
        <p:spPr>
          <a:xfrm>
            <a:off x="7524720" y="200988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Group 3107"/>
          <p:cNvGrpSpPr/>
          <p:nvPr/>
        </p:nvGrpSpPr>
        <p:grpSpPr>
          <a:xfrm>
            <a:off x="763560" y="2009880"/>
            <a:ext cx="8129520" cy="3080160"/>
            <a:chOff x="763560" y="2009880"/>
            <a:chExt cx="8129520" cy="3080160"/>
          </a:xfrm>
        </p:grpSpPr>
        <p:sp>
          <p:nvSpPr>
            <p:cNvPr id="250" name="Rectangle 3078"/>
            <p:cNvSpPr/>
            <p:nvPr/>
          </p:nvSpPr>
          <p:spPr>
            <a:xfrm>
              <a:off x="6300720" y="20574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熹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微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3092"/>
            <p:cNvSpPr/>
            <p:nvPr/>
          </p:nvSpPr>
          <p:spPr>
            <a:xfrm>
              <a:off x="763560" y="2009880"/>
              <a:ext cx="143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惆怅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3093"/>
            <p:cNvSpPr/>
            <p:nvPr/>
          </p:nvSpPr>
          <p:spPr>
            <a:xfrm>
              <a:off x="4368600" y="20098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飏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3095"/>
            <p:cNvSpPr/>
            <p:nvPr/>
          </p:nvSpPr>
          <p:spPr>
            <a:xfrm>
              <a:off x="839520" y="2849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樽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3096"/>
            <p:cNvSpPr/>
            <p:nvPr/>
          </p:nvSpPr>
          <p:spPr>
            <a:xfrm>
              <a:off x="2495160" y="2849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觞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3097"/>
            <p:cNvSpPr/>
            <p:nvPr/>
          </p:nvSpPr>
          <p:spPr>
            <a:xfrm>
              <a:off x="4727160" y="2849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3098"/>
            <p:cNvSpPr/>
            <p:nvPr/>
          </p:nvSpPr>
          <p:spPr>
            <a:xfrm>
              <a:off x="6588000" y="27813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庭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Rectangle 3099"/>
            <p:cNvSpPr/>
            <p:nvPr/>
          </p:nvSpPr>
          <p:spPr>
            <a:xfrm>
              <a:off x="839520" y="3716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矫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Rectangle 3100"/>
            <p:cNvSpPr/>
            <p:nvPr/>
          </p:nvSpPr>
          <p:spPr>
            <a:xfrm>
              <a:off x="2495160" y="3641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岫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Rectangle 3101"/>
            <p:cNvSpPr/>
            <p:nvPr/>
          </p:nvSpPr>
          <p:spPr>
            <a:xfrm>
              <a:off x="4368600" y="3645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翳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3102"/>
            <p:cNvSpPr/>
            <p:nvPr/>
          </p:nvSpPr>
          <p:spPr>
            <a:xfrm>
              <a:off x="6084720" y="364500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盘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Rectangle 3103"/>
            <p:cNvSpPr/>
            <p:nvPr/>
          </p:nvSpPr>
          <p:spPr>
            <a:xfrm>
              <a:off x="839520" y="4508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棹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3104"/>
            <p:cNvSpPr/>
            <p:nvPr/>
          </p:nvSpPr>
          <p:spPr>
            <a:xfrm>
              <a:off x="2340000" y="4508640"/>
              <a:ext cx="19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窈窕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3105"/>
            <p:cNvSpPr/>
            <p:nvPr/>
          </p:nvSpPr>
          <p:spPr>
            <a:xfrm>
              <a:off x="4788000" y="45054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遑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3106"/>
            <p:cNvSpPr/>
            <p:nvPr/>
          </p:nvSpPr>
          <p:spPr>
            <a:xfrm>
              <a:off x="7176600" y="4508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2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3156480" y="10112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文中的韵脚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4920" y="1992240"/>
            <a:ext cx="93614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第一节：押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uì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  韵脚字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“归”、“悲”、“追”、“非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第二节：押三个韵：①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ì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uì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脚是“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熹、微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                           ②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un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……“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奔”“门”“存”“樽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                           ③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an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……“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颜”“安”“关”“还”“桓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第三节：押一个韵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ou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脚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“游”“求”“优”“畴”“舟”“丘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                                          “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流”“休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第四节：除“曷不委心任去留”以上几句，其余押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i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脚有 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“之”“期”“籽”“诗”“疑”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6" descr="ZW_020"/>
          <p:cNvPicPr/>
          <p:nvPr/>
        </p:nvPicPr>
        <p:blipFill>
          <a:blip r:embed="rId3"/>
          <a:stretch/>
        </p:blipFill>
        <p:spPr>
          <a:xfrm>
            <a:off x="7885080" y="5373720"/>
            <a:ext cx="657360" cy="5904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古诗写意6"/>
          <p:cNvPicPr/>
          <p:nvPr/>
        </p:nvPicPr>
        <p:blipFill>
          <a:blip r:embed="rId1"/>
          <a:stretch/>
        </p:blipFill>
        <p:spPr>
          <a:xfrm>
            <a:off x="2743200" y="-304920"/>
            <a:ext cx="6667560" cy="7410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-304920"/>
            <a:ext cx="4572000" cy="7467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c0001"/>
                </a:solidFill>
                <a:latin typeface="Times New Roman"/>
              </a:rPr>
              <a:t>方法：按照辞的体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001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c0001"/>
                </a:solidFill>
                <a:latin typeface="Times New Roman"/>
              </a:rPr>
              <a:t>特点朗读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1276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80880" y="380880"/>
            <a:ext cx="36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二  读  课 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归去来兮辞朗读.wav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96779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09:4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8:28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