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4E9-DB88-404B-A688-AD12CAA3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AA5-9823-4C4D-85DD-5796707E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D4E-A89C-4676-98C7-F51C16FA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8CA-3C29-453F-9059-C0BA1E97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77F-3BC5-4F6D-9731-2C4B2C8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667-5D14-4A07-861E-87A1209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F62-F58C-4F4F-A022-D9C5C4C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78F-EC34-4295-AC94-18F7A9C1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75F-5532-4F33-9153-6D5C1174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850-BC10-4DD9-8A95-2B85B80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CEC-1DB2-4ED4-854A-32C1EDE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802-C95E-4348-91FD-4E34457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5F4-FBA3-4650-BA04-1DCBABE622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/>
            <a:ahLst/>
            <a:rect l="l" t="t" r="r" b="b"/>
            <a:pathLst>
              <a:path w="4211638" h="360363">
                <a:moveTo>
                  <a:pt x="0" y="360363"/>
                </a:moveTo>
                <a:lnTo>
                  <a:pt x="239155" y="0"/>
                </a:lnTo>
                <a:lnTo>
                  <a:pt x="3972483" y="0"/>
                </a:lnTo>
                <a:lnTo>
                  <a:pt x="4211638" y="360363"/>
                </a:lnTo>
                <a:lnTo>
                  <a:pt x="0" y="360363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梯形 4"/>
          <p:cNvSpPr/>
          <p:nvPr/>
        </p:nvSpPr>
        <p:spPr>
          <a:xfrm rot="16200000">
            <a:off x="6468120" y="4539240"/>
            <a:ext cx="1536480" cy="1871640"/>
          </a:xfrm>
          <a:custGeom>
            <a:avLst/>
            <a:gdLst/>
            <a:ahLst/>
            <a:rect l="l" t="t" r="r" b="b"/>
            <a:pathLst>
              <a:path w="1536700" h="1871662">
                <a:moveTo>
                  <a:pt x="0" y="1871662"/>
                </a:moveTo>
                <a:lnTo>
                  <a:pt x="365120" y="0"/>
                </a:lnTo>
                <a:lnTo>
                  <a:pt x="1171580" y="0"/>
                </a:lnTo>
                <a:lnTo>
                  <a:pt x="1536700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/>
            <a:ahLst/>
            <a:rect l="l" t="t" r="r" b="b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lnTo>
                  <a:pt x="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/>
            <a:ahLst/>
            <a:rect l="l" t="t" r="r" b="b"/>
            <a:pathLst>
              <a:path w="3740150" h="1749425">
                <a:moveTo>
                  <a:pt x="0" y="1749425"/>
                </a:moveTo>
                <a:lnTo>
                  <a:pt x="475459" y="0"/>
                </a:lnTo>
                <a:lnTo>
                  <a:pt x="3264691" y="0"/>
                </a:lnTo>
                <a:lnTo>
                  <a:pt x="3740150" y="1749425"/>
                </a:lnTo>
                <a:lnTo>
                  <a:pt x="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梯形 6"/>
          <p:cNvSpPr/>
          <p:nvPr/>
        </p:nvSpPr>
        <p:spPr>
          <a:xfrm flipV="1" rot="5400000">
            <a:off x="4524840" y="2918880"/>
            <a:ext cx="4248360" cy="218304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2" y="0"/>
                </a:lnTo>
                <a:lnTo>
                  <a:pt x="4248150" y="2182812"/>
                </a:lnTo>
                <a:lnTo>
                  <a:pt x="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/>
            <a:ahLst/>
            <a:rect l="l" t="t" r="r" b="b"/>
            <a:pathLst>
              <a:path w="4465637" h="2160587">
                <a:moveTo>
                  <a:pt x="0" y="2160587"/>
                </a:moveTo>
                <a:lnTo>
                  <a:pt x="782024" y="0"/>
                </a:lnTo>
                <a:lnTo>
                  <a:pt x="3683613" y="0"/>
                </a:lnTo>
                <a:lnTo>
                  <a:pt x="4465637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/>
            <a:ahLst/>
            <a:rect l="l" t="t" r="r" b="b"/>
            <a:pathLst>
              <a:path w="4248150" h="3960813">
                <a:moveTo>
                  <a:pt x="0" y="3960813"/>
                </a:moveTo>
                <a:lnTo>
                  <a:pt x="1571255" y="0"/>
                </a:lnTo>
                <a:lnTo>
                  <a:pt x="2676895" y="0"/>
                </a:lnTo>
                <a:lnTo>
                  <a:pt x="4248150" y="3960813"/>
                </a:lnTo>
                <a:lnTo>
                  <a:pt x="0" y="3960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梯形 4"/>
          <p:cNvSpPr/>
          <p:nvPr/>
        </p:nvSpPr>
        <p:spPr>
          <a:xfrm rot="16200000">
            <a:off x="457272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梯形 7"/>
          <p:cNvSpPr/>
          <p:nvPr/>
        </p:nvSpPr>
        <p:spPr>
          <a:xfrm rot="16200000">
            <a:off x="2316960" y="273924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3" y="0"/>
                </a:lnTo>
                <a:lnTo>
                  <a:pt x="3625677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梯形 10"/>
          <p:cNvSpPr/>
          <p:nvPr/>
        </p:nvSpPr>
        <p:spPr>
          <a:xfrm rot="5400000">
            <a:off x="143640" y="2456640"/>
            <a:ext cx="4248000" cy="2160720"/>
          </a:xfrm>
          <a:custGeom>
            <a:avLst/>
            <a:gdLst/>
            <a:ahLst/>
            <a:rect l="l" t="t" r="r" b="b"/>
            <a:pathLst>
              <a:path w="4248150" h="2160588">
                <a:moveTo>
                  <a:pt x="0" y="2160588"/>
                </a:moveTo>
                <a:lnTo>
                  <a:pt x="724877" y="0"/>
                </a:lnTo>
                <a:lnTo>
                  <a:pt x="3523273" y="0"/>
                </a:lnTo>
                <a:lnTo>
                  <a:pt x="42481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梯形 11"/>
          <p:cNvSpPr/>
          <p:nvPr/>
        </p:nvSpPr>
        <p:spPr>
          <a:xfrm rot="5400000">
            <a:off x="-180720" y="2823480"/>
            <a:ext cx="4464360" cy="216036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梯形 3"/>
          <p:cNvSpPr/>
          <p:nvPr/>
        </p:nvSpPr>
        <p:spPr>
          <a:xfrm flipV="1" rot="5400000">
            <a:off x="4923720" y="2800080"/>
            <a:ext cx="3917880" cy="2462040"/>
          </a:xfrm>
          <a:custGeom>
            <a:avLst/>
            <a:gdLst/>
            <a:ahLst/>
            <a:rect l="l" t="t" r="r" b="b"/>
            <a:pathLst>
              <a:path w="3917950" h="2462213">
                <a:moveTo>
                  <a:pt x="0" y="2462213"/>
                </a:moveTo>
                <a:lnTo>
                  <a:pt x="398952" y="0"/>
                </a:lnTo>
                <a:lnTo>
                  <a:pt x="3518998" y="0"/>
                </a:lnTo>
                <a:lnTo>
                  <a:pt x="3917950" y="2462213"/>
                </a:lnTo>
                <a:lnTo>
                  <a:pt x="0" y="24622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梯形 4"/>
          <p:cNvSpPr/>
          <p:nvPr/>
        </p:nvSpPr>
        <p:spPr>
          <a:xfrm rot="16200000">
            <a:off x="5352120" y="2307240"/>
            <a:ext cx="4465440" cy="2327400"/>
          </a:xfrm>
          <a:custGeom>
            <a:avLst/>
            <a:gdLst/>
            <a:ahLst/>
            <a:rect l="l" t="t" r="r" b="b"/>
            <a:pathLst>
              <a:path w="4465638" h="2327275">
                <a:moveTo>
                  <a:pt x="0" y="2327275"/>
                </a:moveTo>
                <a:lnTo>
                  <a:pt x="450770" y="0"/>
                </a:lnTo>
                <a:lnTo>
                  <a:pt x="4014868" y="0"/>
                </a:lnTo>
                <a:lnTo>
                  <a:pt x="4465638" y="2327275"/>
                </a:lnTo>
                <a:lnTo>
                  <a:pt x="0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梯形 7"/>
          <p:cNvSpPr/>
          <p:nvPr/>
        </p:nvSpPr>
        <p:spPr>
          <a:xfrm rot="16200000">
            <a:off x="2699640" y="2925000"/>
            <a:ext cx="446400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590683" y="0"/>
                </a:lnTo>
                <a:lnTo>
                  <a:pt x="3873367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88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"/>
          <p:cNvPicPr/>
          <p:nvPr/>
        </p:nvPicPr>
        <p:blipFill>
          <a:blip r:embed="rId1"/>
          <a:stretch/>
        </p:blipFill>
        <p:spPr>
          <a:xfrm>
            <a:off x="3176640" y="1627200"/>
            <a:ext cx="2071800" cy="7918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"/>
          <p:cNvPicPr/>
          <p:nvPr/>
        </p:nvPicPr>
        <p:blipFill>
          <a:blip r:embed="rId2"/>
          <a:stretch/>
        </p:blipFill>
        <p:spPr>
          <a:xfrm>
            <a:off x="463680" y="1663560"/>
            <a:ext cx="2346120" cy="7613640"/>
          </a:xfrm>
          <a:prstGeom prst="rect">
            <a:avLst/>
          </a:prstGeom>
          <a:ln w="0">
            <a:noFill/>
          </a:ln>
        </p:spPr>
      </p:pic>
      <p:sp>
        <p:nvSpPr>
          <p:cNvPr id="91" name="梯形 9"/>
          <p:cNvSpPr/>
          <p:nvPr/>
        </p:nvSpPr>
        <p:spPr>
          <a:xfrm flipV="1" rot="5400000">
            <a:off x="4983840" y="3128040"/>
            <a:ext cx="4248000" cy="2182680"/>
          </a:xfrm>
          <a:custGeom>
            <a:avLst/>
            <a:gdLst/>
            <a:ahLst/>
            <a:rect l="l" t="t" r="r" b="b"/>
            <a:pathLst>
              <a:path w="4248150" h="2182813">
                <a:moveTo>
                  <a:pt x="0" y="2182813"/>
                </a:moveTo>
                <a:lnTo>
                  <a:pt x="716945" y="0"/>
                </a:lnTo>
                <a:lnTo>
                  <a:pt x="3531205" y="0"/>
                </a:lnTo>
                <a:lnTo>
                  <a:pt x="4248150" y="2182813"/>
                </a:lnTo>
                <a:lnTo>
                  <a:pt x="0" y="2182813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梯形 10"/>
          <p:cNvSpPr/>
          <p:nvPr/>
        </p:nvSpPr>
        <p:spPr>
          <a:xfrm rot="16200000">
            <a:off x="4539240" y="2599560"/>
            <a:ext cx="446400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1" y="0"/>
                </a:lnTo>
                <a:lnTo>
                  <a:pt x="4464050" y="2160587"/>
                </a:lnTo>
                <a:lnTo>
                  <a:pt x="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梯形 7"/>
          <p:cNvSpPr/>
          <p:nvPr/>
        </p:nvSpPr>
        <p:spPr>
          <a:xfrm rot="5400000">
            <a:off x="1434240" y="1632600"/>
            <a:ext cx="4249800" cy="3743280"/>
          </a:xfrm>
          <a:custGeom>
            <a:avLst/>
            <a:gdLst/>
            <a:ahLst/>
            <a:rect l="l" t="t" r="r" b="b"/>
            <a:pathLst>
              <a:path w="4249737" h="3743325">
                <a:moveTo>
                  <a:pt x="0" y="3743325"/>
                </a:moveTo>
                <a:lnTo>
                  <a:pt x="1255886" y="0"/>
                </a:lnTo>
                <a:lnTo>
                  <a:pt x="2993851" y="0"/>
                </a:lnTo>
                <a:lnTo>
                  <a:pt x="4249737" y="3743325"/>
                </a:lnTo>
                <a:lnTo>
                  <a:pt x="0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梯形 8"/>
          <p:cNvSpPr/>
          <p:nvPr/>
        </p:nvSpPr>
        <p:spPr>
          <a:xfrm rot="5400000">
            <a:off x="4086720" y="2656440"/>
            <a:ext cx="4464360" cy="2160720"/>
          </a:xfrm>
          <a:custGeom>
            <a:avLst/>
            <a:gdLst/>
            <a:ahLst/>
            <a:rect l="l" t="t" r="r" b="b"/>
            <a:pathLst>
              <a:path w="4464050" h="2160588">
                <a:moveTo>
                  <a:pt x="0" y="2160588"/>
                </a:moveTo>
                <a:lnTo>
                  <a:pt x="782025" y="0"/>
                </a:lnTo>
                <a:lnTo>
                  <a:pt x="3682025" y="0"/>
                </a:lnTo>
                <a:lnTo>
                  <a:pt x="4464050" y="2160588"/>
                </a:lnTo>
                <a:lnTo>
                  <a:pt x="0" y="2160588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/>
            <a:ahLst/>
            <a:rect l="l" t="t" r="r" b="b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4" y="0"/>
                </a:lnTo>
                <a:lnTo>
                  <a:pt x="4464050" y="3816350"/>
                </a:lnTo>
                <a:lnTo>
                  <a:pt x="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438200" y="2481120"/>
            <a:ext cx="2809800" cy="3638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梯形 9"/>
          <p:cNvSpPr/>
          <p:nvPr/>
        </p:nvSpPr>
        <p:spPr>
          <a:xfrm flipV="1" rot="5400000">
            <a:off x="2795760" y="1662480"/>
            <a:ext cx="3678120" cy="3475080"/>
          </a:xfrm>
          <a:custGeom>
            <a:avLst/>
            <a:gdLst/>
            <a:ahLst/>
            <a:rect l="l" t="t" r="r" b="b"/>
            <a:pathLst>
              <a:path w="3678238" h="3475037">
                <a:moveTo>
                  <a:pt x="0" y="3475037"/>
                </a:moveTo>
                <a:lnTo>
                  <a:pt x="978953" y="0"/>
                </a:lnTo>
                <a:lnTo>
                  <a:pt x="2699285" y="0"/>
                </a:lnTo>
                <a:lnTo>
                  <a:pt x="3678238" y="3475037"/>
                </a:lnTo>
                <a:lnTo>
                  <a:pt x="0" y="347503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梯形 3"/>
          <p:cNvSpPr/>
          <p:nvPr/>
        </p:nvSpPr>
        <p:spPr>
          <a:xfrm flipV="1" rot="5400000">
            <a:off x="2746080" y="1412640"/>
            <a:ext cx="3291120" cy="3529080"/>
          </a:xfrm>
          <a:custGeom>
            <a:avLst/>
            <a:gdLst/>
            <a:ahLst/>
            <a:rect l="l" t="t" r="r" b="b"/>
            <a:pathLst>
              <a:path w="3290887" h="3529012">
                <a:moveTo>
                  <a:pt x="0" y="3529012"/>
                </a:moveTo>
                <a:lnTo>
                  <a:pt x="906870" y="0"/>
                </a:lnTo>
                <a:lnTo>
                  <a:pt x="2384017" y="0"/>
                </a:lnTo>
                <a:lnTo>
                  <a:pt x="3290887" y="3529012"/>
                </a:lnTo>
                <a:lnTo>
                  <a:pt x="0" y="3529012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712240" y="275436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ONE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6:22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