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png" ContentType="image/png"/>
  <Override PartName="/ppt/media/image8.png" ContentType="image/png"/>
  <Override PartName="/ppt/media/image12.gif" ContentType="image/gif"/>
  <Override PartName="/ppt/media/image3.jpeg" ContentType="image/jpeg"/>
  <Override PartName="/ppt/media/image7.gif" ContentType="image/gif"/>
  <Override PartName="/ppt/media/image18.jpeg" ContentType="image/jpeg"/>
  <Override PartName="/ppt/media/image21.jpeg" ContentType="image/jpeg"/>
  <Override PartName="/ppt/media/image17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6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535-C05A-4F5B-A340-70308033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FD2-3388-43EF-8867-D7FBB02E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ADE-C09F-42B9-976B-2A24CD46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1DF-E319-4DD0-83B4-D7E801D7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C185-CAF9-46F3-A3AB-62456F70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4AAF-57F3-454D-B2D1-4124C3FF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EC8E-552B-44FA-8D8C-2F9435C9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3793-B842-4E8C-92E6-D66F1B2C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576-7CE9-432D-AC1A-E8103A7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E2FA-E06E-49D3-8BF4-96B6E0D9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2230-791D-40E1-ADB9-BFA7BCA6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154-B07B-4CB4-BC38-986F9E0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663F-FE57-42D3-8904-FC5632C0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9CF5-762E-46A3-9070-9E291B0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C6E-BBA4-4EAE-AB7E-3CED613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96CF-8F37-4F09-8055-562FE740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181E-94C8-4E63-B28B-1A8C0601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A05-F8BD-476B-8749-BE0FD988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102-2403-4C35-9649-FCD55D30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EB7-FBA2-4F98-9E85-813DD6AA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74C-0320-48A2-B845-AB2398DF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329-17AE-46B9-84EB-3C547FA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46B-09A6-433F-9632-C25EDF1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662-F635-4864-994E-23F44DA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85E2-4998-4BAA-AFC7-DE722D117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75C-D916-4BE3-9B34-E8A776D1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audio" Target="file:///tmp/home/.config/libreoffice/4/user/gallery/explode.wav" TargetMode="External"/><Relationship Id="rId8" Type="http://schemas.microsoft.com/office/2007/relationships/media" Target="file:///tmp/home/.config/libreoffice/4/user/gallery/explode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png"/><Relationship Id="rId17" Type="http://schemas.openxmlformats.org/officeDocument/2006/relationships/image" Target="../media/image10.gif"/><Relationship Id="rId1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 Box 7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7662600" cy="1323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gif002"/>
          <p:cNvPicPr/>
          <p:nvPr/>
        </p:nvPicPr>
        <p:blipFill>
          <a:blip r:embed="rId2"/>
          <a:stretch/>
        </p:blipFill>
        <p:spPr>
          <a:xfrm>
            <a:off x="6948360" y="400536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" descr=""/>
          <p:cNvPicPr/>
          <p:nvPr/>
        </p:nvPicPr>
        <p:blipFill>
          <a:blip r:embed="rId3"/>
          <a:srcRect l="0" t="4863" r="0" b="0"/>
          <a:stretch/>
        </p:blipFill>
        <p:spPr>
          <a:xfrm>
            <a:off x="-1440" y="1920960"/>
            <a:ext cx="5149800" cy="4937040"/>
          </a:xfrm>
          <a:prstGeom prst="rect">
            <a:avLst/>
          </a:prstGeom>
          <a:ln w="0">
            <a:noFill/>
          </a:ln>
        </p:spPr>
      </p:pic>
      <p:pic>
        <p:nvPicPr>
          <p:cNvPr id="331" name="矩形 2" descr=""/>
          <p:cNvPicPr/>
          <p:nvPr/>
        </p:nvPicPr>
        <p:blipFill>
          <a:blip r:embed="rId4"/>
          <a:stretch/>
        </p:blipFill>
        <p:spPr>
          <a:xfrm>
            <a:off x="5626080" y="2084400"/>
            <a:ext cx="22194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755640" y="4724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20041289551116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" descr="san4"/>
          <p:cNvPicPr/>
          <p:nvPr/>
        </p:nvPicPr>
        <p:blipFill>
          <a:blip r:embed="rId5"/>
          <a:stretch/>
        </p:blipFill>
        <p:spPr>
          <a:xfrm>
            <a:off x="7164360" y="9079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0" descr="图片5"/>
          <p:cNvPicPr/>
          <p:nvPr/>
        </p:nvPicPr>
        <p:blipFill>
          <a:blip r:embed="rId6"/>
          <a:stretch/>
        </p:blipFill>
        <p:spPr>
          <a:xfrm>
            <a:off x="3708360" y="4221000"/>
            <a:ext cx="4981680" cy="1467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2"/>
          <p:cNvSpPr/>
          <p:nvPr/>
        </p:nvSpPr>
        <p:spPr>
          <a:xfrm>
            <a:off x="2050920" y="404640"/>
            <a:ext cx="55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Good   morn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8443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8943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08443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20041289545684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1619280" y="765000"/>
            <a:ext cx="43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  <a:ea typeface="华文彩云"/>
              </a:rPr>
              <a:t>合作探究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5049720" y="2590920"/>
            <a:ext cx="459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324000" y="206064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皇帝的新装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一文中，是谁在钓鱼？他想钓哪条鱼？他用的的鱼饵又是什么？最后又是谁把丝线剪断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95280" y="508464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请大家扛着这根钓鱼杆，默读课文，寻找答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gif031"/>
          <p:cNvPicPr/>
          <p:nvPr/>
        </p:nvPicPr>
        <p:blipFill>
          <a:blip r:embed="rId17"/>
          <a:stretch/>
        </p:blipFill>
        <p:spPr>
          <a:xfrm>
            <a:off x="395280" y="47628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6108480" y="333360"/>
            <a:ext cx="91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有请皇帝、骗子、小孩上台准备接受大家的评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20041289432244"/>
          <p:cNvPicPr/>
          <p:nvPr/>
        </p:nvPicPr>
        <p:blipFill>
          <a:blip r:embed="rId1"/>
          <a:stretch/>
        </p:blipFill>
        <p:spPr>
          <a:xfrm>
            <a:off x="0" y="0"/>
            <a:ext cx="2771640" cy="31417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3675240" y="1189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彩云"/>
              </a:rPr>
              <a:t>续写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843280" y="3284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隶书"/>
              </a:rPr>
              <a:t>游行大典结束了，可这个故事并没有结束，猜一猜，后来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太阳花"/>
          <p:cNvPicPr/>
          <p:nvPr/>
        </p:nvPicPr>
        <p:blipFill>
          <a:blip r:embed="rId1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"/>
          <p:cNvSpPr/>
          <p:nvPr/>
        </p:nvSpPr>
        <p:spPr>
          <a:xfrm>
            <a:off x="1403280" y="765000"/>
            <a:ext cx="634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  <a:ea typeface="方正舒体"/>
              </a:rPr>
              <a:t>    </a:t>
            </a: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方正舒体"/>
              </a:rPr>
              <a:t>你知道“指鹿为马”这个成语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boy2-3"/>
          <p:cNvPicPr/>
          <p:nvPr/>
        </p:nvPicPr>
        <p:blipFill>
          <a:blip r:embed="rId2"/>
          <a:stretch/>
        </p:blipFill>
        <p:spPr>
          <a:xfrm>
            <a:off x="0" y="0"/>
            <a:ext cx="16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tdex8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2133720" y="1828800"/>
            <a:ext cx="496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你学到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什么？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gif073"/>
          <p:cNvPicPr/>
          <p:nvPr/>
        </p:nvPicPr>
        <p:blipFill>
          <a:blip r:embed="rId2"/>
          <a:stretch/>
        </p:blipFill>
        <p:spPr>
          <a:xfrm>
            <a:off x="468360" y="260280"/>
            <a:ext cx="2592360" cy="2497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838080" y="4552920"/>
            <a:ext cx="6181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2484360" cy="21668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203640" y="765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ff"/>
                </a:solidFill>
                <a:latin typeface="Arial"/>
                <a:ea typeface="隶书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24000" y="2637000"/>
            <a:ext cx="60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完成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每课一练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第二部分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探究与体验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的阅读部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预习新课文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天上的街市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中秋5"/>
          <p:cNvPicPr/>
          <p:nvPr/>
        </p:nvPicPr>
        <p:blipFill>
          <a:blip r:embed="rId1"/>
          <a:stretch/>
        </p:blipFill>
        <p:spPr>
          <a:xfrm>
            <a:off x="0" y="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3718080" y="16286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99"/>
                </a:solidFill>
                <a:latin typeface="Arial"/>
                <a:ea typeface="方正舒体"/>
              </a:rPr>
              <a:t>谢谢各位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复件 欧美经典英文歌曲pro -- 雪绒花 奥斯卡 天籁村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8"/>
          <p:cNvSpPr/>
          <p:nvPr/>
        </p:nvSpPr>
        <p:spPr>
          <a:xfrm>
            <a:off x="959760" y="4149720"/>
            <a:ext cx="42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Monotype Corsiva"/>
              </a:rPr>
              <a:t>BYE   BYE  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图片3"/>
          <p:cNvPicPr/>
          <p:nvPr/>
        </p:nvPicPr>
        <p:blipFill>
          <a:blip r:embed="rId3"/>
          <a:stretch/>
        </p:blipFill>
        <p:spPr>
          <a:xfrm>
            <a:off x="6443640" y="3933720"/>
            <a:ext cx="2495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08443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2:12:2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2:5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