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F18-63AB-40D1-A339-BFDEDA87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2C9-0299-454E-B01A-FADC84B2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261-7002-4EDD-B081-E306C102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096-B7B3-4B52-A707-326A4EC4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21A-9092-4892-95C9-55BB5678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546-A850-427F-B672-E0BB3898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38D-6772-4CF2-8415-C8553C3A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6C9-78E3-4A92-A146-7E91DC39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D43-A75C-40F5-9D36-A696398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009-ABFF-4577-BA47-C674EDF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6F3-DB1E-497F-BE34-53246756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3B6-0FE2-4D04-A662-37361D22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D8D7-7927-4330-A03E-2CBC26181C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1" descr=""/>
          <p:cNvPicPr/>
          <p:nvPr/>
        </p:nvPicPr>
        <p:blipFill>
          <a:blip r:embed="rId2"/>
          <a:stretch/>
        </p:blipFill>
        <p:spPr>
          <a:xfrm>
            <a:off x="1322280" y="2908440"/>
            <a:ext cx="7724880" cy="1584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8710560" y="6461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3"/>
          <p:cNvSpPr/>
          <p:nvPr/>
        </p:nvSpPr>
        <p:spPr>
          <a:xfrm>
            <a:off x="611280" y="4724280"/>
            <a:ext cx="907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世纪，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      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，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世纪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,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755640" y="404640"/>
            <a:ext cx="7848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，人类登上月球，潜入深海，洞察百亿光年外的天体，探索原子核世界的奥秘；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，电视、程控电话、因特网以及民航飞机、高速火车、远洋船舶等，日益把人类居住的星球变成联系紧密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地球村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图片1"/>
          <p:cNvPicPr/>
          <p:nvPr/>
        </p:nvPicPr>
        <p:blipFill>
          <a:blip r:embed="rId2"/>
          <a:stretch/>
        </p:blipFill>
        <p:spPr>
          <a:xfrm>
            <a:off x="2987640" y="836640"/>
            <a:ext cx="5688000" cy="5545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380160" y="1125360"/>
            <a:ext cx="225504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忽如一夜春风来，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千树万树梨花开。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0" y="1557360"/>
            <a:ext cx="1026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5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纪是一个呼风唤雨的世纪。</a:t>
            </a:r>
            <a:endParaRPr b="1" lang="en-US" sz="5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1557360"/>
            <a:ext cx="1026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</a:t>
            </a:r>
            <a:r>
              <a:rPr b="1" lang="zh-CN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世纪是一个呼风唤雨的世纪。</a:t>
            </a:r>
            <a:endParaRPr b="1" lang="en-US" sz="5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0" y="3429000"/>
            <a:ext cx="1026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</a:t>
            </a:r>
            <a:r>
              <a:rPr b="1" lang="zh-CN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世纪是一个</a:t>
            </a:r>
            <a:r>
              <a:rPr b="1" lang="zh-CN" sz="52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世纪。</a:t>
            </a:r>
            <a:endParaRPr b="1" lang="en-US" sz="5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colorofwind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7020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uabianxiangkuang2_249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11280" y="1628640"/>
            <a:ext cx="8353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抄写课后第三题的句子。   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把你想象中的未来生活写下来，题目自拟。感兴趣的同学可以给你的文章配一幅画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围绕科技发展做一份剪贴报或手抄报，全班展评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4140360" y="0"/>
            <a:ext cx="374472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楷体_GB2312"/>
              </a:rPr>
              <a:t>作业超市</a:t>
            </a:r>
            <a:endParaRPr b="1" lang="en-US" sz="2400" spc="1" strike="noStrike">
              <a:ln w="12600">
                <a:solidFill>
                  <a:srgbClr val="000066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85" name="colorofwind.mp3" descr=""/>
          <p:cNvPicPr/>
          <p:nvPr/>
        </p:nvPicPr>
        <p:blipFill>
          <a:blip r:embed="rId2"/>
          <a:stretch/>
        </p:blipFill>
        <p:spPr>
          <a:xfrm>
            <a:off x="838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20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476280"/>
            <a:ext cx="91440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幻 想    联 系   依 赖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程 度    改 观   寄 托 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原子核    哲学家   因特网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呼风唤雨      腾云驾雾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农耕社会      归根到底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程控电话      出乎意料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AutoShape 12">
            <a:hlinkClick r:id="" action="ppaction://hlinkshowjump?jump=firstslide"/>
          </p:cNvPr>
          <p:cNvSpPr/>
          <p:nvPr/>
        </p:nvSpPr>
        <p:spPr>
          <a:xfrm rot="16200000">
            <a:off x="8568360" y="6201360"/>
            <a:ext cx="432000" cy="360360"/>
          </a:xfrm>
          <a:custGeom>
            <a:avLst/>
            <a:gdLst>
              <a:gd name="textAreaLeft" fmla="*/ 22320 w 432000"/>
              <a:gd name="textAreaRight" fmla="*/ 409680 w 43200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540" y="1350"/>
                </a:lnTo>
                <a:lnTo>
                  <a:pt x="1350" y="135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540" y="20250"/>
                </a:lnTo>
                <a:lnTo>
                  <a:pt x="24540" y="135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40" y="2025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90" h="21600">
                <a:moveTo>
                  <a:pt x="16462" y="10800"/>
                </a:moveTo>
                <a:lnTo>
                  <a:pt x="5901" y="17844"/>
                </a:lnTo>
                <a:lnTo>
                  <a:pt x="5901" y="3756"/>
                </a:lnTo>
                <a:close/>
              </a:path>
              <a:path fill="darken" w="25890" h="21600">
                <a:moveTo>
                  <a:pt x="18317" y="3756"/>
                </a:moveTo>
                <a:lnTo>
                  <a:pt x="18317" y="17844"/>
                </a:lnTo>
                <a:lnTo>
                  <a:pt x="19989" y="17844"/>
                </a:lnTo>
                <a:lnTo>
                  <a:pt x="19989" y="37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0" y="2708280"/>
            <a:ext cx="1011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53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是一个呼风唤雨的世纪。</a:t>
            </a:r>
            <a:endParaRPr b="1" lang="en-US" sz="5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50920" y="2708280"/>
            <a:ext cx="97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0</a:t>
            </a:r>
            <a:r>
              <a:rPr b="1" lang="zh-CN" sz="5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世纪是一个呼风唤雨的世纪。</a:t>
            </a: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AutoShape 7">
            <a:hlinkClick r:id="" action="ppaction://hlinkshowjump?jump=firstslide"/>
          </p:cNvPr>
          <p:cNvSpPr/>
          <p:nvPr/>
        </p:nvSpPr>
        <p:spPr>
          <a:xfrm rot="16200000">
            <a:off x="8568360" y="5841000"/>
            <a:ext cx="432000" cy="360360"/>
          </a:xfrm>
          <a:custGeom>
            <a:avLst/>
            <a:gdLst>
              <a:gd name="textAreaLeft" fmla="*/ 22320 w 432000"/>
              <a:gd name="textAreaRight" fmla="*/ 409680 w 43200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540" y="1350"/>
                </a:lnTo>
                <a:lnTo>
                  <a:pt x="1350" y="135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540" y="20250"/>
                </a:lnTo>
                <a:lnTo>
                  <a:pt x="24540" y="135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40" y="2025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90" h="21600">
                <a:moveTo>
                  <a:pt x="16462" y="10800"/>
                </a:moveTo>
                <a:lnTo>
                  <a:pt x="5901" y="17844"/>
                </a:lnTo>
                <a:lnTo>
                  <a:pt x="5901" y="3756"/>
                </a:lnTo>
                <a:close/>
              </a:path>
              <a:path fill="darken" w="25890" h="21600">
                <a:moveTo>
                  <a:pt x="18317" y="3756"/>
                </a:moveTo>
                <a:lnTo>
                  <a:pt x="18317" y="17844"/>
                </a:lnTo>
                <a:lnTo>
                  <a:pt x="19989" y="17844"/>
                </a:lnTo>
                <a:lnTo>
                  <a:pt x="19989" y="37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44360" y="549360"/>
            <a:ext cx="899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是谁来呼风唤雨呢？当然是人类；靠什么呼风唤雨呢？靠的是现代科学技术。在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一百年的时间里，人类利用现代科学技术获得那么多奇迹般的、出乎意料的发现和发明。正是这些发现和发明，使人类的生活大大改观，其改变的程度超过了人类历史上百万年的总和。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16000" y="476280"/>
            <a:ext cx="712944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7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在</a:t>
            </a:r>
            <a:r>
              <a:rPr b="1" lang="en-US" sz="37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37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       的时间里，人类利用现代科学技术获得那么多奇迹般的、出乎意料的发现和发明。正是这些发现和发明，使人类的生活大大改观，其改变的程度超过了人类历史        的总和。</a:t>
            </a:r>
            <a:endParaRPr b="1" lang="en-US" sz="3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708360" y="4797360"/>
            <a:ext cx="5111640" cy="1368360"/>
          </a:xfrm>
          <a:prstGeom prst="cloudCallout">
            <a:avLst>
              <a:gd name="adj1" fmla="val -35157"/>
              <a:gd name="adj2" fmla="val -6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“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发现”与“发明”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有什么区别呢？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140360" y="620640"/>
            <a:ext cx="2087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楷体_GB2312"/>
              </a:rPr>
              <a:t>一百年 </a:t>
            </a:r>
            <a:endParaRPr b="1" lang="en-US" sz="3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95640" y="549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一百年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364000" y="4005360"/>
            <a:ext cx="2070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楷体_GB2312"/>
              </a:rPr>
              <a:t>上百万年</a:t>
            </a:r>
            <a:endParaRPr b="1" lang="en-US" sz="3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703840" y="393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上百万年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3">
            <a:hlinkClick r:id="" action="ppaction://hlinkshowjump?jump=firstslide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200 w 324000"/>
              <a:gd name="textAreaRight" fmla="*/ 307800 w 32400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531" y="1350"/>
                </a:lnTo>
                <a:lnTo>
                  <a:pt x="1350" y="135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531" y="20250"/>
                </a:lnTo>
                <a:lnTo>
                  <a:pt x="25531" y="135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531" y="2025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881" h="21600">
                <a:moveTo>
                  <a:pt x="9923" y="10800"/>
                </a:moveTo>
                <a:lnTo>
                  <a:pt x="20484" y="3756"/>
                </a:lnTo>
                <a:lnTo>
                  <a:pt x="20484" y="17844"/>
                </a:lnTo>
                <a:close/>
              </a:path>
              <a:path fill="darken" w="26881" h="21600">
                <a:moveTo>
                  <a:pt x="6397" y="3756"/>
                </a:moveTo>
                <a:lnTo>
                  <a:pt x="8068" y="3756"/>
                </a:lnTo>
                <a:lnTo>
                  <a:pt x="8068" y="17844"/>
                </a:lnTo>
                <a:lnTo>
                  <a:pt x="6397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882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读读画画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仿宋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默读课文，用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画出描写人类在上百万年历史中生活状态的语句，用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～～～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画出描写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人类科学技术发展成就的语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05360"/>
            <a:ext cx="842472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用心想想：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课文是用什么方法向我们介绍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人类科学技术成就的？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8"/>
          <p:cNvSpPr/>
          <p:nvPr/>
        </p:nvSpPr>
        <p:spPr>
          <a:xfrm>
            <a:off x="611280" y="549360"/>
            <a:ext cx="7993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人类在上百万年的历史中，一直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生活在一个依赖自然的农耕社会。那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时    电灯，    电视，    收音机，  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汽车。人们只能在神话中用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千里眼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顺风耳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和腾云驾雾的神仙，来寄托自己的美好愿望。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0" name="Group 25"/>
          <p:cNvGrpSpPr/>
          <p:nvPr/>
        </p:nvGrpSpPr>
        <p:grpSpPr>
          <a:xfrm>
            <a:off x="815760" y="1916280"/>
            <a:ext cx="5607360" cy="1218960"/>
            <a:chOff x="815760" y="1916280"/>
            <a:chExt cx="5607360" cy="1218960"/>
          </a:xfrm>
        </p:grpSpPr>
        <p:sp>
          <p:nvSpPr>
            <p:cNvPr id="61" name="Rectangle 21"/>
            <p:cNvSpPr/>
            <p:nvPr/>
          </p:nvSpPr>
          <p:spPr>
            <a:xfrm>
              <a:off x="815760" y="2492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也没有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Rectangle 22"/>
            <p:cNvSpPr/>
            <p:nvPr/>
          </p:nvSpPr>
          <p:spPr>
            <a:xfrm>
              <a:off x="5693760" y="1916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没有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Rectangle 23"/>
            <p:cNvSpPr/>
            <p:nvPr/>
          </p:nvSpPr>
          <p:spPr>
            <a:xfrm>
              <a:off x="3388680" y="1916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没有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Rectangle 24"/>
            <p:cNvSpPr/>
            <p:nvPr/>
          </p:nvSpPr>
          <p:spPr>
            <a:xfrm>
              <a:off x="971280" y="1916280"/>
              <a:ext cx="112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没有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5" name="Group 39"/>
          <p:cNvGrpSpPr/>
          <p:nvPr/>
        </p:nvGrpSpPr>
        <p:grpSpPr>
          <a:xfrm>
            <a:off x="846000" y="1844640"/>
            <a:ext cx="5657400" cy="1279800"/>
            <a:chOff x="846000" y="1844640"/>
            <a:chExt cx="5657400" cy="1279800"/>
          </a:xfrm>
        </p:grpSpPr>
        <p:sp>
          <p:nvSpPr>
            <p:cNvPr id="66" name="Rectangle 40"/>
            <p:cNvSpPr/>
            <p:nvPr/>
          </p:nvSpPr>
          <p:spPr>
            <a:xfrm>
              <a:off x="846000" y="242100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也没有</a:t>
              </a:r>
              <a:endParaRPr b="1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Rectangle 41"/>
            <p:cNvSpPr/>
            <p:nvPr/>
          </p:nvSpPr>
          <p:spPr>
            <a:xfrm>
              <a:off x="5713200" y="1844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没有</a:t>
              </a:r>
              <a:endParaRPr b="1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>
              <a:off x="3408480" y="1844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没有</a:t>
              </a:r>
              <a:endParaRPr b="1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Rectangle 43"/>
            <p:cNvSpPr/>
            <p:nvPr/>
          </p:nvSpPr>
          <p:spPr>
            <a:xfrm>
              <a:off x="971280" y="1897200"/>
              <a:ext cx="15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没有</a:t>
              </a:r>
              <a:endParaRPr b="1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" name="Text Box 6"/>
          <p:cNvSpPr/>
          <p:nvPr/>
        </p:nvSpPr>
        <p:spPr>
          <a:xfrm>
            <a:off x="468360" y="4508640"/>
            <a:ext cx="968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在农耕社会，没有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没有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没有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也没有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84360" y="549360"/>
            <a:ext cx="784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，人类登上月球，潜入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深海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洞察百亿光年外的天体，探索原子核世界的奥秘；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，电视、程控电话、因特网以及民航飞机、高速火车、远洋船舶等，日益把人类居住的星球变成联系紧密的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地球村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剪辑1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1:54:4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2:17Z</dcterms:modified>
  <cp:revision>2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