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oin.wav" ContentType="audio/x-wav"/>
  <Override PartName="/ppt/media/image13.jpeg" ContentType="image/jpeg"/>
  <Override PartName="/ppt/media/push.wav" ContentType="audio/x-wav"/>
  <Override PartName="/ppt/media/image2.jpeg" ContentType="image/jpeg"/>
  <Override PartName="/ppt/media/type.wav" ContentType="audio/x-wav"/>
  <Override PartName="/ppt/media/hammer.wav" ContentType="audio/x-wav"/>
  <Override PartName="/ppt/media/image12.jpeg" ContentType="image/jpeg"/>
  <Override PartName="/ppt/media/image5.jpeg" ContentType="image/jpeg"/>
  <Override PartName="/ppt/media/breeze.wav" ContentType="audio/x-wav"/>
  <Override PartName="/ppt/media/image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10.jpeg" ContentType="image/jpeg"/>
  <Override PartName="/ppt/media/image8.jpeg" ContentType="image/jpeg"/>
  <Override PartName="/ppt/media/image7.jpeg" ContentType="image/jpeg"/>
  <Override PartName="/ppt/media/camera.wav" ContentType="audio/x-wav"/>
  <Override PartName="/ppt/media/image1.jpeg" ContentType="image/jpeg"/>
  <Override PartName="/ppt/media/image3.png" ContentType="image/png"/>
  <Override PartName="/ppt/media/suction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D34-75A5-4C70-BC79-A35377AF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07C-BB3F-456C-A0DE-E0B87590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BAC-382F-49B6-897E-2A3D4AB3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8EF-A94C-41E9-BB21-66B5DCB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BED5-5A56-48EE-9C11-8426B873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48CB-ECDF-4006-91DA-A2BE12B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7DE7-653A-4CEF-B5FE-8683A3F4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4DD-5707-49A7-A983-7FFE3E05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D57-17F0-4B3E-B2A2-EF2E4F5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934C-209D-4C09-812F-9C65FC63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19AF-89D9-44F3-A7CC-21C381D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5B6-7FA5-4030-A209-5C008D9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8150-2629-4E55-ADCC-F62221B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236A-E44B-484E-BCDD-FD98635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9973-A0E3-40B2-9D87-9FE14348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FC9-CE43-47AC-AA4E-3116A8B2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A0F1-9B68-4834-B00E-8F27F413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5E96-8A0A-4689-A1B5-248F58C9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2118-620E-4BCE-8323-D0DA893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7E6E-A300-46CE-AEA9-A0190484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60A0-4982-4EF1-AF97-D921E04B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E8A2-79D9-4DDB-ACA5-7F25E69B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244-38D3-4525-AE0A-86DA8D9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26EF-28F3-431D-8F80-EEE4CE5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B152-CAE4-443C-BC96-2518257D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0AE1-5BC5-4444-B819-D45A85FC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E1C8-1EBD-482D-8009-4F071F1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2BCE-5E15-4BDF-82F3-A85312BF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E0AB-92F1-4387-A439-E8457809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D958-43EC-4FDF-BA42-D072BDCA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5880-19B6-4B8B-89A2-5383DB33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2960-0A48-47DF-8AA6-96C79DF6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D587A-55AA-4B61-B892-944FE93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86E-1652-4467-BACE-FA25BE1E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BE51-9005-434D-9057-5CBC71A5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62D4-AA50-4EAB-A271-005852B0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5609-244E-4D04-841E-3B23D56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12DB-3883-45DE-BBDC-BA37530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841E-D6B0-47F2-9C73-798D9AD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DE2E-F0EF-4497-8B0E-2ABEEF89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4765-8B50-4614-9955-C3C21E0E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265B6-8FBE-4EFF-A7BC-36D089F2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1061-ED1C-4ACF-A0F1-A0C557EF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93A02-6ABF-4FA0-BA3C-2F28E1DC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174-6D0B-4982-920D-2CF25DC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62177-49A4-4D57-996F-81F8D2A6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1F19C-5DBC-4B10-9C0A-5A2EB75F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D330F-3A28-43BB-9961-201C33FB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42009-42A5-444B-921A-030E5AF6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A9300-7071-443F-9141-AEE75F4A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9D3FC-6A8E-422C-97EB-58CD0F7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F178A-B9DE-4CEC-B6D2-B3DC03C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7777F-C866-4EA0-83A3-0CDB7459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C42A7-3AEF-48EB-A6D5-E9346992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62D47-2F78-49E9-BC4D-52D9268B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FA1-50BD-49A1-BE71-E838971A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2AC2A-1103-442F-A248-0C37AA37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CC85-B548-4FF5-8612-CDDA4A2B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CFB23-3C31-4FAD-BF29-D46169A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9D19-DF77-4F17-BF8B-A9C87F0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FB2D9-12B1-4D5C-B71B-4ECEE00F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1C1A-7707-4B0C-874F-40BA0CB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26A30-3B04-4013-9D30-A4B166F8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DB010-DBA6-4773-980F-EC2F505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4BB9-C2F4-4E8F-9ACD-B0CA218F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00DB-16C0-47CB-AFA4-4EA045B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54F-85BF-4CBB-A9F9-715497C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2700-C5BF-4DF2-891E-9C1B0B7D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40D31-FA3F-4043-8CCC-8E6E5881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1C1C4-55E8-4286-A16F-16E460FA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B7F-8883-4578-AFF5-AED42F1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2A2-2A30-4154-8943-0A27164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0A3-2893-4D87-966C-A55DD7E8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2081-51E8-4BE8-9C16-AE1926A4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799B-21AD-4A1F-A065-D8C7A771FE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6" name="Freeform 3"/>
            <p:cNvSpPr/>
            <p:nvPr/>
          </p:nvSpPr>
          <p:spPr>
            <a:xfrm>
              <a:off x="0" y="3981240"/>
              <a:ext cx="3400560" cy="28641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4341600"/>
              <a:ext cx="2770200" cy="25038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EB85-D77A-471E-A7D6-0B017A1D50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D1A4-1C7D-4C70-8160-E5FA0C339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5203-B61E-4607-88AD-BD4EED472D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17A-AC04-4601-A193-8E94E2A1BE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1357200" y="1052640"/>
            <a:ext cx="66708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黄河之水天上来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5796000" y="3716280"/>
            <a:ext cx="2057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刘白羽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073760" y="37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3212"/>
                </a:solidFill>
                <a:latin typeface="Arial"/>
                <a:ea typeface="华文新魏"/>
              </a:rPr>
              <a:t>重难点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250920" y="2485080"/>
            <a:ext cx="8623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00"/>
              </a:lnSpc>
              <a:buClr>
                <a:srgbClr val="ec2302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次是“霁雨初晴，西北高原阳光格外灿烂。也许是延安生活在我心中的再现，我总觉得空中响着牧羊人的嘹亮歌声”，表现了作者对延安生活的怀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785240" y="141300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中两次写了牧羊人的歌声，寄寓了作者怎样的情感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24000" y="357336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第二次是这样描写的，“这时，那一曲牧羊人的歌声又嘹亮地响起，不过，这一次它不是在空中，是从我心中飞出，飞下长天，飞下黄河，随着惊涛骇浪而飞扬，而回荡。”这是作者在领略母亲河的雄伟壮观、祖国上空洁白闪烁的白色云团后发自于内心的幸福快乐的感受。这歌声，从他的心里淌出，他要把对母亲河的赞美，对祖国母亲的赞美唱给这个世界，唱给每一个人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coin.wav"/>
      </p:stSnd>
    </p:sndAc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79280" y="4236120"/>
            <a:ext cx="8496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buClr>
                <a:srgbClr val="ff0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比喻是能够使所描绘的事物生动形象的修辞方法。作者在描绘黄河状态时多用比喻，收到了较好的效果。如描写黄河之水从溢洪道喷射而出的情景时，用了“如乌云乱卷，如怒火，如狂飙”“如浓墨，如淡墨，像核爆炸时的蘑菇云”，这几个比喻有形、有声、有色、有势，使人如临其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929400" y="1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3212"/>
                </a:solidFill>
                <a:latin typeface="Arial"/>
                <a:ea typeface="华文彩云"/>
              </a:rPr>
              <a:t>鉴赏与写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997920" y="107172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2854440" y="184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语言生动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1022760" y="105264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写作技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314080" y="184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多角度写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11280" y="3898080"/>
            <a:ext cx="7705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buClr>
                <a:srgbClr val="0000ff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2302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c2302"/>
                </a:solidFill>
                <a:latin typeface="Arial"/>
                <a:ea typeface="楷体_GB2312"/>
              </a:rPr>
              <a:t>在课文第四自然段中，作者对刘家峡的黄河水做了多角度的观察与描写。如远望刘家峡，大坝底下近观，再举首仰望，最后于坝顶俯视。观察角度不同，黄河所显现的形态状貌与气势都有差异，使读者对黄河有了更加深刻而全面的认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  <p:sndAc>
      <p:stSnd>
        <p:snd r:embed="rId1" name="camera.wav"/>
      </p:stSnd>
    </p:sndAc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7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7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7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兰州黄河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白塔山下的黄河大铁桥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5"/>
          <p:cNvSpPr/>
          <p:nvPr/>
        </p:nvSpPr>
        <p:spPr>
          <a:xfrm>
            <a:off x="5165640" y="6211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2302"/>
                </a:solidFill>
                <a:latin typeface="Arial"/>
                <a:ea typeface="隶书"/>
              </a:rPr>
              <a:t>兰州黄河大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camera.wav"/>
      </p:stSnd>
    </p:sndAc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刘家峡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刘家峡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6"/>
          <p:cNvSpPr/>
          <p:nvPr/>
        </p:nvSpPr>
        <p:spPr>
          <a:xfrm>
            <a:off x="7176240" y="260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43212"/>
                </a:solidFill>
                <a:latin typeface="Arial"/>
                <a:ea typeface="楷体_GB2312"/>
              </a:rPr>
              <a:t>刘家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3" name="type.wav"/>
      </p:stSnd>
    </p:sndAc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2007112010507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2007112010497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图片1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64" name="WordArt 8"/>
          <p:cNvSpPr txBox="1"/>
          <p:nvPr/>
        </p:nvSpPr>
        <p:spPr>
          <a:xfrm>
            <a:off x="2124000" y="2349360"/>
            <a:ext cx="4103640" cy="136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行楷"/>
              </a:rPr>
              <a:t>谢谢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</p:spTree>
  </p:cSld>
  <p:transition>
    <p:wheel/>
    <p:sndAc>
      <p:stSnd>
        <p:snd r:embed="rId4" name="camera.wav"/>
      </p:stSnd>
    </p:sndAc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54"/>
          <p:cNvSpPr/>
          <p:nvPr/>
        </p:nvSpPr>
        <p:spPr>
          <a:xfrm>
            <a:off x="3772080" y="39211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665400" y="5733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璎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276720" y="47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099800" y="126828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易读错写错的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964440" y="20606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皋兰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110840" y="20415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幅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665400" y="2041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滂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964440" y="2873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怔住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400176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狂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666540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浓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977400" y="380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闸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001760" y="378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峻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6665400" y="378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977400" y="479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咆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4001760" y="4797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骤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6665400" y="4776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舷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977400" y="573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逝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"/>
          <p:cNvSpPr/>
          <p:nvPr/>
        </p:nvSpPr>
        <p:spPr>
          <a:xfrm>
            <a:off x="4001760" y="5715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哺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1712880" y="2060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g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4856400" y="206064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6987600" y="206064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pāngt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1618200" y="285264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zh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4551840" y="2852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bi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7292160" y="285264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m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1585440" y="37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zh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7282440" y="378936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r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1339200" y="47973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páox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/>
          <p:cNvSpPr/>
          <p:nvPr/>
        </p:nvSpPr>
        <p:spPr>
          <a:xfrm>
            <a:off x="4441680" y="4797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zh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/>
          <p:cNvSpPr/>
          <p:nvPr/>
        </p:nvSpPr>
        <p:spPr>
          <a:xfrm>
            <a:off x="7238520" y="47973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x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7062840" y="573408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yīngl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3"/>
          <p:cNvSpPr/>
          <p:nvPr/>
        </p:nvSpPr>
        <p:spPr>
          <a:xfrm>
            <a:off x="4818600" y="57340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b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4"/>
          <p:cNvSpPr/>
          <p:nvPr/>
        </p:nvSpPr>
        <p:spPr>
          <a:xfrm>
            <a:off x="1630080" y="573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5"/>
          <p:cNvSpPr/>
          <p:nvPr/>
        </p:nvSpPr>
        <p:spPr>
          <a:xfrm>
            <a:off x="4597200" y="3789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y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7"/>
          <p:cNvSpPr/>
          <p:nvPr/>
        </p:nvSpPr>
        <p:spPr>
          <a:xfrm>
            <a:off x="755640" y="249228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8"/>
          <p:cNvSpPr/>
          <p:nvPr/>
        </p:nvSpPr>
        <p:spPr>
          <a:xfrm>
            <a:off x="4067280" y="249228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9"/>
          <p:cNvSpPr/>
          <p:nvPr/>
        </p:nvSpPr>
        <p:spPr>
          <a:xfrm>
            <a:off x="6443640" y="249228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0"/>
          <p:cNvSpPr/>
          <p:nvPr/>
        </p:nvSpPr>
        <p:spPr>
          <a:xfrm>
            <a:off x="6804000" y="249228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1"/>
          <p:cNvSpPr/>
          <p:nvPr/>
        </p:nvSpPr>
        <p:spPr>
          <a:xfrm>
            <a:off x="755640" y="3357720"/>
            <a:ext cx="7128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4140360" y="328464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3"/>
          <p:cNvSpPr/>
          <p:nvPr/>
        </p:nvSpPr>
        <p:spPr>
          <a:xfrm>
            <a:off x="6732720" y="328464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4"/>
          <p:cNvSpPr/>
          <p:nvPr/>
        </p:nvSpPr>
        <p:spPr>
          <a:xfrm>
            <a:off x="755640" y="422100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5"/>
          <p:cNvSpPr/>
          <p:nvPr/>
        </p:nvSpPr>
        <p:spPr>
          <a:xfrm>
            <a:off x="4140360" y="422100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6"/>
          <p:cNvSpPr/>
          <p:nvPr/>
        </p:nvSpPr>
        <p:spPr>
          <a:xfrm>
            <a:off x="6732720" y="422100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7"/>
          <p:cNvSpPr/>
          <p:nvPr/>
        </p:nvSpPr>
        <p:spPr>
          <a:xfrm>
            <a:off x="826920" y="5229360"/>
            <a:ext cx="7164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8"/>
          <p:cNvSpPr/>
          <p:nvPr/>
        </p:nvSpPr>
        <p:spPr>
          <a:xfrm>
            <a:off x="1042920" y="5229360"/>
            <a:ext cx="7164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9"/>
          <p:cNvSpPr/>
          <p:nvPr/>
        </p:nvSpPr>
        <p:spPr>
          <a:xfrm>
            <a:off x="3780000" y="5229360"/>
            <a:ext cx="7128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0"/>
          <p:cNvSpPr/>
          <p:nvPr/>
        </p:nvSpPr>
        <p:spPr>
          <a:xfrm>
            <a:off x="6443640" y="5229360"/>
            <a:ext cx="7164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1"/>
          <p:cNvSpPr/>
          <p:nvPr/>
        </p:nvSpPr>
        <p:spPr>
          <a:xfrm>
            <a:off x="755640" y="616572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2"/>
          <p:cNvSpPr/>
          <p:nvPr/>
        </p:nvSpPr>
        <p:spPr>
          <a:xfrm>
            <a:off x="6443640" y="616572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3"/>
          <p:cNvSpPr/>
          <p:nvPr/>
        </p:nvSpPr>
        <p:spPr>
          <a:xfrm>
            <a:off x="3780000" y="616572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5"/>
          <p:cNvSpPr/>
          <p:nvPr/>
        </p:nvSpPr>
        <p:spPr>
          <a:xfrm>
            <a:off x="6804000" y="616572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35280" y="1197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音多义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7880" y="22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860480" y="191628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má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932120" y="26370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mái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016240" y="22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6172920" y="19162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chà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6178320" y="263700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zhà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767880" y="429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1911960" y="393372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xuá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911960" y="465300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xuà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3132000" y="18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1403280" y="2205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279288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埋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279288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埋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725868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颤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725868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颤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008880" y="39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3008880" y="465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旋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3"/>
          <p:cNvSpPr/>
          <p:nvPr/>
        </p:nvSpPr>
        <p:spPr>
          <a:xfrm>
            <a:off x="1403280" y="4221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4"/>
          <p:cNvSpPr/>
          <p:nvPr/>
        </p:nvSpPr>
        <p:spPr>
          <a:xfrm>
            <a:off x="5651640" y="2205000"/>
            <a:ext cx="215640" cy="86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breeze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5671800" y="357444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燎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132000" y="404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009440" y="105264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cc00"/>
                </a:solidFill>
                <a:latin typeface="隶书"/>
                <a:ea typeface="隶书"/>
              </a:rPr>
              <a:t>形近字辨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594800" y="184464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碎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594800" y="24210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粹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594800" y="29973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淬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1594800" y="35733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悴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594800" y="44370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咆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1594800" y="50133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跑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1594800" y="56610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泡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5670360" y="184644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嘹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5670360" y="242244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潦   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5843160" y="29988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缭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2629800" y="184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砸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26298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纯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2629800" y="29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淬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2629800" y="357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憔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2629800" y="44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咆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2629800" y="501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跑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2629800" y="566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水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6805080" y="1846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嘹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6805080" y="2422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潦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6948720" y="299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眼花缭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6805080" y="357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燎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8"/>
          <p:cNvSpPr/>
          <p:nvPr/>
        </p:nvSpPr>
        <p:spPr>
          <a:xfrm>
            <a:off x="755640" y="198900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9"/>
          <p:cNvSpPr/>
          <p:nvPr/>
        </p:nvSpPr>
        <p:spPr>
          <a:xfrm>
            <a:off x="755640" y="458136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30"/>
          <p:cNvSpPr/>
          <p:nvPr/>
        </p:nvSpPr>
        <p:spPr>
          <a:xfrm>
            <a:off x="4788000" y="1990800"/>
            <a:ext cx="288720" cy="2016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1"/>
          <p:cNvSpPr/>
          <p:nvPr/>
        </p:nvSpPr>
        <p:spPr>
          <a:xfrm>
            <a:off x="1556280" y="184464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2"/>
          <p:cNvSpPr/>
          <p:nvPr/>
        </p:nvSpPr>
        <p:spPr>
          <a:xfrm>
            <a:off x="1556280" y="242100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3"/>
          <p:cNvSpPr/>
          <p:nvPr/>
        </p:nvSpPr>
        <p:spPr>
          <a:xfrm>
            <a:off x="1547640" y="29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xu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4"/>
          <p:cNvSpPr/>
          <p:nvPr/>
        </p:nvSpPr>
        <p:spPr>
          <a:xfrm>
            <a:off x="1599480" y="357336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u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5"/>
          <p:cNvSpPr/>
          <p:nvPr/>
        </p:nvSpPr>
        <p:spPr>
          <a:xfrm>
            <a:off x="1560960" y="436572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p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6"/>
          <p:cNvSpPr/>
          <p:nvPr/>
        </p:nvSpPr>
        <p:spPr>
          <a:xfrm>
            <a:off x="1560960" y="501336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p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7"/>
          <p:cNvSpPr/>
          <p:nvPr/>
        </p:nvSpPr>
        <p:spPr>
          <a:xfrm>
            <a:off x="1560960" y="558972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p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8"/>
          <p:cNvSpPr/>
          <p:nvPr/>
        </p:nvSpPr>
        <p:spPr>
          <a:xfrm>
            <a:off x="5686560" y="1773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9"/>
          <p:cNvSpPr/>
          <p:nvPr/>
        </p:nvSpPr>
        <p:spPr>
          <a:xfrm>
            <a:off x="5686560" y="2421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0"/>
          <p:cNvSpPr/>
          <p:nvPr/>
        </p:nvSpPr>
        <p:spPr>
          <a:xfrm>
            <a:off x="5686560" y="2997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1"/>
          <p:cNvSpPr/>
          <p:nvPr/>
        </p:nvSpPr>
        <p:spPr>
          <a:xfrm>
            <a:off x="5686560" y="3573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hammer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1403280" y="5875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栗子皮的颜色。如：褐铁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629280" y="11970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隶书"/>
                <a:ea typeface="隶书"/>
              </a:rPr>
              <a:t>4.</a:t>
            </a:r>
            <a:r>
              <a:rPr b="0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本课生字词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433800" y="2060640"/>
            <a:ext cx="12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131280" y="20606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密生的草。如：草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628600" y="206064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7526160" y="206064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2825280" y="24922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鲁莽。如：莽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433800" y="2997360"/>
            <a:ext cx="12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763640" y="3068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放纵．行为不检点。如：放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3132000" y="35002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水湖。如：黄天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396360" y="4149720"/>
            <a:ext cx="12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3068280" y="4149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曲折，绕弯。如：迂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6804720" y="41497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迂腐。如：这人迂得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322560" y="479736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1403280" y="4797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充满而流出来。如．洋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6786360" y="47973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分。如：溢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322560" y="54450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1403280" y="5445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书</a:t>
            </a: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粗布或粗布衣服。如：短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313200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555840" y="2060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m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608400" y="29973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d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724680" y="4149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y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633600" y="479736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577440" y="54450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h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type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361320" y="56599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凶猛而使人害怕的波涛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038600" y="1125360"/>
            <a:ext cx="23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重要词语释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37760" y="198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咆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578600" y="196992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猛兽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怒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1187280" y="242100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形容水流的奔腾轰鸣，也形容人的暴怒喊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437760" y="306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沸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1187280" y="306864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液体达到一定温度时急剧转化为气体产生大量气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187280" y="350028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比喻情绪高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1187280" y="3933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比喻喧嚣嘈杂。惊心动魄：形容使人感受很深，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动很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866160" y="49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望无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1835280" y="494172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眼看不到边，形容辽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561240" y="566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惊涛骇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349236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suction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45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863160" y="41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95280" y="248076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SzPct val="125000"/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刘白羽，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1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生，北京人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学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刊上发表短篇小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冰天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始走上文学道路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3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出版短篇小说集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草原上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抗战期间投身敌后战场，写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五台山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太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幸福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小说。解放战争时期转战东北，写有小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无敌三勇士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政治委员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报告文学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明照耀着沈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新中国成立后，在担任文化领导工作的同时，发表了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江三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大量散文通讯。晚年笔耕不辍，写有四部长篇报告文学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海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朱德的前半生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小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个太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风风雨雨太平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回忆录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心灵的历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suction.wav"/>
      </p:stSnd>
    </p:sndAc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26920" y="2915280"/>
            <a:ext cx="777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5998"/>
              </a:lnSpc>
              <a:buClr>
                <a:srgbClr val="0000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2302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ec2302"/>
                </a:solidFill>
                <a:latin typeface="Arial"/>
              </a:rPr>
              <a:t>本文以古诗句“黄河之水天上来”为题，满腔热忱地描述了黄河的雄伟和壮观，表达厂对黄河的由衷赞美和对祖国的热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3692880" y="428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华文新魏"/>
              </a:rPr>
              <a:t>文题阐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push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415044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327600" y="144648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河之水天上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499400" y="2133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兰州的黄河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488240" y="43657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刘家峡的黄河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1488240" y="32846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飞机上看黄河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46840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直抒胸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7251840" y="299736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黄河的赞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祖国的热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973080" y="2205000"/>
            <a:ext cx="216000" cy="244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4802760" y="2133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2302"/>
                </a:solidFill>
                <a:latin typeface="Arial"/>
              </a:rPr>
              <a:t>安逸平静、欲扬先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3885840" y="32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2302"/>
                </a:solidFill>
                <a:latin typeface="Arial"/>
              </a:rPr>
              <a:t>云海怒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88584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2302"/>
                </a:solidFill>
                <a:latin typeface="Arial"/>
              </a:rPr>
              <a:t>奔腾浩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8"/>
          <p:cNvSpPr/>
          <p:nvPr/>
        </p:nvSpPr>
        <p:spPr>
          <a:xfrm flipH="1">
            <a:off x="5002920" y="3500280"/>
            <a:ext cx="217800" cy="1224000"/>
          </a:xfrm>
          <a:custGeom>
            <a:avLst/>
            <a:gdLst>
              <a:gd name="textAreaLeft" fmla="*/ 139320 w 217800"/>
              <a:gd name="textAreaRight" fmla="*/ 218160 w 2178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9"/>
          <p:cNvSpPr/>
          <p:nvPr/>
        </p:nvSpPr>
        <p:spPr>
          <a:xfrm flipH="1">
            <a:off x="6587280" y="2205000"/>
            <a:ext cx="289080" cy="2448000"/>
          </a:xfrm>
          <a:custGeom>
            <a:avLst/>
            <a:gdLst>
              <a:gd name="textAreaLeft" fmla="*/ 184320 w 289080"/>
              <a:gd name="textAreaRight" fmla="*/ 288720 w 2890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oin.wav"/>
      </p:stSnd>
    </p:sndAc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1:06:5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7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