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754-A65D-4087-BE41-F13D4356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1A3-3811-4DE3-98FC-E3EB134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17D-D457-4B7B-80C6-4A6AE70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6A1-DFAF-4F75-B740-AF3119CF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436-73B4-4605-ADAA-5D9282C6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FD3B-D6F0-4669-B518-76674D5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57A-792D-4270-9547-07B35FD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7E20-FE7C-4DF6-9E42-4737402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68A0-416D-4549-A836-50E6ADD8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2D2-A103-48C9-921D-0AF717B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7363-15F0-42B6-A331-A8455BE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BDD-F36B-44AA-A75D-C8F9657B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D80B-6A40-497D-A808-5659381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F18-5A76-4B49-9B2B-A860FB3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BBC-A7FF-425D-9763-5BE4E99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A126-ECDF-4245-9AD1-F0207EEF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04A8-7095-46C0-AF3B-47ED8F43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2F6-10D3-476F-9F0C-8D274B6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A3B-41A0-4054-8AA1-C93B597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FB7-99F7-4529-84B1-4B9D0477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B0B-B228-4334-93FE-6175E94F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920-299D-45ED-B182-BB8CDA6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4AA-B92E-4AC3-A993-9BC1D62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96B-A224-452C-825F-0BF7797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8CFB-2490-4507-9F83-A6C0AF918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42BB-E214-4FD5-BB3C-F3217ECBF6A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1F2-FEEF-4D34-8DE6-A08F1F0C761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语文\封面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819520" y="43434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9907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虎 门 销 烟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 flipV="1">
            <a:off x="228600" y="525744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执教：胥香   吴珏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7" name="Picture 3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生石灰倒下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9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6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群情沸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缴来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鸦片抛入池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生石灰倒下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1" name="Picture 1027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28600" y="1066680"/>
            <a:ext cx="8686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到害人的鸦片被销毁了，成千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万的老百姓激动得跳哇、叫哇，欢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呼声响彻虎门上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4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1066680"/>
            <a:ext cx="86868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到害人的鸦片被销毁了，成千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万的老百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激动得跳哇、叫哇，欢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呼声响彻虎门上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6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1430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销烟整整持续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，二百多万斤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鸦片化为烟渣，随着潮水被卷进了咆哮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大海之中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8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1430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销烟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整整持续了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百多万斤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鸦片化为烟渣，随着潮水被卷进了咆哮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大海之中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0" name="Picture 5" descr="50.gif (2508 字节)"/>
          <p:cNvPicPr/>
          <p:nvPr/>
        </p:nvPicPr>
        <p:blipFill>
          <a:blip r:embed="rId2"/>
          <a:stretch/>
        </p:blipFill>
        <p:spPr>
          <a:xfrm>
            <a:off x="81532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295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世界表明，中国人民是不可欺侮的！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2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4952880" y="685800"/>
            <a:ext cx="99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295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世界表明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中国人民是不可欺侮的！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5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F:\语文\封面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819520" y="43434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28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195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8862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52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1629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0199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段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3351240"/>
            <a:ext cx="1981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代背景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品读      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训练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后作业           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6" name="Picture 16" descr="C:\Program Files\Common Files\Microsoft Shared\Clipart\themes1\Bullets\BD14578_.GIF"/>
          <p:cNvPicPr/>
          <p:nvPr/>
        </p:nvPicPr>
        <p:blipFill>
          <a:blip r:embed="rId2"/>
          <a:stretch/>
        </p:blipFill>
        <p:spPr>
          <a:xfrm>
            <a:off x="182880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:\Program Files\Common Files\Microsoft Shared\Clipart\themes1\Bullets\BD14578_.GIF"/>
          <p:cNvPicPr/>
          <p:nvPr/>
        </p:nvPicPr>
        <p:blipFill>
          <a:blip r:embed="rId3"/>
          <a:stretch/>
        </p:blipFill>
        <p:spPr>
          <a:xfrm>
            <a:off x="1828800" y="3429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1"/>
          <p:cNvSpPr/>
          <p:nvPr/>
        </p:nvSpPr>
        <p:spPr>
          <a:xfrm>
            <a:off x="9907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虎 门 销 烟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9" name="Picture 22" descr="C:\Program Files\Common Files\Microsoft Shared\Clipart\themes1\Bullets\BD14578_.GIF"/>
          <p:cNvPicPr/>
          <p:nvPr/>
        </p:nvPicPr>
        <p:blipFill>
          <a:blip r:embed="rId4"/>
          <a:stretch/>
        </p:blipFill>
        <p:spPr>
          <a:xfrm>
            <a:off x="182880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C:\Program Files\Common Files\Microsoft Shared\Clipart\themes1\Bullets\BD14578_.GIF"/>
          <p:cNvPicPr/>
          <p:nvPr/>
        </p:nvPicPr>
        <p:blipFill>
          <a:blip r:embed="rId5"/>
          <a:stretch/>
        </p:blipFill>
        <p:spPr>
          <a:xfrm>
            <a:off x="190512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C:\Program Files\Common Files\Microsoft Shared\Clipart\themes1\Bullets\BD14578_.GIF"/>
          <p:cNvPicPr/>
          <p:nvPr/>
        </p:nvPicPr>
        <p:blipFill>
          <a:blip r:embed="rId6"/>
          <a:stretch/>
        </p:blipFill>
        <p:spPr>
          <a:xfrm>
            <a:off x="8458200" y="4267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外资料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04920" y="457200"/>
            <a:ext cx="8839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字典中有三种解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健壮有力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伟大、有气魄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增加勇气或力量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“壮举”的“壮”的意思 应该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择（             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33720" y="502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8" name="Picture 6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英国向中国输入鸦片数量激增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Line 4"/>
          <p:cNvSpPr/>
          <p:nvPr/>
        </p:nvSpPr>
        <p:spPr>
          <a:xfrm flipV="1">
            <a:off x="1752480" y="4190760"/>
            <a:ext cx="990720" cy="2286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8120" y="3733920"/>
            <a:ext cx="1143000" cy="457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4191120" y="3124080"/>
            <a:ext cx="1143000" cy="609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5334120" y="1980720"/>
            <a:ext cx="1143000" cy="11430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733920" y="1066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箱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8153280" y="426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4479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666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89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76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4197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331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4100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445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705720" y="1143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2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Line 16"/>
          <p:cNvSpPr/>
          <p:nvPr/>
        </p:nvSpPr>
        <p:spPr>
          <a:xfrm flipV="1">
            <a:off x="6553080" y="1447560"/>
            <a:ext cx="1371600" cy="5331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0" y="5334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鸦片给中华民族带来的灾难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白银大量外流、人民负担加重、战斗力削弱、损害生产、政治腐败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16002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—</a:t>
            </a:r>
            <a:r>
              <a:rPr b="1" lang="en-US" sz="2800" spc="-1" strike="noStrike">
                <a:solidFill>
                  <a:srgbClr val="ff0000"/>
                </a:solidFill>
                <a:latin typeface="汉鼎简楷体"/>
                <a:ea typeface="汉鼎简楷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公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371600" y="16765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吸毒人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掠夺白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里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09480" y="685800"/>
            <a:ext cx="7925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44792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Times New Roman"/>
              </a:rPr>
              <a:t>中国人民是不可欺侮的！</a:t>
            </a:r>
            <a:endParaRPr b="1" lang="en-US" sz="12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9" name="Picture 4" descr="50.gif (2508 字节)"/>
          <p:cNvPicPr/>
          <p:nvPr/>
        </p:nvPicPr>
        <p:blipFill>
          <a:blip r:embed="rId2"/>
          <a:stretch/>
        </p:blipFill>
        <p:spPr>
          <a:xfrm>
            <a:off x="83059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istrator\桌面\图片\2.jpg"/>
          <p:cNvPicPr/>
          <p:nvPr/>
        </p:nvPicPr>
        <p:blipFill>
          <a:blip r:embed="rId2"/>
          <a:stretch/>
        </p:blipFill>
        <p:spPr>
          <a:xfrm>
            <a:off x="0" y="3276720"/>
            <a:ext cx="3505320" cy="358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H:\语文\00080771.jpg"/>
          <p:cNvPicPr/>
          <p:nvPr/>
        </p:nvPicPr>
        <p:blipFill>
          <a:blip r:embed="rId3"/>
          <a:stretch/>
        </p:blipFill>
        <p:spPr>
          <a:xfrm>
            <a:off x="0" y="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Administrator\桌面\图片\4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Administrator\桌面\图片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:\语文\5.jpg"/>
          <p:cNvPicPr/>
          <p:nvPr/>
        </p:nvPicPr>
        <p:blipFill>
          <a:blip r:embed="rId2"/>
          <a:stretch/>
        </p:blipFill>
        <p:spPr>
          <a:xfrm>
            <a:off x="16002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Administrator\桌面\未命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istrator\桌面\图片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50.gif (2508 字节)"/>
          <p:cNvPicPr/>
          <p:nvPr/>
        </p:nvPicPr>
        <p:blipFill>
          <a:blip r:embed="rId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:\语文\sc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0" y="3108240"/>
            <a:ext cx="89154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死生命也，成败天也。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苟利社稷，敢不竭股肱以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为门墙辱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！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Picture 6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838080" y="533520"/>
            <a:ext cx="769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8600" y="533520"/>
            <a:ext cx="86104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作 业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计一些禁毒宣传标语、口号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将林则徐销烟的故事讲给你的家人和身边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朋友听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将自己学习这课后的心得体会记录下来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1219320"/>
            <a:ext cx="83822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日，是中国历史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值得纪念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的日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4" name="Picture 4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pic>
          <p:nvPicPr>
            <p:cNvPr id="1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一大早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男男女女，老老少少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水泄不通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文武官员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外国商人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6" name="Picture 1029" descr="50.gif (2508 字节)"/>
          <p:cNvPicPr/>
          <p:nvPr/>
        </p:nvPicPr>
        <p:blipFill>
          <a:blip r:embed="rId2"/>
          <a:stretch/>
        </p:blipFill>
        <p:spPr>
          <a:xfrm>
            <a:off x="7086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一大早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男男女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老老少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水泄不通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文武官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外国商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8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80880"/>
            <a:ext cx="9144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天，天气晴朗，碧海、蓝天、绿树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古老的虎门寨装点得分外壮丽。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大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地闻讯赶来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男男女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老老少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宽阔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海滩挤得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水泄不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新搭起的礼台上彩旗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林立；礼台下，一侧是身着朝服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文武官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另一侧是应邀前来观看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外国商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1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先向灌了水的销烟池里撒下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巴，再把收缴来的鸦片抛入池内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3" name="Picture 5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午后二时许，林则徐等人健步登上礼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炮轰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群情沸腾。随着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灌了水的销烟池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再把收缴来的鸦片抛入池内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担生石灰倒下去。顿时，销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5" name="Picture 3" descr="50.gif (2508 字节)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5:03:3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