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hammer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6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900-4746-4DBE-8FD0-F86F9FBA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504-5B4E-424C-9B66-290E171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357-9F92-4767-B2A4-2CA0EC45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BE3-EEC2-4A1B-8F3A-A346BE0A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324-89FD-4F99-8B1F-677F2019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E5C-2B27-4C25-ACDF-563E7F65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D58-BCE2-42AA-97E1-93D13F5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1D3E-0C44-4296-BCC7-85C39A7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84C-BA56-4D63-A024-0E0B3330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0F0-4C0C-4C81-A3BC-8F3EA70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81A-39DE-4B62-9514-D7E602D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03E-86E7-4C2E-9BB1-2CD2740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C08-0AC7-461C-B0D5-FADD8F2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245-488E-4583-BE15-E62C9AF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C108-503A-43C2-B96A-6B6B25B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8E8-22FA-4B6F-A503-D8BC8CCC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8737-B424-4B5F-852C-79F00511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ABC-FD8D-4959-AE85-0DABB5A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58D-02C1-43F8-8E11-6A3C85E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9D1-ACE5-4F52-A28B-38920345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927-16CB-420B-8729-DECD627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940-46B6-45D7-AE7C-0B3FF502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DFA-56A4-40C1-A958-A4E70A9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485-2019-48DB-B1C2-3E760F1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2316-3E25-4E65-B0A5-96BCF6E28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87F-1D0B-44A9-AC27-E462F012F9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244-19CC-47E3-AD52-C46353C9D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3.gif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ic_31322"/>
          <p:cNvPicPr/>
          <p:nvPr/>
        </p:nvPicPr>
        <p:blipFill>
          <a:blip r:embed="rId1"/>
          <a:srcRect l="0" t="0" r="-58742" b="0"/>
          <a:stretch/>
        </p:blipFill>
        <p:spPr>
          <a:xfrm>
            <a:off x="385128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119600" y="2060640"/>
            <a:ext cx="12776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槐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乡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258920" y="476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4*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0651017847488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5fd10cc1f38ffd78c52f71398777ccaa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yw-hb"/>
          <p:cNvPicPr/>
          <p:nvPr/>
        </p:nvPicPr>
        <p:blipFill>
          <a:blip r:embed="rId1"/>
          <a:stretch/>
        </p:blipFill>
        <p:spPr>
          <a:xfrm>
            <a:off x="0" y="-1390680"/>
            <a:ext cx="9972720" cy="9639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2ade94ce0e94cea6a0a99d25903e24e_m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9b1c62867cab1f959628568c586737e0_m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468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zl02"/>
          <p:cNvPicPr/>
          <p:nvPr/>
        </p:nvPicPr>
        <p:blipFill>
          <a:blip r:embed="rId2"/>
          <a:stretch/>
        </p:blipFill>
        <p:spPr>
          <a:xfrm>
            <a:off x="5148360" y="404640"/>
            <a:ext cx="3400200" cy="4681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771640" y="5445000"/>
            <a:ext cx="2952720" cy="1099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水葫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yunque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1339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3059280" y="5829480"/>
            <a:ext cx="316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云雀</a:t>
            </a:r>
            <a:endParaRPr b="1" lang="en-US" sz="2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0591712334310"/>
          <p:cNvPicPr/>
          <p:nvPr/>
        </p:nvPicPr>
        <p:blipFill>
          <a:blip r:embed="rId1"/>
          <a:stretch/>
        </p:blipFill>
        <p:spPr>
          <a:xfrm>
            <a:off x="1042920" y="78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无标题"/>
          <p:cNvPicPr/>
          <p:nvPr/>
        </p:nvPicPr>
        <p:blipFill>
          <a:blip r:embed="rId1"/>
          <a:stretch/>
        </p:blipFill>
        <p:spPr>
          <a:xfrm>
            <a:off x="395280" y="582480"/>
            <a:ext cx="8353440" cy="572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006613112555"/>
          <p:cNvPicPr/>
          <p:nvPr/>
        </p:nvPicPr>
        <p:blipFill>
          <a:blip r:embed="rId1"/>
          <a:stretch/>
        </p:blipFill>
        <p:spPr>
          <a:xfrm>
            <a:off x="0" y="2997360"/>
            <a:ext cx="4067280" cy="30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162739_539134"/>
          <p:cNvPicPr/>
          <p:nvPr/>
        </p:nvPicPr>
        <p:blipFill>
          <a:blip r:embed="rId2"/>
          <a:stretch/>
        </p:blipFill>
        <p:spPr>
          <a:xfrm>
            <a:off x="4427640" y="3068640"/>
            <a:ext cx="4325760" cy="29512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1332000" y="692280"/>
            <a:ext cx="5183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柳梢</a:t>
            </a:r>
            <a:endParaRPr b="1" lang="en-US" sz="20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u=860504129,2138119341&amp;gp=0"/>
          <p:cNvPicPr/>
          <p:nvPr/>
        </p:nvPicPr>
        <p:blipFill>
          <a:blip r:embed="rId1">
            <a:grayscl/>
          </a:blip>
          <a:srcRect l="-7101" t="0" r="0" b="0"/>
          <a:stretch/>
        </p:blipFill>
        <p:spPr>
          <a:xfrm>
            <a:off x="1042920" y="0"/>
            <a:ext cx="6480360" cy="61657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3924360" y="4581360"/>
            <a:ext cx="3744720" cy="14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长钩刀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87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95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Picture 31" descr="21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1403280" y="2997360"/>
            <a:ext cx="5977080" cy="46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槐    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403280" y="1627200"/>
            <a:ext cx="6193080" cy="10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00ff"/>
                </a:solidFill>
                <a:latin typeface="宋体"/>
              </a:rPr>
              <a:t>huái       kuì</a:t>
            </a:r>
            <a:r>
              <a:rPr b="0" lang="en-US" sz="6200" spc="-1" strike="noStrike">
                <a:solidFill>
                  <a:srgbClr val="333399"/>
                </a:solidFill>
                <a:latin typeface="宋体"/>
              </a:rPr>
              <a:t>     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1126662335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843280" y="4983120"/>
            <a:ext cx="3168720" cy="1877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楷体_GB2312"/>
              </a:rPr>
              <a:t>染料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0818798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599960" y="0"/>
            <a:ext cx="1094760" cy="8182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小黑狗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耷拉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着耳朵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pic_31322"/>
          <p:cNvPicPr/>
          <p:nvPr/>
        </p:nvPicPr>
        <p:blipFill>
          <a:blip r:embed="rId1"/>
          <a:srcRect l="0" t="0" r="-58742" b="0"/>
          <a:stretch/>
        </p:blipFill>
        <p:spPr>
          <a:xfrm>
            <a:off x="536400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11280" y="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不只来自于休闲、享乐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没有劳动就没有收获，没有劳动就不能享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同学们，让我们也像槐乡的孩子一样去品尝劳动的快乐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3"/>
          <p:cNvSpPr/>
          <p:nvPr/>
        </p:nvSpPr>
        <p:spPr>
          <a:xfrm>
            <a:off x="1979640" y="436572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是什么意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00000" y="620640"/>
            <a:ext cx="2232000" cy="3263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140360" y="333360"/>
            <a:ext cx="2952720" cy="1236600"/>
            <a:chOff x="4140360" y="333360"/>
            <a:chExt cx="2952720" cy="1236600"/>
          </a:xfrm>
        </p:grpSpPr>
        <p:pic>
          <p:nvPicPr>
            <p:cNvPr id="121" name="Picture 6" descr="3"/>
            <p:cNvPicPr/>
            <p:nvPr/>
          </p:nvPicPr>
          <p:blipFill>
            <a:blip r:embed="rId1"/>
            <a:stretch/>
          </p:blipFill>
          <p:spPr>
            <a:xfrm>
              <a:off x="4140360" y="333360"/>
              <a:ext cx="1081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5364360" y="692280"/>
              <a:ext cx="17287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ff"/>
                  </a:solidFill>
                  <a:latin typeface="Times New Roman"/>
                  <a:ea typeface="华文琥珀"/>
                </a:rPr>
                <a:t>我来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8"/>
          <p:cNvSpPr/>
          <p:nvPr/>
        </p:nvSpPr>
        <p:spPr>
          <a:xfrm>
            <a:off x="3311640" y="177336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种符号表示是略读课文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0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62880" y="-24300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0"/>
          <p:cNvSpPr/>
          <p:nvPr/>
        </p:nvSpPr>
        <p:spPr>
          <a:xfrm>
            <a:off x="900000" y="1700280"/>
            <a:ext cx="7775640" cy="2168640"/>
          </a:xfrm>
          <a:prstGeom prst="rect">
            <a:avLst/>
          </a:prstGeom>
          <a:solidFill>
            <a:srgbClr val="a7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幼圆"/>
                <a:ea typeface="幼圆"/>
              </a:rPr>
              <a:t>略读课文学习方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幼圆"/>
                <a:ea typeface="幼圆"/>
              </a:rPr>
              <a:t>   </a:t>
            </a:r>
            <a:r>
              <a:rPr b="1" lang="zh-CN" sz="5400" spc="-1" strike="noStrike">
                <a:solidFill>
                  <a:srgbClr val="ffff00"/>
                </a:solidFill>
                <a:latin typeface="幼圆"/>
                <a:ea typeface="幼圆"/>
              </a:rPr>
              <a:t>通过朗读、质疑、思考、讨论，读懂课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3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9640" y="907920"/>
            <a:ext cx="8066160" cy="5736240"/>
          </a:xfrm>
          <a:prstGeom prst="rect">
            <a:avLst/>
          </a:prstGeom>
          <a:solidFill>
            <a:srgbClr val="a7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隶书"/>
                <a:ea typeface="隶书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花苞   柳梢   觅食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入药    染料   耷拉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黎明   一簇簇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缕缕炊烟     满载而归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随风飘动     惹人注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826920" y="260280"/>
            <a:ext cx="2744640" cy="929880"/>
            <a:chOff x="826920" y="260280"/>
            <a:chExt cx="2744640" cy="929880"/>
          </a:xfrm>
        </p:grpSpPr>
        <p:pic>
          <p:nvPicPr>
            <p:cNvPr id="129" name="Picture 6" descr="21"/>
            <p:cNvPicPr/>
            <p:nvPr/>
          </p:nvPicPr>
          <p:blipFill>
            <a:blip r:embed="rId1"/>
            <a:stretch/>
          </p:blipFill>
          <p:spPr>
            <a:xfrm>
              <a:off x="826920" y="260280"/>
              <a:ext cx="857160" cy="9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7"/>
            <p:cNvSpPr/>
            <p:nvPr/>
          </p:nvSpPr>
          <p:spPr>
            <a:xfrm>
              <a:off x="2171520" y="3373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琥珀"/>
                </a:rPr>
                <a:t>我会读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24000" y="1125360"/>
            <a:ext cx="88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读课文。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课文主要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槐乡的孩子可爱吗？你从课文哪些描写中体会到的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61161151960482"/>
          <p:cNvPicPr/>
          <p:nvPr/>
        </p:nvPicPr>
        <p:blipFill>
          <a:blip r:embed="rId1"/>
          <a:stretch/>
        </p:blipFill>
        <p:spPr>
          <a:xfrm flipH="1">
            <a:off x="6227640" y="0"/>
            <a:ext cx="237672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95280" y="5157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自己还有什么不懂的地方？互相说一说，和同桌讨论一下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511433518719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5651640" y="260280"/>
            <a:ext cx="3203280" cy="4360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槐乡的孩子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小就和槐树结成了伴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槐乡的孩子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离不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槐树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像海边的娃娃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离不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海，山里的孩子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离不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头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1456148421256981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867280" y="260280"/>
            <a:ext cx="2987640" cy="76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小槐米藏在槐树丛中，轻轻地随风飘动。他们一点也不引人注意，却是槐乡孩子的宝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50918035036311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443640" y="260280"/>
            <a:ext cx="2700360" cy="76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八月，槐树打了花苞，那花苞米粒般大小，散发着淡淡的清香，不仔细闻是闻不到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1:50:5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8:15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