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gif" ContentType="image/gif"/>
  <Override PartName="/ppt/media/image7.jpeg" ContentType="image/jpeg"/>
  <Override PartName="/ppt/media/image15.gif" ContentType="image/gif"/>
  <Override PartName="/ppt/media/image20.png" ContentType="image/png"/>
  <Override PartName="/ppt/media/image6.wmf" ContentType="image/x-wmf"/>
  <Override PartName="/ppt/media/image10.gif" ContentType="image/gif"/>
  <Override PartName="/ppt/media/image5.gif" ContentType="image/gif"/>
  <Override PartName="/ppt/media/image22.jpeg" ContentType="image/jpeg"/>
  <Override PartName="/ppt/media/image17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23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83B-D7BA-4A48-9BDF-97B2923B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E69-A357-4BEF-9FC5-AE43598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DAB-18C0-46B6-AFD0-35BAF8D5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ED8-A3AD-40E8-BDEB-B1DB7911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6B47-22CE-4A3F-83FF-3DA90153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3119-EC77-41DB-A851-62B91C4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045E-0B72-424C-BDCE-F05A5E47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60D5-41D5-4693-ACF9-C52E8976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7F7E-C57E-4628-B66D-9E3D863B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2E96-6ECD-473B-BECE-3734EDDF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A84C-AE1A-4EAA-A651-DB28AFF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548-4770-448A-B81B-B944D1AB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308B-6EFF-4C88-84D9-D7D1A4D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7C54-4FB3-405B-84D4-E099BA6E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DD96-BA06-4DCF-806B-E07E890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BC73-246D-4507-A106-FA08628C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4DDE-F63F-4DF1-AAFA-A7B1F138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0444-47DF-46F9-9FA6-BA749802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48F35-81B1-4D1C-96E4-F1C939F4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17BAA-3415-4A94-BAEB-73A0D17A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5759-54D2-4C9E-BFB9-2FA9E937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B8C3-52C2-470B-84E5-23C4E3A9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053-543D-4D2C-AEC7-3EB50A4D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601F-3A86-448D-9894-01E808BD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3CE8-E049-4A5C-8B8B-951D263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8DDB-44EB-4053-A0A6-E1B52942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0983-8A9E-459E-BA9C-38394BB9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040F-E37E-457E-AF9A-1A0DAEB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1AC1-6C21-4BEA-B46B-3D016D3F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F5B0-EB4F-46A3-B71C-4F732B3E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EDD5-E46D-45CF-927D-B173CC40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B920-E58F-49DF-9358-60AFA9FB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1628-7683-4608-B6E2-4993B6D2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BEE-D3D0-4247-AB70-2679D1B1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3587-3F1C-4132-9EB7-1CDB617F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B11E-EB44-4576-9606-66399E12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0817-CAD8-4BA5-A0E0-F4BDAE33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ABB6C-AAA3-4BEA-B742-EE8CBE5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6E74E-BF6F-45FB-A802-51D4E3C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CD0CF-7594-4EB1-94BE-6BDC6FA3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9920C-5D00-4FF3-A18D-E978544F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51DD-88A4-4167-8BC3-F047C4BF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59B6-1648-4EBF-AB93-661C564C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370E9-9692-4875-A7FF-11E88DA4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F5A-5E8B-4714-83ED-9B7793FC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017CC-B42B-4373-BB0F-D18D303C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FA20-9F90-4906-A750-013BC0D3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B90AD-CDD8-417E-89A6-3B7A3532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9965-D90D-4727-94D4-49830C5F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7DE5F-7FCE-45AB-BF67-D670BAB0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A389D-7441-4019-B0B8-A456E532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867F-1288-427F-80B1-F6D21646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9D42-9C13-4E14-B290-59C29BD3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3515D-72D3-42C4-89A0-B7C63F84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D4AD7-3F12-42DB-B132-9FDE8179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A82-CDE6-4FC3-8C12-20815857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21C5-5EFD-4114-94F8-9D61425F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22F-D201-4B44-9620-5BDB2971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E43-464D-471E-A11D-86A1398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7A2-1B65-42D1-8932-6B742D1A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B32F-C598-4427-BAFD-C48F5F10004B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F7D9-864F-4698-A61C-1CD72432B9F9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FED2-7B74-498D-A7CF-C68CEAB82E3A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46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8223-0922-4725-B6E1-D90243991A4B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AFE7-BB89-47DB-BA32-703CB5CB53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84D-E459-47D5-A8AA-56791B250C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../../Administrator/My%2520Documents/kejian/unit3huo.ppt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108000" y="1700280"/>
            <a:ext cx="87739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离</a:t>
            </a:r>
            <a:r>
              <a:rPr b="0" lang="en-US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2014</a:t>
            </a:r>
            <a:r>
              <a:rPr b="0" lang="zh-CN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年高考仅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5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161</a:t>
            </a:r>
            <a:r>
              <a:rPr b="0" lang="zh-CN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256" name="AutoShape 5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6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7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9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560"/>
                <a:gd name="textAreaBottom" fmla="*/ 1936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1835280" y="819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严格要求</a:t>
            </a:r>
            <a:r>
              <a:rPr b="0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, </a:t>
            </a: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让每一位学生都健康成功</a:t>
            </a:r>
            <a:r>
              <a:rPr b="0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3000"/>
                    </a:srgbClr>
                  </a:outerShdw>
                </a:effectLst>
                <a:latin typeface="华文新魏"/>
              </a:rPr>
              <a:t>班级管理理念</a:t>
            </a:r>
            <a:endParaRPr b="0" lang="en-US" sz="5400" spc="-1" strike="noStrike">
              <a:ln w="0">
                <a:noFill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3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6"/>
          <p:cNvSpPr/>
          <p:nvPr/>
        </p:nvSpPr>
        <p:spPr>
          <a:xfrm>
            <a:off x="900000" y="184464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  </a:t>
            </a:r>
            <a:r>
              <a:rPr b="0" lang="zh-CN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高三（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   </a:t>
            </a:r>
            <a:r>
              <a:rPr b="0" lang="zh-CN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3"/>
          <p:cNvSpPr/>
          <p:nvPr/>
        </p:nvSpPr>
        <p:spPr>
          <a:xfrm>
            <a:off x="3581280" y="2666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7400" y="2492280"/>
            <a:ext cx="68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c00000"/>
                </a:solidFill>
                <a:latin typeface="华文隶书"/>
                <a:ea typeface="华文隶书"/>
              </a:rPr>
              <a:t>一、汇报篇</a:t>
            </a:r>
            <a:endParaRPr b="0" lang="en-US" sz="8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895480" y="60948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79640" y="220500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Candara"/>
                <a:ea typeface="华文新魏"/>
              </a:rPr>
              <a:t>成绩状况介绍</a:t>
            </a:r>
            <a:endParaRPr b="0" lang="en-US" sz="6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60000" y="1100160"/>
            <a:ext cx="84056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班在这次联考中，继前三次月考后又一次取得稳中略有上升的成绩，其中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 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处于生源班级领先位置，尤其是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科取得了班均分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的好成绩，其余的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处于生源班级前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名位置。但各科发展不平衡，尤其是中等学生的学科发展不平衡现象较严重，主要表现在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等学科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7400" y="2492280"/>
            <a:ext cx="68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c00000"/>
                </a:solidFill>
                <a:latin typeface="华文隶书"/>
                <a:ea typeface="华文隶书"/>
              </a:rPr>
              <a:t>二、反思篇</a:t>
            </a:r>
            <a:endParaRPr b="0" lang="en-US" sz="8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08000" y="1413000"/>
            <a:ext cx="89280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反思一</a:t>
            </a:r>
            <a:r>
              <a:rPr b="1" lang="en-US" sz="33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73e87"/>
                </a:solidFill>
                <a:latin typeface="黑体"/>
                <a:ea typeface="黑体"/>
              </a:rPr>
              <a:t>、这次考试在个人名次上发生了一些明显的变化，原因为何？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73e87"/>
                </a:solidFill>
                <a:latin typeface="黑体"/>
                <a:ea typeface="黑体"/>
              </a:rPr>
              <a:t>、我们也有不少同学在考试前也投入了大量精力，但未收到如期效果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73e87"/>
                </a:solidFill>
                <a:latin typeface="黑体"/>
                <a:ea typeface="黑体"/>
              </a:rPr>
              <a:t>、联考是冶炼，心态最重要。经历是最好的老师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advTm="1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在这次考后，我们发现有些同学的总分高不了，究其原因，偏科太厉害！尤其要引起重视的是英语</a:t>
            </a: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数学和地理</a:t>
            </a: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因为这三科拉的分数最多</a:t>
            </a: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试卷答题过程中暴露出来的不规范性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基础掌握不扎实、知识漏洞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黑体"/>
                <a:ea typeface="黑体"/>
              </a:rPr>
              <a:t>反思二</a:t>
            </a:r>
            <a:r>
              <a:rPr b="0" lang="zh-CN" sz="4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黑体"/>
                <a:ea typeface="黑体"/>
              </a:rPr>
              <a:t>一模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468360" y="1063800"/>
            <a:ext cx="849636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思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学生目前存在的问题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目的不明确，甚至模糊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集体主义观念淡漠、自私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责任感较差，自我中心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方法需要调整，没有计划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理素质，适应性需要加强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同学关系、师生关系需要改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417600" y="3213000"/>
            <a:ext cx="828684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宋体"/>
                <a:ea typeface="华康简综艺"/>
              </a:rPr>
              <a:t>XXX</a:t>
            </a:r>
            <a:r>
              <a:rPr b="0" lang="zh-CN" sz="6600" spc="-1" strike="noStrike">
                <a:solidFill>
                  <a:srgbClr val="c00000"/>
                </a:solidFill>
                <a:latin typeface="宋体"/>
                <a:ea typeface="华康简综艺"/>
              </a:rPr>
              <a:t>中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宋体"/>
                <a:ea typeface="华康简综艺"/>
              </a:rPr>
              <a:t>高三年级家长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WordArt 5" descr=""/>
          <p:cNvPicPr/>
          <p:nvPr/>
        </p:nvPicPr>
        <p:blipFill>
          <a:blip r:embed="rId1"/>
          <a:stretch/>
        </p:blipFill>
        <p:spPr>
          <a:xfrm>
            <a:off x="603360" y="768240"/>
            <a:ext cx="7943760" cy="331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79280" y="-2088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Candara"/>
                <a:ea typeface="华文彩云"/>
              </a:rPr>
              <a:t>三、展望篇</a:t>
            </a:r>
            <a:endParaRPr b="0" lang="en-US" sz="8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692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.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落实学生的成绩情况之后，寻找该生的薄弱科目，确定补</a:t>
            </a:r>
            <a:r>
              <a:rPr b="0" lang="zh-CN" sz="2400" spc="-1" strike="noStrike">
                <a:solidFill>
                  <a:srgbClr val="ff0000"/>
                </a:solidFill>
                <a:latin typeface="Candara"/>
              </a:rPr>
              <a:t>薄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学生名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.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通过班主任与各科任老师的联系，对补薄学生给予更多的关注，并通过学生补</a:t>
            </a:r>
            <a:r>
              <a:rPr b="0" lang="zh-CN" sz="2400" spc="-1" strike="noStrike">
                <a:solidFill>
                  <a:srgbClr val="0080ff"/>
                </a:solidFill>
                <a:latin typeface="Candara"/>
              </a:rPr>
              <a:t>薄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记录单，时时跟踪，使学生在薄弱科上有所进步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ndara"/>
              </a:rPr>
              <a:t>联考之后我们老师要做的：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395280" y="249228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加强思想教育工作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04920" y="990720"/>
            <a:ext cx="81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通过与各科任老师的联系，对学生给予更多的关注，使学生在薄弱科上有所进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80880" y="4495680"/>
            <a:ext cx="8001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严格常规管理，严格请假制度，严格班规班纪，稳定学习秩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4000" y="4653000"/>
            <a:ext cx="8820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80880" y="378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95280" y="29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31640" y="182880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向偏科现象较严重的同学介绍好的学习经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457200" y="533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73e87"/>
                </a:solidFill>
                <a:latin typeface="Arial"/>
              </a:rPr>
              <a:t>通过谈话帮助学生分析成绩，找出原因，帮助学生确定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Season17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7" name="WordArt 4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4584d3"/>
                </a:solidFill>
                <a:latin typeface="宋体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4584d3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1979640" y="689040"/>
            <a:ext cx="5181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如何看待成绩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0" y="2565360"/>
            <a:ext cx="561672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2484360" y="4365720"/>
            <a:ext cx="6418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e87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73e87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e87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73e87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ff"/>
                </a:solidFill>
                <a:latin typeface="Tahoma"/>
              </a:rPr>
              <a:t>高考倒计时</a:t>
            </a:r>
            <a:r>
              <a:rPr b="1" lang="en-US" sz="4000" spc="-1" strike="noStrike">
                <a:solidFill>
                  <a:srgbClr val="0080ff"/>
                </a:solidFill>
                <a:latin typeface="Tahoma"/>
              </a:rPr>
              <a:t>161</a:t>
            </a:r>
            <a:r>
              <a:rPr b="1" lang="zh-CN" sz="4000" spc="-1" strike="noStrike">
                <a:solidFill>
                  <a:srgbClr val="0080ff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ae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高考实行</a:t>
            </a:r>
            <a:r>
              <a:rPr b="1" lang="zh-CN" sz="2800" spc="-1" strike="noStrike">
                <a:solidFill>
                  <a:srgbClr val="5eae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三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综合</a:t>
            </a:r>
            <a:r>
              <a:rPr b="1" lang="zh-CN" sz="2800" spc="-1" strike="noStrike">
                <a:solidFill>
                  <a:srgbClr val="5eaeff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满分：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三：语文、数学、外语（各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），共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综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历史</a:t>
            </a:r>
            <a:r>
              <a:rPr b="1" lang="zh-CN" sz="1800" spc="-1" strike="noStrike">
                <a:solidFill>
                  <a:srgbClr val="5eae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 地理</a:t>
            </a:r>
            <a:r>
              <a:rPr b="1" lang="zh-CN" sz="1800" spc="-1" strike="noStrike">
                <a:solidFill>
                  <a:srgbClr val="5eae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 政治计入高考成绩，共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</a:t>
            </a:r>
            <a:r>
              <a:rPr b="1" lang="en-US" sz="2800" spc="-1" strike="noStrike">
                <a:solidFill>
                  <a:srgbClr val="5eaeff"/>
                </a:solidFill>
                <a:latin typeface="Times New Roman"/>
              </a:rPr>
              <a:t>—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网上报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陕西省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201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年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中旬汉中市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下学期参加省、市联考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考前心理调整。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85760" y="8380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3886200" y="1219320"/>
            <a:ext cx="914400" cy="0"/>
          </a:xfrm>
          <a:prstGeom prst="line">
            <a:avLst/>
          </a:prstGeom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480060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了解孩子一天的每段时间应该在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80880" y="22096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ahoma"/>
              </a:rPr>
              <a:t>关键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英语朗读听力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文早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-2:00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倡回班级看书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下晚自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周日             休息 </a:t>
            </a: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971640" y="549360"/>
            <a:ext cx="4868640" cy="1493640"/>
            <a:chOff x="971640" y="549360"/>
            <a:chExt cx="4868640" cy="1493640"/>
          </a:xfrm>
        </p:grpSpPr>
        <p:sp>
          <p:nvSpPr>
            <p:cNvPr id="306" name="Rectangle 7"/>
            <p:cNvSpPr/>
            <p:nvPr/>
          </p:nvSpPr>
          <p:spPr>
            <a:xfrm>
              <a:off x="971640" y="549360"/>
              <a:ext cx="486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8"/>
            <p:cNvGrpSpPr/>
            <p:nvPr/>
          </p:nvGrpSpPr>
          <p:grpSpPr>
            <a:xfrm>
              <a:off x="971640" y="549360"/>
              <a:ext cx="1130760" cy="1493640"/>
              <a:chOff x="971640" y="549360"/>
              <a:chExt cx="1130760" cy="1493640"/>
            </a:xfrm>
          </p:grpSpPr>
          <p:sp>
            <p:nvSpPr>
              <p:cNvPr id="308" name="Rectangle 9"/>
              <p:cNvSpPr/>
              <p:nvPr/>
            </p:nvSpPr>
            <p:spPr>
              <a:xfrm>
                <a:off x="971640" y="549360"/>
                <a:ext cx="1130760" cy="149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10"/>
              <p:cNvGrpSpPr/>
              <p:nvPr/>
            </p:nvGrpSpPr>
            <p:grpSpPr>
              <a:xfrm>
                <a:off x="971640" y="549360"/>
                <a:ext cx="1130760" cy="1493640"/>
                <a:chOff x="971640" y="549360"/>
                <a:chExt cx="1130760" cy="1493640"/>
              </a:xfrm>
            </p:grpSpPr>
            <p:sp>
              <p:nvSpPr>
                <p:cNvPr id="310" name="Rectangle 11"/>
                <p:cNvSpPr/>
                <p:nvPr/>
              </p:nvSpPr>
              <p:spPr>
                <a:xfrm>
                  <a:off x="971640" y="549360"/>
                  <a:ext cx="1130760" cy="149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12"/>
                <p:cNvGrpSpPr/>
                <p:nvPr/>
              </p:nvGrpSpPr>
              <p:grpSpPr>
                <a:xfrm>
                  <a:off x="971640" y="549360"/>
                  <a:ext cx="1130760" cy="1493640"/>
                  <a:chOff x="971640" y="549360"/>
                  <a:chExt cx="1130760" cy="1493640"/>
                </a:xfrm>
              </p:grpSpPr>
              <p:sp>
                <p:nvSpPr>
                  <p:cNvPr id="312" name="Rectangle 13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Rectangle 14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14" name="Picture 15" descr="47292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395280" y="64152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尊敬的各位家长</a:t>
            </a: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971640" y="2421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汉真广标"/>
                <a:ea typeface="汉真广标"/>
              </a:rPr>
              <a:t>欢迎您的到来</a:t>
            </a:r>
            <a:r>
              <a:rPr b="0" lang="en-US" sz="8800" spc="-1" strike="noStrike">
                <a:solidFill>
                  <a:srgbClr val="ffffff"/>
                </a:solidFill>
                <a:latin typeface="汉真广标"/>
                <a:ea typeface="汉真广标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80ff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7621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租房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396252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提醒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天晚自习以后，孩子在哪里，在做什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9144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9625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eaeff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ff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8" descr="PE03254_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ANDLES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430200" y="1676520"/>
            <a:ext cx="8713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73e87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572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73e87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），保证学生按时作息，不要因晚上学习时间过长或看电视无度、睡眠不足影响第二天学习；有特殊情况要请假；</a:t>
            </a:r>
            <a:r>
              <a:rPr b="1" lang="zh-CN" sz="3600" spc="-1" strike="noStrike">
                <a:solidFill>
                  <a:srgbClr val="073e87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574560" y="304920"/>
            <a:ext cx="8569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73e87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73e87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cartoon3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0000"/>
          <p:cNvPicPr/>
          <p:nvPr/>
        </p:nvPicPr>
        <p:blipFill>
          <a:blip r:embed="rId1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8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41" name="Picture 4" descr="BJ3057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3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5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5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63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65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67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8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69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71" name="Picture 11" descr="19188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51777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76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78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80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82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84" name="Picture 11" descr="64068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12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87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89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91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2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93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95" name="Text Box 11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73e87"/>
                </a:solidFill>
                <a:latin typeface="Tahoma"/>
                <a:ea typeface="华文行楷"/>
              </a:rPr>
              <a:t>雪花儿飘起来了，我们舍弃了小屋的舒适，沿着这条路仍在艰难地跋涉</a:t>
            </a:r>
            <a:r>
              <a:rPr b="1" lang="en-US" sz="3200" spc="-1" strike="noStrike">
                <a:solidFill>
                  <a:srgbClr val="073e87"/>
                </a:solidFill>
                <a:latin typeface="Tahoma"/>
                <a:ea typeface="华文行楷"/>
              </a:rPr>
              <a:t>…</a:t>
            </a:r>
            <a:r>
              <a:rPr b="1" lang="en-US" sz="2800" spc="-1" strike="noStrike">
                <a:solidFill>
                  <a:srgbClr val="073e87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97" name="Rectangle 1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1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99" name="Rectangle 1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1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401" name="Rectangle 1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2" name="Group 1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403" name="Rectangle 1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Rectangle 2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05" name="Picture 21" descr="59773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407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409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411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2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413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15" name="Picture 11" descr="19299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2"/>
          <p:cNvSpPr/>
          <p:nvPr/>
        </p:nvSpPr>
        <p:spPr>
          <a:xfrm>
            <a:off x="838080" y="5029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</a:t>
            </a:r>
            <a:r>
              <a:rPr b="1" lang="en-US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ZW_015"/>
          <p:cNvPicPr/>
          <p:nvPr/>
        </p:nvPicPr>
        <p:blipFill>
          <a:blip r:embed="rId1"/>
          <a:stretch/>
        </p:blipFill>
        <p:spPr>
          <a:xfrm>
            <a:off x="2050920" y="2852640"/>
            <a:ext cx="3745080" cy="31766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ndara"/>
              </a:rPr>
              <a:t>家长代表经验交流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WordArt 5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家长会13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04920" y="685800"/>
            <a:ext cx="58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d028"/>
                </a:solidFill>
                <a:latin typeface="黑体"/>
                <a:ea typeface="黑体"/>
              </a:rPr>
              <a:t>尊敬的各位家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BD06662_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246" name="WordArt 5"/>
          <p:cNvSpPr txBox="1"/>
          <p:nvPr/>
        </p:nvSpPr>
        <p:spPr>
          <a:xfrm>
            <a:off x="2195640" y="5624640"/>
            <a:ext cx="5275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200532382337zhangjunfe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WordArt 3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6" name="WordArt 4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7" name="WordArt 6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家庭幸福，事业顺利！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andara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Picture 5" descr="ZW_015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1143000" y="9144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成長只有一次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陪孩子成長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让我们共同托起明天的太阳！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g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247920"/>
            <a:ext cx="4290840" cy="33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3"/>
          <p:cNvSpPr/>
          <p:nvPr/>
        </p:nvSpPr>
        <p:spPr>
          <a:xfrm>
            <a:off x="3780000" y="4365720"/>
            <a:ext cx="133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rebuchet MS"/>
              </a:rPr>
              <a:t>再见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face5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hfy2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fw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  <p:sp>
        <p:nvSpPr>
          <p:cNvPr id="437" name="WordArt 2"/>
          <p:cNvSpPr txBox="1"/>
          <p:nvPr/>
        </p:nvSpPr>
        <p:spPr>
          <a:xfrm>
            <a:off x="13176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1b6fd"/>
                </a:solidFill>
                <a:latin typeface="隶书"/>
              </a:rPr>
              <a:t>家长会到此结束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31b6fd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1b6fd"/>
                </a:solidFill>
                <a:latin typeface="隶书"/>
              </a:rPr>
              <a:t>祝各位家长健康愉快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31b6fd"/>
              </a:soli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3602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93760" y="1628640"/>
            <a:ext cx="83818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家长会召开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班级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学生在校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联考情况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存在的问题及下一阶段工作思路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需要家长配合的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给家长的一些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个别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971640" y="119700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汉仪中圆简"/>
                <a:ea typeface="汉仪中圆简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汉仪中圆简"/>
                <a:ea typeface="汉仪中圆简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31Z</dcterms:modified>
  <cp:revision>1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