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7.gif" ContentType="image/gif"/>
  <Override PartName="/ppt/media/image8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8BDA-73E2-4483-A155-89D04AB7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856A-C987-4D7A-9923-201A5C71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783-0528-451A-A6AA-50F1D69A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F5E-7FC5-427E-9A2C-8982A429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C41E-2C3E-4A25-9ED4-B1B0B1AA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CF3A-3725-46BD-B04D-02A7D5DF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9E2D-B814-4A89-ACB3-9DDACADF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47DD-8835-4388-910B-9F5B3FD7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7D93-C6D6-4A53-ADB7-5C5374B7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456F-E78A-45AE-9D47-16EDF1BA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875C-6347-4EFA-A1B2-66999CA2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F6F-6412-4BAF-864A-FF85B793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AB88-C30D-4A8E-865E-8F6B1E08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8EC8-332C-437F-8B5F-410CD8F1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F51E-B4F6-4DA1-BF4D-EAF629F2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8E48-1300-406F-AEBB-42CD3996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6D2F-448F-4229-B30F-A134F538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B7B-E6E1-42E8-B666-4484E3CA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C2A-6130-4AF3-B9A9-3A0F3338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CA8-6205-4E7A-B5FE-1B69DAA0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CA9-4F32-43E0-8D7D-94B087EC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659-78AB-4174-A6A7-5D92A85D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42B0-49D0-45E0-B480-2DA9DAA8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92A3-C158-48F5-968B-89A3AF35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7C5E-32C9-4BA9-A95F-F6BB9E9BC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E406-6325-4EAC-BFCF-11E1582572D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BC41-01CC-4A1D-BF88-E4A4307DFB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0,15,&#24187;&#28783;&#29255; 15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9"/>
          <p:cNvSpPr/>
          <p:nvPr/>
        </p:nvSpPr>
        <p:spPr>
          <a:xfrm>
            <a:off x="414360" y="26028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北师大版 三年级 语文 上册 第六单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85800" y="5257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具有某种技能，对某种工作或运动特别熟练的人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2590920" y="4235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伤口）长好。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685800" y="277164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本领。课文中指不用箭就能把大雁射下来的本领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09480" y="13096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原指处境或遭遇极其痛苦，令人伤心。本课指大雁发出的叫声很痛苦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124080" y="358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释下列词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3880" y="1371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悲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3880" y="2819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本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1523880" y="5289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21" descr="LEFTFLAS"/>
          <p:cNvPicPr/>
          <p:nvPr/>
        </p:nvPicPr>
        <p:blipFill>
          <a:blip r:embed="rId2"/>
          <a:stretch/>
        </p:blipFill>
        <p:spPr>
          <a:xfrm>
            <a:off x="8420040" y="6176880"/>
            <a:ext cx="495360" cy="47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2"/>
          <p:cNvSpPr/>
          <p:nvPr/>
        </p:nvSpPr>
        <p:spPr>
          <a:xfrm>
            <a:off x="1523880" y="4267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愈合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85800" y="19051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篇课文讲述的是古时候有个射箭能手叫更羸。他观察了天上飞的一只大雁后，不用箭，只是拉了一下弓，就把这只大雁给射下来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LEFTFLAS"/>
          <p:cNvPicPr/>
          <p:nvPr/>
        </p:nvPicPr>
        <p:blipFill>
          <a:blip r:embed="rId2"/>
          <a:stretch/>
        </p:blipFill>
        <p:spPr>
          <a:xfrm>
            <a:off x="8420040" y="6176880"/>
            <a:ext cx="495360" cy="479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10" descr="A3_15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229440" y="54000"/>
            <a:ext cx="1466640" cy="1241280"/>
          </a:xfrm>
          <a:prstGeom prst="rect">
            <a:avLst/>
          </a:prstGeom>
          <a:ln w="0">
            <a:noFill/>
          </a:ln>
        </p:spPr>
      </p:pic>
      <p:pic>
        <p:nvPicPr>
          <p:cNvPr id="147" name="ss655.wav" descr=""/>
          <p:cNvPicPr/>
          <p:nvPr/>
        </p:nvPicPr>
        <p:blipFill>
          <a:blip r:embed="rId3"/>
          <a:stretch/>
        </p:blipFill>
        <p:spPr>
          <a:xfrm>
            <a:off x="8534520" y="2286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5"/>
          <p:cNvSpPr/>
          <p:nvPr/>
        </p:nvSpPr>
        <p:spPr>
          <a:xfrm>
            <a:off x="762120" y="1600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你看见一只大雁从远处慢慢飞来，它边飞边鸣，你会怎样想？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771480" y="35053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羸观察到了大雁的什么？根据观察更羸是怎么分析的？他又是怎样判断出结果的呢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75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5800" y="1752480"/>
            <a:ext cx="7848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认真观察：看到，飞得慢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听到，叫得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析：受过伤、孤单失群、害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推断：不用箭就能射下大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762120" y="99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请你用自己的话讲述“惊弓之鸟”这个故事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62120" y="26193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常常用这个成语比喻什么人呢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7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3" descr="LEFTFLAS"/>
          <p:cNvPicPr/>
          <p:nvPr/>
        </p:nvPicPr>
        <p:blipFill>
          <a:blip r:embed="rId2"/>
          <a:stretch/>
        </p:blipFill>
        <p:spPr>
          <a:xfrm>
            <a:off x="8420040" y="6176880"/>
            <a:ext cx="495360" cy="4795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762120" y="99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请你用自己的话讲述“惊弓之鸟”这个故事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762120" y="26193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常常用这个成语比喻什么人呢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762120" y="4295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比喻受过惊吓，见到一点儿动静就特别害怕的人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2" descr="fga019"/>
          <p:cNvPicPr/>
          <p:nvPr/>
        </p:nvPicPr>
        <p:blipFill>
          <a:blip r:embed="rId2"/>
          <a:stretch/>
        </p:blipFill>
        <p:spPr>
          <a:xfrm>
            <a:off x="0" y="0"/>
            <a:ext cx="1704960" cy="1565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fga103"/>
          <p:cNvPicPr/>
          <p:nvPr/>
        </p:nvPicPr>
        <p:blipFill>
          <a:blip r:embed="rId3"/>
          <a:stretch/>
        </p:blipFill>
        <p:spPr>
          <a:xfrm>
            <a:off x="6381720" y="0"/>
            <a:ext cx="2762280" cy="251136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9"/>
          <p:cNvSpPr txBox="1"/>
          <p:nvPr/>
        </p:nvSpPr>
        <p:spPr>
          <a:xfrm>
            <a:off x="1908000" y="2133720"/>
            <a:ext cx="4751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再见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990720" y="134136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树上有十只鸟，被人射死了一只，树上还有几只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4" descr="Q_012"/>
          <p:cNvPicPr/>
          <p:nvPr/>
        </p:nvPicPr>
        <p:blipFill>
          <a:blip r:embed="rId2"/>
          <a:stretch/>
        </p:blipFill>
        <p:spPr>
          <a:xfrm>
            <a:off x="6019920" y="3649680"/>
            <a:ext cx="685800" cy="846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609480" y="19033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如果只给你一张“弓”，让你射下天空中正在飞翔的“大雁”，你能办的到吗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2987640" y="2185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1042920" y="1339920"/>
            <a:ext cx="6705720" cy="213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生字新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  <a:hlinkClick r:id="rId2"/>
              </a:rPr>
              <a:t>阅读思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3" descr="LEFTFLAS"/>
          <p:cNvPicPr/>
          <p:nvPr/>
        </p:nvPicPr>
        <p:blipFill>
          <a:blip r:embed="rId3"/>
          <a:stretch/>
        </p:blipFill>
        <p:spPr>
          <a:xfrm>
            <a:off x="8420040" y="6176880"/>
            <a:ext cx="495360" cy="4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57200" y="1447920"/>
            <a:ext cx="83818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魏国        射箭        打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大雁        琴弦        痛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愈合      悲   惨      拼   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267080" y="762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ji4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705720" y="806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li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286000" y="2438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y4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4343400" y="2438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xi2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019920" y="2438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t^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752480" y="4159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657600" y="4159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b5i c3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791320" y="41148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p9n m@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1695960" y="806400"/>
            <a:ext cx="9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w8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1"/>
          <p:cNvSpPr/>
          <p:nvPr/>
        </p:nvSpPr>
        <p:spPr>
          <a:xfrm>
            <a:off x="3124080" y="380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释下列词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1523880" y="1371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悲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1523880" y="2819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本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1523880" y="5289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523880" y="4267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愈合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09480" y="13096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原指处境或遭遇极其痛苦，令人伤心。本课指大雁发出的叫声很痛苦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124080" y="380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释下列词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523880" y="1371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悲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523880" y="2819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本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1523880" y="5289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523880" y="4267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愈合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85800" y="277164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本领。课文中指不用箭就能把大雁射下来的本领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09480" y="13096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原指处境或遭遇极其痛苦，令人伤心。本课指大雁发出的叫声很痛苦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124080" y="380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释下列词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1523880" y="1371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悲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1523880" y="2819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本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1523880" y="4267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愈合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523880" y="5289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8"/>
          <p:cNvSpPr/>
          <p:nvPr/>
        </p:nvSpPr>
        <p:spPr>
          <a:xfrm>
            <a:off x="2590920" y="4235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伤口）长好。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685800" y="277164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本领。课文中指不用箭就能把大雁射下来的本领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09480" y="13096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原指处境或遭遇极其痛苦，令人伤心。本课指大雁发出的叫声很痛苦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3124080" y="380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释下列词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1523880" y="1371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悲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1523880" y="2819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本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1523880" y="5289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1523880" y="4267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愈合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09:43:0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7:22Z</dcterms:modified>
  <cp:revision>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