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E40-0750-4FAD-828D-0DC8B584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A7B-CE9D-47A2-87E1-C2C70CB9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8F39-8DCF-4175-A6EE-7636D8ED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4BC-9EC0-4746-95B5-EF26768F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133-B2E8-4D1B-BC72-FFF4CDFA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41A-0CA2-42C2-870D-CA40B8D7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855F-96C8-4F1F-ABEB-29887109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998A-B952-426A-AD72-00EB5A7E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687-D2B5-4B68-8A3D-63C46DC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2F1-732F-4935-821B-DBB63515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2D7-D222-42BA-B526-A31D16D8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B4A-CB77-449A-88C2-C1D6FED1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8281-E99A-4224-8F03-AF12C3CF54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0" y="4000680"/>
            <a:ext cx="9144000" cy="83160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1"/>
          <p:cNvSpPr/>
          <p:nvPr/>
        </p:nvSpPr>
        <p:spPr>
          <a:xfrm>
            <a:off x="2928960" y="2071800"/>
            <a:ext cx="4071960" cy="111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名：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院：土木与建筑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  期：二零一二年五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079640" y="62712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八届青年志愿者活动指导中心主任团竞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0" y="453960"/>
            <a:ext cx="914400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6"/>
          <p:cNvGrpSpPr/>
          <p:nvPr/>
        </p:nvGrpSpPr>
        <p:grpSpPr>
          <a:xfrm>
            <a:off x="0" y="2143080"/>
            <a:ext cx="9144000" cy="2689200"/>
            <a:chOff x="0" y="2143080"/>
            <a:chExt cx="9144000" cy="2689200"/>
          </a:xfrm>
        </p:grpSpPr>
        <p:sp>
          <p:nvSpPr>
            <p:cNvPr id="46" name="矩形 29"/>
            <p:cNvSpPr/>
            <p:nvPr/>
          </p:nvSpPr>
          <p:spPr>
            <a:xfrm>
              <a:off x="3535200" y="244332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  院：土木与建筑学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31"/>
            <p:cNvSpPr/>
            <p:nvPr/>
          </p:nvSpPr>
          <p:spPr>
            <a:xfrm>
              <a:off x="3481200" y="2741040"/>
              <a:ext cx="193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  期：二零一二年五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32"/>
            <p:cNvSpPr/>
            <p:nvPr/>
          </p:nvSpPr>
          <p:spPr>
            <a:xfrm>
              <a:off x="3000240" y="2143080"/>
              <a:ext cx="193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姓  名：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33"/>
            <p:cNvSpPr/>
            <p:nvPr/>
          </p:nvSpPr>
          <p:spPr>
            <a:xfrm>
              <a:off x="0" y="4000680"/>
              <a:ext cx="9144000" cy="831600"/>
            </a:xfrm>
            <a:prstGeom prst="rect">
              <a:avLst/>
            </a:prstGeom>
            <a:solidFill>
              <a:srgbClr val="007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4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51035E-006 L 0 -0.69324 E">
                                      <p:cBhvr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1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1799879">
                                      <p:cBhvr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4.19753E-006 C -0.06372 -0.00556 -0.30278 -0.02593 -0.38247 -0.03272 E">
                                      <p:cBhvr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1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2"/>
          <p:cNvSpPr/>
          <p:nvPr/>
        </p:nvSpPr>
        <p:spPr>
          <a:xfrm rot="19800000">
            <a:off x="-1081080" y="286920"/>
            <a:ext cx="4319640" cy="831960"/>
          </a:xfrm>
          <a:prstGeom prst="rect">
            <a:avLst/>
          </a:prstGeom>
          <a:solidFill>
            <a:srgbClr val="007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39"/>
          <p:cNvGrpSpPr/>
          <p:nvPr/>
        </p:nvGrpSpPr>
        <p:grpSpPr>
          <a:xfrm>
            <a:off x="4467240" y="568440"/>
            <a:ext cx="3535200" cy="1846440"/>
            <a:chOff x="4467240" y="568440"/>
            <a:chExt cx="3535200" cy="1846440"/>
          </a:xfrm>
        </p:grpSpPr>
        <p:grpSp>
          <p:nvGrpSpPr>
            <p:cNvPr id="53" name="组合 23"/>
            <p:cNvGrpSpPr/>
            <p:nvPr/>
          </p:nvGrpSpPr>
          <p:grpSpPr>
            <a:xfrm>
              <a:off x="4467240" y="568440"/>
              <a:ext cx="1168560" cy="1846440"/>
              <a:chOff x="4467240" y="568440"/>
              <a:chExt cx="1168560" cy="1846440"/>
            </a:xfrm>
          </p:grpSpPr>
          <p:sp>
            <p:nvSpPr>
              <p:cNvPr id="54" name="矩形 16"/>
              <p:cNvSpPr/>
              <p:nvPr/>
            </p:nvSpPr>
            <p:spPr>
              <a:xfrm>
                <a:off x="4573440" y="981000"/>
                <a:ext cx="904680" cy="87768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矩形 17"/>
              <p:cNvSpPr/>
              <p:nvPr/>
            </p:nvSpPr>
            <p:spPr>
              <a:xfrm>
                <a:off x="4467240" y="568440"/>
                <a:ext cx="116856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1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TextBox 15"/>
            <p:cNvSpPr/>
            <p:nvPr/>
          </p:nvSpPr>
          <p:spPr>
            <a:xfrm>
              <a:off x="5466960" y="1118880"/>
              <a:ext cx="253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自我介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41"/>
          <p:cNvGrpSpPr/>
          <p:nvPr/>
        </p:nvGrpSpPr>
        <p:grpSpPr>
          <a:xfrm>
            <a:off x="3733920" y="1779480"/>
            <a:ext cx="3214440" cy="1846440"/>
            <a:chOff x="3733920" y="1779480"/>
            <a:chExt cx="3214440" cy="1846440"/>
          </a:xfrm>
        </p:grpSpPr>
        <p:grpSp>
          <p:nvGrpSpPr>
            <p:cNvPr id="58" name="组合 24"/>
            <p:cNvGrpSpPr/>
            <p:nvPr/>
          </p:nvGrpSpPr>
          <p:grpSpPr>
            <a:xfrm>
              <a:off x="3733920" y="1779480"/>
              <a:ext cx="1168920" cy="1846440"/>
              <a:chOff x="3733920" y="1779480"/>
              <a:chExt cx="1168920" cy="1846440"/>
            </a:xfrm>
          </p:grpSpPr>
          <p:sp>
            <p:nvSpPr>
              <p:cNvPr id="59" name="矩形 25"/>
              <p:cNvSpPr/>
              <p:nvPr/>
            </p:nvSpPr>
            <p:spPr>
              <a:xfrm>
                <a:off x="3833640" y="2193840"/>
                <a:ext cx="90036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矩形 26"/>
              <p:cNvSpPr/>
              <p:nvPr/>
            </p:nvSpPr>
            <p:spPr>
              <a:xfrm>
                <a:off x="3733920" y="17794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2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40"/>
            <p:cNvSpPr/>
            <p:nvPr/>
          </p:nvSpPr>
          <p:spPr>
            <a:xfrm>
              <a:off x="4734000" y="2342880"/>
              <a:ext cx="221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为何而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43"/>
          <p:cNvGrpSpPr/>
          <p:nvPr/>
        </p:nvGrpSpPr>
        <p:grpSpPr>
          <a:xfrm>
            <a:off x="3025800" y="3003480"/>
            <a:ext cx="3071880" cy="1846440"/>
            <a:chOff x="3025800" y="3003480"/>
            <a:chExt cx="3071880" cy="1846440"/>
          </a:xfrm>
        </p:grpSpPr>
        <p:grpSp>
          <p:nvGrpSpPr>
            <p:cNvPr id="63" name="组合 27"/>
            <p:cNvGrpSpPr/>
            <p:nvPr/>
          </p:nvGrpSpPr>
          <p:grpSpPr>
            <a:xfrm>
              <a:off x="3025800" y="3003480"/>
              <a:ext cx="1168920" cy="1846440"/>
              <a:chOff x="3025800" y="3003480"/>
              <a:chExt cx="1168920" cy="1846440"/>
            </a:xfrm>
          </p:grpSpPr>
          <p:sp>
            <p:nvSpPr>
              <p:cNvPr id="64" name="矩形 28"/>
              <p:cNvSpPr/>
              <p:nvPr/>
            </p:nvSpPr>
            <p:spPr>
              <a:xfrm>
                <a:off x="3133440" y="3403440"/>
                <a:ext cx="901800" cy="878040"/>
              </a:xfrm>
              <a:prstGeom prst="rect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矩形 29"/>
              <p:cNvSpPr/>
              <p:nvPr/>
            </p:nvSpPr>
            <p:spPr>
              <a:xfrm>
                <a:off x="3025800" y="3003480"/>
                <a:ext cx="1168920" cy="18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500" spc="-1" strike="noStrike">
                    <a:solidFill>
                      <a:srgbClr val="ffffff"/>
                    </a:solidFill>
                    <a:latin typeface="Segoe WP"/>
                  </a:rPr>
                  <a:t>3</a:t>
                </a:r>
                <a:endParaRPr b="0" lang="en-US" sz="1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42"/>
            <p:cNvSpPr/>
            <p:nvPr/>
          </p:nvSpPr>
          <p:spPr>
            <a:xfrm>
              <a:off x="4025880" y="3545280"/>
              <a:ext cx="20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Georgia"/>
                  <a:ea typeface="微软雅黑"/>
                </a:rPr>
                <a:t>如何去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2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42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3"/>
          <p:cNvGrpSpPr/>
          <p:nvPr/>
        </p:nvGrpSpPr>
        <p:grpSpPr>
          <a:xfrm>
            <a:off x="-36360" y="-272880"/>
            <a:ext cx="1168200" cy="1846440"/>
            <a:chOff x="-36360" y="-272880"/>
            <a:chExt cx="1168200" cy="1846440"/>
          </a:xfrm>
        </p:grpSpPr>
        <p:sp>
          <p:nvSpPr>
            <p:cNvPr id="69" name="矩形 46"/>
            <p:cNvSpPr/>
            <p:nvPr/>
          </p:nvSpPr>
          <p:spPr>
            <a:xfrm>
              <a:off x="157320" y="133200"/>
              <a:ext cx="907920" cy="877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7"/>
            <p:cNvSpPr/>
            <p:nvPr/>
          </p:nvSpPr>
          <p:spPr>
            <a:xfrm>
              <a:off x="-36360" y="-27288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Box 44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45" descr="p_large_25FT_33570000228f5c16.jpg"/>
          <p:cNvPicPr/>
          <p:nvPr/>
        </p:nvPicPr>
        <p:blipFill>
          <a:blip r:embed="rId1"/>
          <a:stretch/>
        </p:blipFill>
        <p:spPr>
          <a:xfrm>
            <a:off x="1676520" y="774720"/>
            <a:ext cx="2700360" cy="732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47"/>
          <p:cNvSpPr/>
          <p:nvPr/>
        </p:nvSpPr>
        <p:spPr>
          <a:xfrm>
            <a:off x="4572000" y="11318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        名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8"/>
          <p:cNvSpPr/>
          <p:nvPr/>
        </p:nvSpPr>
        <p:spPr>
          <a:xfrm>
            <a:off x="4572000" y="14922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      院：土木与建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9"/>
          <p:cNvSpPr/>
          <p:nvPr/>
        </p:nvSpPr>
        <p:spPr>
          <a:xfrm>
            <a:off x="4572000" y="18511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        业：建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0"/>
          <p:cNvSpPr/>
          <p:nvPr/>
        </p:nvSpPr>
        <p:spPr>
          <a:xfrm>
            <a:off x="4572000" y="22114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        号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4572000" y="2571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籍        贯：湖北省武汉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2"/>
          <p:cNvSpPr/>
          <p:nvPr/>
        </p:nvSpPr>
        <p:spPr>
          <a:xfrm>
            <a:off x="4572000" y="29322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任职位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3"/>
          <p:cNvSpPr/>
          <p:nvPr/>
        </p:nvSpPr>
        <p:spPr>
          <a:xfrm>
            <a:off x="4572000" y="35798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竞选职位：主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4"/>
          <p:cNvSpPr/>
          <p:nvPr/>
        </p:nvSpPr>
        <p:spPr>
          <a:xfrm>
            <a:off x="5797440" y="29448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土建学院青年志愿者服务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宣传部部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7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-36360" y="-272880"/>
            <a:ext cx="1168200" cy="1846440"/>
            <a:chOff x="-36360" y="-272880"/>
            <a:chExt cx="1168200" cy="1846440"/>
          </a:xfrm>
        </p:grpSpPr>
        <p:sp>
          <p:nvSpPr>
            <p:cNvPr id="83" name="矩形 46"/>
            <p:cNvSpPr/>
            <p:nvPr/>
          </p:nvSpPr>
          <p:spPr>
            <a:xfrm>
              <a:off x="157320" y="133200"/>
              <a:ext cx="907920" cy="8776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-36360" y="-27288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1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5"/>
          <p:cNvSpPr/>
          <p:nvPr/>
        </p:nvSpPr>
        <p:spPr>
          <a:xfrm>
            <a:off x="4643280" y="14112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荣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076720" y="1957320"/>
            <a:ext cx="37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级优秀青年志愿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盘路小学授予“先进个人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等奖学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广场”模型制作比赛三等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钢笔手绘”比赛优胜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9" descr="p_large_25FT_33570000228f5c16.jpg"/>
          <p:cNvPicPr/>
          <p:nvPr/>
        </p:nvPicPr>
        <p:blipFill>
          <a:blip r:embed="rId1"/>
          <a:stretch/>
        </p:blipFill>
        <p:spPr>
          <a:xfrm>
            <a:off x="1676520" y="774720"/>
            <a:ext cx="2700360" cy="7321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4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57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4"/>
          <p:cNvGrpSpPr/>
          <p:nvPr/>
        </p:nvGrpSpPr>
        <p:grpSpPr>
          <a:xfrm>
            <a:off x="-36360" y="-285840"/>
            <a:ext cx="1168200" cy="1846440"/>
            <a:chOff x="-36360" y="-285840"/>
            <a:chExt cx="1168200" cy="1846440"/>
          </a:xfrm>
        </p:grpSpPr>
        <p:sp>
          <p:nvSpPr>
            <p:cNvPr id="91" name="矩形 48"/>
            <p:cNvSpPr/>
            <p:nvPr/>
          </p:nvSpPr>
          <p:spPr>
            <a:xfrm>
              <a:off x="128520" y="131760"/>
              <a:ext cx="906480" cy="87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26"/>
            <p:cNvSpPr/>
            <p:nvPr/>
          </p:nvSpPr>
          <p:spPr>
            <a:xfrm>
              <a:off x="-36360" y="-28584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2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56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何而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78"/>
          <p:cNvGrpSpPr/>
          <p:nvPr/>
        </p:nvGrpSpPr>
        <p:grpSpPr>
          <a:xfrm>
            <a:off x="2214720" y="2994120"/>
            <a:ext cx="4518000" cy="863640"/>
            <a:chOff x="2214720" y="2994120"/>
            <a:chExt cx="4518000" cy="863640"/>
          </a:xfrm>
        </p:grpSpPr>
        <p:sp>
          <p:nvSpPr>
            <p:cNvPr id="95" name="矩形 7"/>
            <p:cNvSpPr/>
            <p:nvPr/>
          </p:nvSpPr>
          <p:spPr>
            <a:xfrm>
              <a:off x="2260440" y="3065400"/>
              <a:ext cx="50148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8"/>
            <p:cNvSpPr/>
            <p:nvPr/>
          </p:nvSpPr>
          <p:spPr>
            <a:xfrm>
              <a:off x="2214720" y="2994120"/>
              <a:ext cx="4518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73"/>
            <p:cNvSpPr/>
            <p:nvPr/>
          </p:nvSpPr>
          <p:spPr>
            <a:xfrm>
              <a:off x="2815560" y="3102120"/>
              <a:ext cx="385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寻求更大的平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77"/>
          <p:cNvGrpSpPr/>
          <p:nvPr/>
        </p:nvGrpSpPr>
        <p:grpSpPr>
          <a:xfrm>
            <a:off x="2214720" y="1494000"/>
            <a:ext cx="4518000" cy="863280"/>
            <a:chOff x="2214720" y="1494000"/>
            <a:chExt cx="4518000" cy="863280"/>
          </a:xfrm>
        </p:grpSpPr>
        <p:sp>
          <p:nvSpPr>
            <p:cNvPr id="99" name="矩形 11"/>
            <p:cNvSpPr/>
            <p:nvPr/>
          </p:nvSpPr>
          <p:spPr>
            <a:xfrm>
              <a:off x="2214720" y="1494000"/>
              <a:ext cx="4518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75"/>
            <p:cNvSpPr/>
            <p:nvPr/>
          </p:nvSpPr>
          <p:spPr>
            <a:xfrm>
              <a:off x="2762280" y="1601640"/>
              <a:ext cx="393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热爱志愿者工作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3"/>
            <p:cNvSpPr/>
            <p:nvPr/>
          </p:nvSpPr>
          <p:spPr>
            <a:xfrm>
              <a:off x="2260440" y="1565280"/>
              <a:ext cx="50148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58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27"/>
          <p:cNvGrpSpPr/>
          <p:nvPr/>
        </p:nvGrpSpPr>
        <p:grpSpPr>
          <a:xfrm>
            <a:off x="-36360" y="-290520"/>
            <a:ext cx="1168200" cy="1846440"/>
            <a:chOff x="-36360" y="-290520"/>
            <a:chExt cx="1168200" cy="1846440"/>
          </a:xfrm>
        </p:grpSpPr>
        <p:sp>
          <p:nvSpPr>
            <p:cNvPr id="104" name="矩形 59"/>
            <p:cNvSpPr/>
            <p:nvPr/>
          </p:nvSpPr>
          <p:spPr>
            <a:xfrm>
              <a:off x="138240" y="115920"/>
              <a:ext cx="904680" cy="87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29"/>
            <p:cNvSpPr/>
            <p:nvPr/>
          </p:nvSpPr>
          <p:spPr>
            <a:xfrm>
              <a:off x="-36360" y="-29052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56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1979640" y="20667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中心，两个基本点，三个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58"/>
          <p:cNvSpPr/>
          <p:nvPr/>
        </p:nvSpPr>
        <p:spPr>
          <a:xfrm>
            <a:off x="0" y="0"/>
            <a:ext cx="1403280" cy="514368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7"/>
          <p:cNvGrpSpPr/>
          <p:nvPr/>
        </p:nvGrpSpPr>
        <p:grpSpPr>
          <a:xfrm>
            <a:off x="-36360" y="-290520"/>
            <a:ext cx="1168200" cy="1846440"/>
            <a:chOff x="-36360" y="-290520"/>
            <a:chExt cx="1168200" cy="1846440"/>
          </a:xfrm>
        </p:grpSpPr>
        <p:sp>
          <p:nvSpPr>
            <p:cNvPr id="110" name="矩形 59"/>
            <p:cNvSpPr/>
            <p:nvPr/>
          </p:nvSpPr>
          <p:spPr>
            <a:xfrm>
              <a:off x="138240" y="115920"/>
              <a:ext cx="904680" cy="87804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29"/>
            <p:cNvSpPr/>
            <p:nvPr/>
          </p:nvSpPr>
          <p:spPr>
            <a:xfrm>
              <a:off x="-36360" y="-290520"/>
              <a:ext cx="116820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ffffff"/>
                  </a:solidFill>
                  <a:latin typeface="Segoe WP"/>
                </a:rPr>
                <a:t>3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56"/>
          <p:cNvSpPr/>
          <p:nvPr/>
        </p:nvSpPr>
        <p:spPr>
          <a:xfrm>
            <a:off x="-215640" y="1851120"/>
            <a:ext cx="127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去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979640" y="20667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中心，两个基本点，三个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78"/>
          <p:cNvGrpSpPr/>
          <p:nvPr/>
        </p:nvGrpSpPr>
        <p:grpSpPr>
          <a:xfrm>
            <a:off x="2214720" y="2319480"/>
            <a:ext cx="6480000" cy="863280"/>
            <a:chOff x="2214720" y="2319480"/>
            <a:chExt cx="6480000" cy="863280"/>
          </a:xfrm>
        </p:grpSpPr>
        <p:sp>
          <p:nvSpPr>
            <p:cNvPr id="115" name="矩形 8"/>
            <p:cNvSpPr/>
            <p:nvPr/>
          </p:nvSpPr>
          <p:spPr>
            <a:xfrm>
              <a:off x="2281320" y="239076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9"/>
            <p:cNvSpPr/>
            <p:nvPr/>
          </p:nvSpPr>
          <p:spPr>
            <a:xfrm>
              <a:off x="2214720" y="2319480"/>
              <a:ext cx="6480000" cy="8632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73"/>
            <p:cNvSpPr/>
            <p:nvPr/>
          </p:nvSpPr>
          <p:spPr>
            <a:xfrm>
              <a:off x="2988000" y="2499840"/>
              <a:ext cx="552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引进来”与“走出去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77"/>
          <p:cNvGrpSpPr/>
          <p:nvPr/>
        </p:nvGrpSpPr>
        <p:grpSpPr>
          <a:xfrm>
            <a:off x="2214720" y="1285920"/>
            <a:ext cx="6480000" cy="863640"/>
            <a:chOff x="2214720" y="1285920"/>
            <a:chExt cx="6480000" cy="863640"/>
          </a:xfrm>
        </p:grpSpPr>
        <p:sp>
          <p:nvSpPr>
            <p:cNvPr id="119" name="矩形 12"/>
            <p:cNvSpPr/>
            <p:nvPr/>
          </p:nvSpPr>
          <p:spPr>
            <a:xfrm>
              <a:off x="2214720" y="128592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75"/>
            <p:cNvSpPr/>
            <p:nvPr/>
          </p:nvSpPr>
          <p:spPr>
            <a:xfrm>
              <a:off x="3000240" y="147780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以“特色活动”为中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4"/>
            <p:cNvSpPr/>
            <p:nvPr/>
          </p:nvSpPr>
          <p:spPr>
            <a:xfrm>
              <a:off x="2279520" y="1357200"/>
              <a:ext cx="7207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78"/>
          <p:cNvGrpSpPr/>
          <p:nvPr/>
        </p:nvGrpSpPr>
        <p:grpSpPr>
          <a:xfrm>
            <a:off x="2214720" y="3351240"/>
            <a:ext cx="6516360" cy="863640"/>
            <a:chOff x="2214720" y="3351240"/>
            <a:chExt cx="6516360" cy="863640"/>
          </a:xfrm>
        </p:grpSpPr>
        <p:sp>
          <p:nvSpPr>
            <p:cNvPr id="123" name="矩形 16"/>
            <p:cNvSpPr/>
            <p:nvPr/>
          </p:nvSpPr>
          <p:spPr>
            <a:xfrm>
              <a:off x="2281320" y="3422520"/>
              <a:ext cx="718920" cy="7207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3.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7"/>
            <p:cNvSpPr/>
            <p:nvPr/>
          </p:nvSpPr>
          <p:spPr>
            <a:xfrm>
              <a:off x="2214720" y="3351240"/>
              <a:ext cx="6480000" cy="86364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73"/>
            <p:cNvSpPr/>
            <p:nvPr/>
          </p:nvSpPr>
          <p:spPr>
            <a:xfrm>
              <a:off x="2987640" y="3550320"/>
              <a:ext cx="57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强化自身，强化负责精神，强化综合协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5713E-006 L -0.04722 -0.28907 E">
                                      <p:cBhvr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4"/>
          <p:cNvSpPr/>
          <p:nvPr/>
        </p:nvSpPr>
        <p:spPr>
          <a:xfrm flipH="1">
            <a:off x="-9159120" y="0"/>
            <a:ext cx="1087308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071800" y="2109960"/>
            <a:ext cx="50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52"/>
          <p:cNvGrpSpPr/>
          <p:nvPr/>
        </p:nvGrpSpPr>
        <p:grpSpPr>
          <a:xfrm>
            <a:off x="1328760" y="4643280"/>
            <a:ext cx="825480" cy="216000"/>
            <a:chOff x="1328760" y="4643280"/>
            <a:chExt cx="825480" cy="216000"/>
          </a:xfrm>
        </p:grpSpPr>
        <p:sp>
          <p:nvSpPr>
            <p:cNvPr id="129" name="燕尾形 26"/>
            <p:cNvSpPr/>
            <p:nvPr/>
          </p:nvSpPr>
          <p:spPr>
            <a:xfrm>
              <a:off x="13287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燕尾形 27"/>
            <p:cNvSpPr/>
            <p:nvPr/>
          </p:nvSpPr>
          <p:spPr>
            <a:xfrm>
              <a:off x="148104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燕尾形 28"/>
            <p:cNvSpPr/>
            <p:nvPr/>
          </p:nvSpPr>
          <p:spPr>
            <a:xfrm>
              <a:off x="163368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燕尾形 29"/>
            <p:cNvSpPr/>
            <p:nvPr/>
          </p:nvSpPr>
          <p:spPr>
            <a:xfrm>
              <a:off x="178596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燕尾形 30"/>
            <p:cNvSpPr/>
            <p:nvPr/>
          </p:nvSpPr>
          <p:spPr>
            <a:xfrm>
              <a:off x="1938600" y="4643280"/>
              <a:ext cx="215640" cy="216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66"/>
          <p:cNvSpPr/>
          <p:nvPr/>
        </p:nvSpPr>
        <p:spPr>
          <a:xfrm>
            <a:off x="8658720" y="4000680"/>
            <a:ext cx="6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67"/>
          <p:cNvGrpSpPr/>
          <p:nvPr/>
        </p:nvGrpSpPr>
        <p:grpSpPr>
          <a:xfrm>
            <a:off x="8874360" y="4332240"/>
            <a:ext cx="599760" cy="821880"/>
            <a:chOff x="8874360" y="4332240"/>
            <a:chExt cx="599760" cy="821880"/>
          </a:xfrm>
        </p:grpSpPr>
        <p:sp>
          <p:nvSpPr>
            <p:cNvPr id="136" name="燕尾形 68"/>
            <p:cNvSpPr/>
            <p:nvPr/>
          </p:nvSpPr>
          <p:spPr>
            <a:xfrm rot="14400000">
              <a:off x="9219600" y="4899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燕尾形 69"/>
            <p:cNvSpPr/>
            <p:nvPr/>
          </p:nvSpPr>
          <p:spPr>
            <a:xfrm rot="14400000">
              <a:off x="9143640" y="47689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燕尾形 70"/>
            <p:cNvSpPr/>
            <p:nvPr/>
          </p:nvSpPr>
          <p:spPr>
            <a:xfrm rot="14400000">
              <a:off x="9068040" y="463824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燕尾形 71"/>
            <p:cNvSpPr/>
            <p:nvPr/>
          </p:nvSpPr>
          <p:spPr>
            <a:xfrm rot="14400000">
              <a:off x="8990640" y="450360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燕尾形 72"/>
            <p:cNvSpPr/>
            <p:nvPr/>
          </p:nvSpPr>
          <p:spPr>
            <a:xfrm rot="14400000">
              <a:off x="8913600" y="4371120"/>
              <a:ext cx="214560" cy="2152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 -1.56318E-006 L 0.81129 -1.56318E-006 E">
                                      <p:cBhvr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3.39203E-006 L 0.81233 -3.39203E-006 E">
                                      <p:cBhvr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7199880">
                                      <p:cBhvr>
                                        <p:cTn id="111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11022E-016 -2.59259E-006 C -0.0066 -0.10494 -0.00937 -0.53055 -0.03993 -0.62994 C -0.07049 -0.72932 -0.11806 -0.61389 -0.18368 -0.5966 C -0.24931 -0.57932 -0.34427 -0.56358 -0.43368 -0.52531 C -0.52309 -0.48703 -0.66024 -0.40031 -0.71997 -0.36759 E">
                                      <p:cBhvr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0">
                                  <p:stCondLst>
                                    <p:cond delay="1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4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1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18:25:0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21:25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