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B85-572F-46D1-AD57-C5E49340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7D3-7937-4D2B-92CF-10F27846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C86-9699-42FD-8A90-31EBC2B6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B2E-8D2A-4280-9082-B16A0EAC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B19-B56A-4497-98E5-6D5503D6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E75-69B1-42B4-A40B-728475A8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FC7-F233-42A4-8B9F-A74067BB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66D-B51C-4410-9ADC-F39E961A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2FF-51E1-488A-8875-99034806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97E-C2AA-4EE6-911C-BB4F2913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6B8-79DF-462D-8A2C-E556A41C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9B9-C2A6-42C2-A5BD-D6D66AE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52EA-61AF-44DF-92FC-DCFC67807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26"/>
          <p:cNvSpPr txBox="1"/>
          <p:nvPr/>
        </p:nvSpPr>
        <p:spPr>
          <a:xfrm>
            <a:off x="3276720" y="2205000"/>
            <a:ext cx="3504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cc33"/>
                </a:solidFill>
                <a:latin typeface="宋体"/>
              </a:rPr>
              <a:t>假如</a:t>
            </a:r>
            <a:endParaRPr b="1" lang="en-US" sz="6000" spc="-1" strike="noStrike">
              <a:ln w="9360">
                <a:solidFill>
                  <a:srgbClr val="ff0000"/>
                </a:solidFill>
                <a:miter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607-4035-47E7-8831-F3B1205558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2655000" y="1413000"/>
            <a:ext cx="39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红红的太阳       许多好吃的谷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健康的身体        快活地成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9680" y="328464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寒冷的北风     缩着身子     轻轻叹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32760" y="407664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幸的朋友    苦苦等待      饿得哭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774440" y="1260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我要给窗前的小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画一个红红的太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745640" y="34606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我要给树上的小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画许多好吃的谷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007680" y="11970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我一定给不幸的朋友西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018840" y="240048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画一双好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还他一个健康的身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5141880" y="2384280"/>
            <a:ext cx="174600" cy="763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5445000" y="2384280"/>
            <a:ext cx="174600" cy="763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3"/>
          <p:cNvGrpSpPr/>
          <p:nvPr/>
        </p:nvGrpSpPr>
        <p:grpSpPr>
          <a:xfrm>
            <a:off x="5404320" y="4076640"/>
            <a:ext cx="2540520" cy="2451240"/>
            <a:chOff x="5404320" y="4076640"/>
            <a:chExt cx="2540520" cy="2451240"/>
          </a:xfrm>
        </p:grpSpPr>
        <p:sp>
          <p:nvSpPr>
            <p:cNvPr id="52" name="Text Box 5"/>
            <p:cNvSpPr/>
            <p:nvPr/>
          </p:nvSpPr>
          <p:spPr>
            <a:xfrm>
              <a:off x="5404320" y="40766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让小树在冬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0"/>
            <p:cNvSpPr/>
            <p:nvPr/>
          </p:nvSpPr>
          <p:spPr>
            <a:xfrm>
              <a:off x="6934680" y="594648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缩着身子，轻轻地叹息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5569560" y="527328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不会在寒冷的北风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5487480" y="467460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也能快活地成长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23"/>
          <p:cNvGrpSpPr/>
          <p:nvPr/>
        </p:nvGrpSpPr>
        <p:grpSpPr>
          <a:xfrm>
            <a:off x="4114800" y="0"/>
            <a:ext cx="5029200" cy="4106880"/>
            <a:chOff x="4114800" y="0"/>
            <a:chExt cx="5029200" cy="4106880"/>
          </a:xfrm>
        </p:grpSpPr>
        <p:pic>
          <p:nvPicPr>
            <p:cNvPr id="57" name="Picture 20" descr="bj3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41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Object 21" descr=""/>
            <p:cNvPicPr/>
            <p:nvPr/>
          </p:nvPicPr>
          <p:blipFill>
            <a:blip r:embed="rId2"/>
            <a:stretch/>
          </p:blipFill>
          <p:spPr>
            <a:xfrm>
              <a:off x="4114800" y="228600"/>
              <a:ext cx="1828800" cy="172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Sr14711"/>
          <p:cNvPicPr/>
          <p:nvPr/>
        </p:nvPicPr>
        <p:blipFill>
          <a:blip r:embed="rId3"/>
          <a:stretch/>
        </p:blipFill>
        <p:spPr>
          <a:xfrm>
            <a:off x="0" y="2828880"/>
            <a:ext cx="4572000" cy="4029120"/>
          </a:xfrm>
          <a:prstGeom prst="rect">
            <a:avLst/>
          </a:prstGeom>
          <a:ln w="0">
            <a:noFill/>
          </a:ln>
        </p:spPr>
      </p:pic>
      <p:pic>
        <p:nvPicPr>
          <p:cNvPr id="60" name="Wind13.wav" descr=""/>
          <p:cNvPicPr/>
          <p:nvPr/>
        </p:nvPicPr>
        <p:blipFill>
          <a:blip r:embed="rId4"/>
          <a:stretch/>
        </p:blipFill>
        <p:spPr>
          <a:xfrm>
            <a:off x="228600" y="2895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36"/>
          <p:cNvGrpSpPr/>
          <p:nvPr/>
        </p:nvGrpSpPr>
        <p:grpSpPr>
          <a:xfrm>
            <a:off x="956160" y="380880"/>
            <a:ext cx="2341440" cy="2135520"/>
            <a:chOff x="956160" y="380880"/>
            <a:chExt cx="2341440" cy="2135520"/>
          </a:xfrm>
        </p:grpSpPr>
        <p:sp>
          <p:nvSpPr>
            <p:cNvPr id="62" name="Text Box 31"/>
            <p:cNvSpPr/>
            <p:nvPr/>
          </p:nvSpPr>
          <p:spPr>
            <a:xfrm>
              <a:off x="1976040" y="1935000"/>
              <a:ext cx="98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画一个红红的太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32"/>
            <p:cNvSpPr/>
            <p:nvPr/>
          </p:nvSpPr>
          <p:spPr>
            <a:xfrm>
              <a:off x="1484280" y="3808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假如我有一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956160" y="9144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马良的神笔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35"/>
            <p:cNvSpPr/>
            <p:nvPr/>
          </p:nvSpPr>
          <p:spPr>
            <a:xfrm>
              <a:off x="1166040" y="144756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我要给窗前的小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36504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2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8" name="Picture 4" descr="bj6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7"/>
            <p:cNvSpPr/>
            <p:nvPr/>
          </p:nvSpPr>
          <p:spPr>
            <a:xfrm>
              <a:off x="3305520" y="441972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苦苦等待，饿得哭泣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8"/>
            <p:cNvSpPr/>
            <p:nvPr/>
          </p:nvSpPr>
          <p:spPr>
            <a:xfrm>
              <a:off x="2411280" y="2895480"/>
              <a:ext cx="317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鸟妈妈再也不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9"/>
            <p:cNvSpPr/>
            <p:nvPr/>
          </p:nvSpPr>
          <p:spPr>
            <a:xfrm>
              <a:off x="3237120" y="342900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到遥远的地方去寻食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3142440" y="391644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让小鸟呆在家里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9"/>
            <p:cNvSpPr/>
            <p:nvPr/>
          </p:nvSpPr>
          <p:spPr>
            <a:xfrm>
              <a:off x="2514600" y="2133720"/>
              <a:ext cx="411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画许多好吃的谷粒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2438280" y="68580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假如我有一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2"/>
            <p:cNvSpPr/>
            <p:nvPr/>
          </p:nvSpPr>
          <p:spPr>
            <a:xfrm>
              <a:off x="2927520" y="11430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马良的神笔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3"/>
            <p:cNvSpPr/>
            <p:nvPr/>
          </p:nvSpPr>
          <p:spPr>
            <a:xfrm>
              <a:off x="3090240" y="160020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我要给树上的小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bj00"/>
          <p:cNvPicPr/>
          <p:nvPr/>
        </p:nvPicPr>
        <p:blipFill>
          <a:blip r:embed="rId1"/>
          <a:stretch/>
        </p:blipFill>
        <p:spPr>
          <a:xfrm>
            <a:off x="0" y="3344760"/>
            <a:ext cx="4572000" cy="3513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00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481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5601960" y="3733920"/>
            <a:ext cx="2527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他再也不会只坐在屋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望着窗外的小树和飞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而是和我们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操场上奔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草地上游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ZJEAV7.WAV" descr=""/>
          <p:cNvPicPr/>
          <p:nvPr/>
        </p:nvPicPr>
        <p:blipFill>
          <a:blip r:embed="rId3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6"/>
          <p:cNvGrpSpPr/>
          <p:nvPr/>
        </p:nvGrpSpPr>
        <p:grpSpPr>
          <a:xfrm>
            <a:off x="250920" y="260280"/>
            <a:ext cx="4645080" cy="2244240"/>
            <a:chOff x="250920" y="260280"/>
            <a:chExt cx="4645080" cy="2244240"/>
          </a:xfrm>
        </p:grpSpPr>
        <p:sp>
          <p:nvSpPr>
            <p:cNvPr id="82" name="Rectangle 14"/>
            <p:cNvSpPr/>
            <p:nvPr/>
          </p:nvSpPr>
          <p:spPr>
            <a:xfrm>
              <a:off x="250920" y="260280"/>
              <a:ext cx="457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假如我有一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马良的神笔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我一定给不幸的朋友西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>
              <a:off x="324000" y="1557360"/>
              <a:ext cx="457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画一双好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还他一个健康的身体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910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j00"/>
          <p:cNvPicPr/>
          <p:nvPr/>
        </p:nvPicPr>
        <p:blipFill>
          <a:blip r:embed="rId1"/>
          <a:stretch/>
        </p:blipFill>
        <p:spPr>
          <a:xfrm>
            <a:off x="0" y="3344760"/>
            <a:ext cx="4572000" cy="351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00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4815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601960" y="3733920"/>
            <a:ext cx="2527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他再也不会只坐在屋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望着窗外的小树和飞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而是和我们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操场上奔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草地上游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250920" y="260280"/>
            <a:ext cx="4645080" cy="2244240"/>
            <a:chOff x="250920" y="260280"/>
            <a:chExt cx="4645080" cy="2244240"/>
          </a:xfrm>
        </p:grpSpPr>
        <p:sp>
          <p:nvSpPr>
            <p:cNvPr id="88" name="Rectangle 7"/>
            <p:cNvSpPr/>
            <p:nvPr/>
          </p:nvSpPr>
          <p:spPr>
            <a:xfrm>
              <a:off x="250920" y="260280"/>
              <a:ext cx="457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假如我有一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马良的神笔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我一定给不幸的朋友西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324000" y="1557360"/>
              <a:ext cx="457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画一双好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还他一个健康的身体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2794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09480" y="762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2034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1752480" y="220968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1828800" y="266688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1371600" y="266688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2286000" y="1523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我要给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画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让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。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假如人人都有一颗爱心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世界将变成美好的人间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07:27:5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55:14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