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gif" ContentType="image/gif"/>
  <Override PartName="/ppt/media/image8.jpeg" ContentType="image/jpeg"/>
  <Override PartName="/ppt/media/image9.png" ContentType="image/png"/>
  <Override PartName="/ppt/media/image10.gif" ContentType="image/gif"/>
  <Override PartName="/ppt/media/image11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02E-FC1E-4DFD-A8B9-F49C0A7A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4C2-A305-4998-A561-9ADB6764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14AF-E6AC-479A-A098-E65E2F11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F9D-A12C-44DD-80DF-3A565708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2993-8CF0-49BA-97EB-B0E7505C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302-66B2-414D-85DC-A7A69F07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78A4-E0B5-4B75-A71D-A39E445F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457-895C-4A83-8493-5F86C94C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2CD-E877-499B-9B96-F09995EE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4A33-A767-4949-9EC7-06438314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1555-EE9F-4A12-B4EF-DE42EFB5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ADA3-3BE5-444D-ACF1-6B816939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DB6D-7F09-400D-9478-BAF4E28B8B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11" descr="200912604334787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003"/>
          <p:cNvPicPr/>
          <p:nvPr/>
        </p:nvPicPr>
        <p:blipFill>
          <a:blip r:embed="rId2"/>
          <a:stretch/>
        </p:blipFill>
        <p:spPr>
          <a:xfrm>
            <a:off x="0" y="191628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3181680" y="614520"/>
            <a:ext cx="225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、检阅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7"/>
          <p:cNvSpPr/>
          <p:nvPr/>
        </p:nvSpPr>
        <p:spPr>
          <a:xfrm>
            <a:off x="1258920" y="746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20094220165999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2743200" y="1890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自主学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1341360"/>
            <a:ext cx="8381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朗读课文一遍，读准字音，弄清课文大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思考：文中写了关于检阅的哪几件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200973020146936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130"/>
          <p:cNvPicPr/>
          <p:nvPr/>
        </p:nvPicPr>
        <p:blipFill>
          <a:blip r:embed="rId3"/>
          <a:stretch/>
        </p:blipFill>
        <p:spPr>
          <a:xfrm>
            <a:off x="0" y="0"/>
            <a:ext cx="62856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002041"/>
          <p:cNvPicPr/>
          <p:nvPr/>
        </p:nvPicPr>
        <p:blipFill>
          <a:blip r:embed="rId4"/>
          <a:stretch/>
        </p:blipFill>
        <p:spPr>
          <a:xfrm>
            <a:off x="4800600" y="304920"/>
            <a:ext cx="3848040" cy="7239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838080" y="685800"/>
            <a:ext cx="79250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检阅  俱乐部   挑选   商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截肢  队伍   沉默    局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方便   羡慕   盛大    隆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街道   观众   纠正    淹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人山人海   鸦雀无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200981621926736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468360" y="981000"/>
            <a:ext cx="8445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选择本组喜欢的自然段进行学习。要求用自己的语言介绍本段所讲内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小组内解决课后第二题并提出课文中自己弄不懂的地方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971800" y="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合作学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20098722272333032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539640" y="3068640"/>
            <a:ext cx="60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这个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小伙子真棒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这些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小伙子真棒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9640" y="76500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思考：观众们为什么有不同的说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7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391520" y="6019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48:13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15:57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