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B3F-CC3A-48BC-A0EC-A43B01F1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795-E345-4177-895C-C74EA2AC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57D-1DBE-4D76-8F43-5F70DB5B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A2E-C321-4508-A4D1-A9C44CC8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360-C272-4949-9981-5D5195F7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3B5-BF72-4A7E-BCA0-50234E93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020-AD87-4C3B-9988-E6806987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6BD-5CA8-4B16-A1F9-9C32C359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321-22D7-46D3-A50A-EA860F40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E8C-5458-4F64-8AAE-FBD9B4F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99F-2FF9-4664-81CA-8D94A279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916-B192-4946-A5AE-665896DF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835D-435C-443E-9E5E-BE0FBA3387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5B4E-6DC7-4E9B-9FB8-330B5131AB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6c29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"/>
          <p:cNvSpPr/>
          <p:nvPr/>
        </p:nvSpPr>
        <p:spPr>
          <a:xfrm>
            <a:off x="0" y="4680"/>
            <a:ext cx="5148360" cy="6858000"/>
          </a:xfrm>
          <a:prstGeom prst="rect">
            <a:avLst/>
          </a:prstGeom>
          <a:solidFill>
            <a:srgbClr val="b6c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5148360" y="0"/>
            <a:ext cx="1295280" cy="685800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6443640" y="0"/>
            <a:ext cx="1297080" cy="6858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7740720" y="0"/>
            <a:ext cx="792000" cy="6858000"/>
          </a:xfrm>
          <a:prstGeom prst="rect">
            <a:avLst/>
          </a:prstGeom>
          <a:solidFill>
            <a:srgbClr val="e58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532720" y="0"/>
            <a:ext cx="611280" cy="6858000"/>
          </a:xfrm>
          <a:prstGeom prst="rect">
            <a:avLst/>
          </a:prstGeom>
          <a:solidFill>
            <a:srgbClr val="dc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8532720" y="0"/>
            <a:ext cx="611280" cy="6858000"/>
          </a:xfrm>
          <a:prstGeom prst="rect">
            <a:avLst/>
          </a:prstGeom>
          <a:solidFill>
            <a:srgbClr val="dc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7740720" y="0"/>
            <a:ext cx="792000" cy="6858000"/>
          </a:xfrm>
          <a:prstGeom prst="rect">
            <a:avLst/>
          </a:prstGeom>
          <a:solidFill>
            <a:srgbClr val="e58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6443640" y="4680"/>
            <a:ext cx="1297080" cy="6858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5148360" y="0"/>
            <a:ext cx="1295280" cy="685800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0" y="4680"/>
            <a:ext cx="9144000" cy="6858000"/>
          </a:xfrm>
          <a:prstGeom prst="rect">
            <a:avLst/>
          </a:prstGeom>
          <a:solidFill>
            <a:srgbClr val="b6c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 rot="16200000">
            <a:off x="3793320" y="1507320"/>
            <a:ext cx="1557360" cy="9144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6516720" y="0"/>
            <a:ext cx="2627280" cy="530064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Picture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0" y="0"/>
            <a:ext cx="6516720" cy="5300640"/>
          </a:xfrm>
          <a:prstGeom prst="rect">
            <a:avLst/>
          </a:prstGeom>
          <a:solidFill>
            <a:srgbClr val="dc571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e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6372360" y="3139920"/>
            <a:ext cx="2771640" cy="3718080"/>
          </a:xfrm>
          <a:prstGeom prst="rect">
            <a:avLst/>
          </a:prstGeom>
          <a:solidFill>
            <a:srgbClr val="dc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-12600" y="0"/>
            <a:ext cx="6372000" cy="216072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it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372360" y="4680"/>
            <a:ext cx="2771640" cy="313524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-12600" y="2160720"/>
            <a:ext cx="6372000" cy="4697280"/>
          </a:xfrm>
          <a:prstGeom prst="rect">
            <a:avLst/>
          </a:prstGeom>
          <a:solidFill>
            <a:srgbClr val="8a977b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Administrator\Desktop\自制ppt\1.png"/>
          <p:cNvPicPr/>
          <p:nvPr/>
        </p:nvPicPr>
        <p:blipFill>
          <a:blip r:embed="rId1"/>
          <a:stretch/>
        </p:blipFill>
        <p:spPr>
          <a:xfrm>
            <a:off x="-20520" y="3240"/>
            <a:ext cx="1671480" cy="502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Administrator\Desktop\自制ppt\2.png"/>
          <p:cNvPicPr/>
          <p:nvPr/>
        </p:nvPicPr>
        <p:blipFill>
          <a:blip r:embed="rId2"/>
          <a:stretch/>
        </p:blipFill>
        <p:spPr>
          <a:xfrm>
            <a:off x="6948360" y="2651040"/>
            <a:ext cx="2382840" cy="4206960"/>
          </a:xfrm>
          <a:prstGeom prst="rect">
            <a:avLst/>
          </a:prstGeom>
          <a:ln w="0">
            <a:noFill/>
          </a:ln>
        </p:spPr>
      </p:pic>
      <p:sp>
        <p:nvSpPr>
          <p:cNvPr id="61" name="矩形 3"/>
          <p:cNvSpPr/>
          <p:nvPr/>
        </p:nvSpPr>
        <p:spPr>
          <a:xfrm>
            <a:off x="2039760" y="765000"/>
            <a:ext cx="1447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2529000" y="765000"/>
            <a:ext cx="429084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Tittle  he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7164360" y="76500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2529000" y="1557360"/>
            <a:ext cx="4290840" cy="4248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7164360" y="1557360"/>
            <a:ext cx="144360" cy="42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039760" y="7112160"/>
            <a:ext cx="1447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529000" y="5805360"/>
            <a:ext cx="429084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2529000" y="1557360"/>
            <a:ext cx="4290840" cy="42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51181 -2.22222E-006 L 5.55556E-007 -2.22222E-006 E">
                                      <p:cBhvr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"/>
                            </p:stCondLst>
                            <p:childTnLst>
                              <p:par>
                                <p:cTn id="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"/>
                            </p:stCondLst>
                            <p:childTnLst>
                              <p:par>
                                <p:cTn id="10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"/>
                            </p:stCondLst>
                            <p:childTnLst>
                              <p:par>
                                <p:cTn id="10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879 -0.19351 L 0.00139 -0.1905 E">
                                      <p:cBhvr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Administrator\Desktop\自制ppt\未标题-13.png"/>
          <p:cNvPicPr/>
          <p:nvPr/>
        </p:nvPicPr>
        <p:blipFill>
          <a:blip r:embed="rId1"/>
          <a:stretch/>
        </p:blipFill>
        <p:spPr>
          <a:xfrm>
            <a:off x="0" y="4149720"/>
            <a:ext cx="3794040" cy="333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Administrator\Desktop\自制ppt\未标题-10.png"/>
          <p:cNvPicPr/>
          <p:nvPr/>
        </p:nvPicPr>
        <p:blipFill>
          <a:blip r:embed="rId2"/>
          <a:stretch/>
        </p:blipFill>
        <p:spPr>
          <a:xfrm>
            <a:off x="2444760" y="-279360"/>
            <a:ext cx="3063960" cy="192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Administrator\Desktop\自制ppt\未标题11.png"/>
          <p:cNvPicPr/>
          <p:nvPr/>
        </p:nvPicPr>
        <p:blipFill>
          <a:blip r:embed="rId3"/>
          <a:stretch/>
        </p:blipFill>
        <p:spPr>
          <a:xfrm>
            <a:off x="-1085760" y="682560"/>
            <a:ext cx="2171520" cy="1381320"/>
          </a:xfrm>
          <a:prstGeom prst="rect">
            <a:avLst/>
          </a:prstGeom>
          <a:ln w="0">
            <a:noFill/>
          </a:ln>
        </p:spPr>
      </p:pic>
      <p:sp>
        <p:nvSpPr>
          <p:cNvPr id="72" name="矩形 8"/>
          <p:cNvSpPr/>
          <p:nvPr/>
        </p:nvSpPr>
        <p:spPr>
          <a:xfrm>
            <a:off x="3598920" y="1539720"/>
            <a:ext cx="5545080" cy="532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84120" y="1965240"/>
            <a:ext cx="2808360" cy="209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3" presetSubtype="3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400"/>
                            </p:stCondLst>
                            <p:childTnLst>
                              <p:par>
                                <p:cTn id="136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9"/>
          <p:cNvSpPr/>
          <p:nvPr/>
        </p:nvSpPr>
        <p:spPr>
          <a:xfrm>
            <a:off x="1739880" y="194940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0"/>
          <p:cNvSpPr/>
          <p:nvPr/>
        </p:nvSpPr>
        <p:spPr>
          <a:xfrm>
            <a:off x="1739880" y="392904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1739880" y="294156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359080" y="1949400"/>
            <a:ext cx="4967280" cy="6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2357280" y="2941560"/>
            <a:ext cx="4967280" cy="6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2357280" y="3929040"/>
            <a:ext cx="4967280" cy="6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9325080" y="1949400"/>
            <a:ext cx="1429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6"/>
          <p:cNvSpPr/>
          <p:nvPr/>
        </p:nvSpPr>
        <p:spPr>
          <a:xfrm>
            <a:off x="9337680" y="294156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7"/>
          <p:cNvSpPr/>
          <p:nvPr/>
        </p:nvSpPr>
        <p:spPr>
          <a:xfrm>
            <a:off x="9325080" y="3929040"/>
            <a:ext cx="1429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17 0.00277 L -0.16527 0.00277 E">
                                      <p:cBhvr>
                                        <p:cTn id="156" dur="25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77309 0.00278 L -0.16666 0.00278 E">
                                      <p:cBhvr>
                                        <p:cTn id="163" dur="25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7717 0.00278 L -0.16527 0.00278 E">
                                      <p:cBhvr>
                                        <p:cTn id="167" dur="25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5:08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0:4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