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55D-B836-4F19-AF69-16E2C837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953C-C382-4C48-AEE3-55A8E320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212-2AA9-4CEA-806F-E4D16DA3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46B-D5FA-4DAE-9D96-3D07283F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C5A8-27AA-402A-95CD-ADE8F23C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774F-E354-43AE-89AA-24CEF4EF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9422-80A8-44CC-8146-A9AD4A3D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0373-AE23-4676-A040-B1356022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E205-7798-4A24-9E9E-AF1BCEAE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AF87-1C5B-432A-9A27-B8958DDD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BF4C-8E73-4259-AD45-0C277B79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B1D-5395-4B46-AF6E-0406D79E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A210-69DD-4FF4-81A7-30D51558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642E-4664-4C3F-9D11-8645C988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0859-963E-46A9-B5A1-A99A1E42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5168-4F77-4F53-947C-126F5280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267B-69AC-4AB3-880A-84F78C8A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F7D-BDB5-4D92-B23F-68EBEFEC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40C0-F15E-4BE3-B443-DEC8FC50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E10-02E0-4B65-ABB1-EF90873C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8391-15B7-4D8B-99B0-DC35A80C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9FF-B425-4A0E-9701-002C48CD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490-1C8E-4A7A-9CB4-1EB54DDE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BCBC-ABF4-4F7B-B816-A4F41121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1AD0-DDC5-48C6-851E-5E597F25E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C96D-1CB0-4660-BB84-BC422413D80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9FF7-BE89-43A2-ABD7-F8E3A8A23D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23640" y="981000"/>
            <a:ext cx="5327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为学，不日进则日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9640" y="2060280"/>
            <a:ext cx="813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之为学，不日进则日退，独学无友，则孤陋而难成；久处一方，则习染而不自觉。不幸而在穷僻之域，无车马之资，犹当博学审问，古人与稽，以求其是非之所在。庶几可得十之五六。若既不出户，又不读书，则是面墙之士，虽子羔、原宪之贤，终无济于天下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24000" y="3333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舒体"/>
              </a:rPr>
              <a:t>每日一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028880" y="114156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一点韧性，同院子里的那些花比起来，不是显得非常可贵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838080" y="396252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陈述句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这一点韧性，同院子里那些花比起来，显得非常可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657600" y="3808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春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迎春花"/>
          <p:cNvPicPr/>
          <p:nvPr/>
        </p:nvPicPr>
        <p:blipFill>
          <a:blip r:embed="rId2"/>
          <a:stretch/>
        </p:blipFill>
        <p:spPr>
          <a:xfrm>
            <a:off x="380880" y="1523880"/>
            <a:ext cx="2133720" cy="1543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桃花"/>
          <p:cNvPicPr/>
          <p:nvPr/>
        </p:nvPicPr>
        <p:blipFill>
          <a:blip r:embed="rId3"/>
          <a:stretch/>
        </p:blipFill>
        <p:spPr>
          <a:xfrm>
            <a:off x="3454560" y="1600200"/>
            <a:ext cx="1955520" cy="1397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杏花"/>
          <p:cNvPicPr/>
          <p:nvPr/>
        </p:nvPicPr>
        <p:blipFill>
          <a:blip r:embed="rId4"/>
          <a:stretch/>
        </p:blipFill>
        <p:spPr>
          <a:xfrm>
            <a:off x="6400800" y="1752480"/>
            <a:ext cx="1981080" cy="1333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海棠"/>
          <p:cNvPicPr/>
          <p:nvPr/>
        </p:nvPicPr>
        <p:blipFill>
          <a:blip r:embed="rId5"/>
          <a:stretch/>
        </p:blipFill>
        <p:spPr>
          <a:xfrm>
            <a:off x="6324480" y="4495680"/>
            <a:ext cx="210816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榆叶梅"/>
          <p:cNvPicPr/>
          <p:nvPr/>
        </p:nvPicPr>
        <p:blipFill>
          <a:blip r:embed="rId6"/>
          <a:stretch/>
        </p:blipFill>
        <p:spPr>
          <a:xfrm>
            <a:off x="3200400" y="4653000"/>
            <a:ext cx="2133720" cy="1595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丁香"/>
          <p:cNvPicPr/>
          <p:nvPr/>
        </p:nvPicPr>
        <p:blipFill>
          <a:blip r:embed="rId7"/>
          <a:stretch/>
        </p:blipFill>
        <p:spPr>
          <a:xfrm>
            <a:off x="380880" y="4648320"/>
            <a:ext cx="2006640" cy="1600200"/>
          </a:xfrm>
          <a:prstGeom prst="rect">
            <a:avLst/>
          </a:prstGeom>
          <a:ln w="0">
            <a:noFill/>
          </a:ln>
        </p:spPr>
      </p:pic>
      <p:sp>
        <p:nvSpPr>
          <p:cNvPr id="120" name="Line 9"/>
          <p:cNvSpPr/>
          <p:nvPr/>
        </p:nvSpPr>
        <p:spPr>
          <a:xfrm>
            <a:off x="2666880" y="2209680"/>
            <a:ext cx="6098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5562720" y="22096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7315200" y="34290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5486040" y="525780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14600" y="533412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2590920" y="327672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花团锦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733920" y="30492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夏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凤仙花"/>
          <p:cNvPicPr/>
          <p:nvPr/>
        </p:nvPicPr>
        <p:blipFill>
          <a:blip r:embed="rId2"/>
          <a:stretch/>
        </p:blipFill>
        <p:spPr>
          <a:xfrm>
            <a:off x="609480" y="1447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石竹花"/>
          <p:cNvPicPr/>
          <p:nvPr/>
        </p:nvPicPr>
        <p:blipFill>
          <a:blip r:embed="rId3"/>
          <a:stretch/>
        </p:blipFill>
        <p:spPr>
          <a:xfrm>
            <a:off x="3467160" y="1450800"/>
            <a:ext cx="2209680" cy="1978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鸡冠花"/>
          <p:cNvPicPr/>
          <p:nvPr/>
        </p:nvPicPr>
        <p:blipFill>
          <a:blip r:embed="rId4"/>
          <a:stretch/>
        </p:blipFill>
        <p:spPr>
          <a:xfrm>
            <a:off x="6705720" y="1523880"/>
            <a:ext cx="201924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江西腊"/>
          <p:cNvPicPr/>
          <p:nvPr/>
        </p:nvPicPr>
        <p:blipFill>
          <a:blip r:embed="rId5"/>
          <a:stretch/>
        </p:blipFill>
        <p:spPr>
          <a:xfrm>
            <a:off x="6248520" y="4800600"/>
            <a:ext cx="2228760" cy="1676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夜来香"/>
          <p:cNvPicPr/>
          <p:nvPr/>
        </p:nvPicPr>
        <p:blipFill>
          <a:blip r:embed="rId6"/>
          <a:stretch/>
        </p:blipFill>
        <p:spPr>
          <a:xfrm>
            <a:off x="380880" y="4724280"/>
            <a:ext cx="2616480" cy="1752840"/>
          </a:xfrm>
          <a:prstGeom prst="rect">
            <a:avLst/>
          </a:prstGeom>
          <a:ln w="0">
            <a:noFill/>
          </a:ln>
        </p:spPr>
      </p:pic>
      <p:sp>
        <p:nvSpPr>
          <p:cNvPr id="132" name="Line 8"/>
          <p:cNvSpPr/>
          <p:nvPr/>
        </p:nvSpPr>
        <p:spPr>
          <a:xfrm>
            <a:off x="2743200" y="22860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5715000" y="2209680"/>
            <a:ext cx="7621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7315200" y="365760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1"/>
          <p:cNvSpPr/>
          <p:nvPr/>
        </p:nvSpPr>
        <p:spPr>
          <a:xfrm flipH="1">
            <a:off x="3962520" y="5486400"/>
            <a:ext cx="17524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1447920" y="36576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五彩缤纷美不胜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657600" y="144792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秋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玉簪花"/>
          <p:cNvPicPr/>
          <p:nvPr/>
        </p:nvPicPr>
        <p:blipFill>
          <a:blip r:embed="rId2"/>
          <a:stretch/>
        </p:blipFill>
        <p:spPr>
          <a:xfrm>
            <a:off x="990720" y="2666880"/>
            <a:ext cx="2514600" cy="2667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DSC00850-2"/>
          <p:cNvPicPr/>
          <p:nvPr/>
        </p:nvPicPr>
        <p:blipFill>
          <a:blip r:embed="rId3"/>
          <a:stretch/>
        </p:blipFill>
        <p:spPr>
          <a:xfrm>
            <a:off x="5105520" y="274320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104840" y="82080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你站在它下面，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花朵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团模糊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但是香气却毫不含糊，浓浓烈烈地从花枝上袭了下来。它把影子投到墙上，叶影参差，花影迷离，可以引起我许多幻想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104840" y="820800"/>
            <a:ext cx="6934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你站在它下面，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花朵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团模糊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但是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香气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却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毫不含糊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浓浓烈烈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从花枝上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袭了下来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它把影子投到墙上，叶影参差，花影迷离，可以引起我许多幻想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104840" y="820800"/>
            <a:ext cx="6934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你站在它下面，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花朵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团模糊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但是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香气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却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毫不含糊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浓浓烈烈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从花枝上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袭了下来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它把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影子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投到墙上，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叶影参差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花影迷离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可以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引起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许多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幻想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d5c35"/>
                </a:solidFill>
                <a:latin typeface="Times New Roman"/>
                <a:ea typeface="华文彩云"/>
              </a:rPr>
              <a:t>请在括号中填入恰当的鸟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362320" cy="1557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143000" y="2133720"/>
            <a:ext cx="739152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（        ）一去不复返，白云千载空悠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故人西辞（        ）楼，烟花三月下扬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千里（    ）啼绿映红，水村山郭酒旗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两个（    ）鸣翠柳，一行（    ）上青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旧时王谢堂前（    ），飞入寻常百姓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枯藤老树昏（     ），小桥流水人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无可奈何花落去，似曾相识（       ）归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几处（       ）争暖树，谁家（        ）啄春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09SILEN&amp;.MID" descr=""/>
          <p:cNvPicPr/>
          <p:nvPr/>
        </p:nvPicPr>
        <p:blipFill>
          <a:blip r:embed="rId2"/>
          <a:stretch/>
        </p:blipFill>
        <p:spPr>
          <a:xfrm>
            <a:off x="83818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361960" cy="1557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00419"/>
                </a:solidFill>
                <a:latin typeface="Times New Roman"/>
                <a:ea typeface="华文彩云"/>
              </a:rPr>
              <a:t>请在括号中填入恰当的鸟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755640" y="1844640"/>
            <a:ext cx="782964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（</a:t>
            </a:r>
            <a:r>
              <a:rPr b="0" lang="zh-CN" sz="2800" spc="-1" strike="noStrike">
                <a:solidFill>
                  <a:srgbClr val="ab1395"/>
                </a:solidFill>
                <a:latin typeface="Times New Roman"/>
                <a:ea typeface="隶书"/>
              </a:rPr>
              <a:t>黄鹤</a:t>
            </a: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）一去不复返，白云千载空悠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故人西辞（</a:t>
            </a:r>
            <a:r>
              <a:rPr b="0" lang="zh-CN" sz="2800" spc="-1" strike="noStrike">
                <a:solidFill>
                  <a:srgbClr val="ab1395"/>
                </a:solidFill>
                <a:latin typeface="Times New Roman"/>
                <a:ea typeface="隶书"/>
              </a:rPr>
              <a:t>黄鹤</a:t>
            </a: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）楼，烟花三月下扬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千里（</a:t>
            </a:r>
            <a:r>
              <a:rPr b="0" lang="zh-CN" sz="2800" spc="-1" strike="noStrike">
                <a:solidFill>
                  <a:srgbClr val="ab1395"/>
                </a:solidFill>
                <a:latin typeface="Times New Roman"/>
                <a:ea typeface="隶书"/>
              </a:rPr>
              <a:t>莺</a:t>
            </a: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）啼绿映红，水村山郭酒旗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两个（</a:t>
            </a:r>
            <a:r>
              <a:rPr b="0" lang="zh-CN" sz="2800" spc="-1" strike="noStrike">
                <a:solidFill>
                  <a:srgbClr val="ab1395"/>
                </a:solidFill>
                <a:latin typeface="Times New Roman"/>
                <a:ea typeface="隶书"/>
              </a:rPr>
              <a:t>黄鹂</a:t>
            </a: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）鸣翠柳，一行（</a:t>
            </a:r>
            <a:r>
              <a:rPr b="0" lang="zh-CN" sz="2800" spc="-1" strike="noStrike">
                <a:solidFill>
                  <a:srgbClr val="ab1395"/>
                </a:solidFill>
                <a:latin typeface="Times New Roman"/>
                <a:ea typeface="隶书"/>
              </a:rPr>
              <a:t>白鹭</a:t>
            </a: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）上青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旧时王谢堂前（</a:t>
            </a:r>
            <a:r>
              <a:rPr b="0" lang="zh-CN" sz="2800" spc="-1" strike="noStrike">
                <a:solidFill>
                  <a:srgbClr val="ab1395"/>
                </a:solidFill>
                <a:latin typeface="Times New Roman"/>
                <a:ea typeface="隶书"/>
              </a:rPr>
              <a:t>燕</a:t>
            </a: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），飞入寻常百姓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枯藤老树昏（</a:t>
            </a:r>
            <a:r>
              <a:rPr b="0" lang="zh-CN" sz="2800" spc="-1" strike="noStrike">
                <a:solidFill>
                  <a:srgbClr val="ab1395"/>
                </a:solidFill>
                <a:latin typeface="Times New Roman"/>
                <a:ea typeface="隶书"/>
              </a:rPr>
              <a:t>鸦</a:t>
            </a: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），小桥流水人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无可奈何花落去，似曾相识（</a:t>
            </a:r>
            <a:r>
              <a:rPr b="0" lang="zh-CN" sz="2800" spc="-1" strike="noStrike">
                <a:solidFill>
                  <a:srgbClr val="ab1395"/>
                </a:solidFill>
                <a:latin typeface="Times New Roman"/>
                <a:ea typeface="隶书"/>
              </a:rPr>
              <a:t>燕</a:t>
            </a: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）归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几处（</a:t>
            </a:r>
            <a:r>
              <a:rPr b="0" lang="zh-CN" sz="2800" spc="-1" strike="noStrike">
                <a:solidFill>
                  <a:srgbClr val="ab1395"/>
                </a:solidFill>
                <a:latin typeface="Times New Roman"/>
                <a:ea typeface="隶书"/>
              </a:rPr>
              <a:t>早莺</a:t>
            </a: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）争暖树，谁家（</a:t>
            </a:r>
            <a:r>
              <a:rPr b="0" lang="zh-CN" sz="2800" spc="-1" strike="noStrike">
                <a:solidFill>
                  <a:srgbClr val="ab1395"/>
                </a:solidFill>
                <a:latin typeface="Times New Roman"/>
                <a:ea typeface="隶书"/>
              </a:rPr>
              <a:t>新燕</a:t>
            </a: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）啄春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6337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夹 竹 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640" y="5443560"/>
            <a:ext cx="4208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清之风工作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-1085760" y="19731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7" descr="200481204250718"/>
          <p:cNvPicPr/>
          <p:nvPr/>
        </p:nvPicPr>
        <p:blipFill>
          <a:blip r:embed="rId1"/>
          <a:stretch/>
        </p:blipFill>
        <p:spPr>
          <a:xfrm>
            <a:off x="609480" y="304920"/>
            <a:ext cx="3733920" cy="5410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9"/>
          <p:cNvSpPr/>
          <p:nvPr/>
        </p:nvSpPr>
        <p:spPr>
          <a:xfrm>
            <a:off x="1905120" y="586728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美丽的夹竹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-1795320" y="549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3" descr="200481204143615"/>
          <p:cNvPicPr/>
          <p:nvPr/>
        </p:nvPicPr>
        <p:blipFill>
          <a:blip r:embed="rId2"/>
          <a:stretch/>
        </p:blipFill>
        <p:spPr>
          <a:xfrm>
            <a:off x="4876920" y="304920"/>
            <a:ext cx="3657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XCA14008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71640" y="333360"/>
            <a:ext cx="7272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554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读准字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048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玉簪花  荇藻   参差不齐   鸡冠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奉陪  榆叶梅  江西腊  海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团锦簇 菊花   飞蛾   乍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971640" y="1557360"/>
            <a:ext cx="554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ān    xìng     cēn c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332000" y="45086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ǐn                       é      zh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1187280" y="314172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èng     yú                     là        tá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68360" y="228708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一段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总写夹竹桃是作者最值得留恋和回忆的花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段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写作者家中的夹竹桃开花时红白相映，景象奇妙有趣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三段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—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写夹竹桃的可贵以及引起作者的幻想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四段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写作者爱上了夹竹桃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88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79280" y="62064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但是夹竹桃的妙处还不止于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我特别喜欢                             。你站在它下面，花朵是               ；但是香气却                 ，浓浓烈烈地                               。它把影子投到墙上，              ，               ，可以引起我许多幻想。我想它是地图，它居然就是地图了。这一堆影子是亚洲，那一堆影子是非洲，中间空白的地方是大海。碰巧有几只小虫子爬过，这就是远渡重洋的海轮。我幻想它是水中的荇藻，我眼前就真地展现出一个小池塘。夜蛾飞过，映在墙上的影子就是游鱼。我幻想它是一幅墨竹，我就真看到一幅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900000" y="1125360"/>
            <a:ext cx="23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月光下的夹竹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7093080" y="1052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团模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124000" y="1484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毫不含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6356520" y="1484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从花枝上袭了下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3522240" y="1916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叶影参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5249160" y="198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花影迷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按课文内容填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划出文章中的一个过渡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文中的“此”是指什么？从文章找出句子写在下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月光下的夹竹桃把影子投在墙上，还能引起我的什么想象，仿写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00:27:34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5:55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