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12.wmf" ContentType="image/x-wmf"/>
  <Override PartName="/ppt/media/image1.gif" ContentType="image/gif"/>
  <Override PartName="/ppt/media/image8.png" ContentType="image/png"/>
  <Override PartName="/ppt/media/image16.wmf" ContentType="image/x-wmf"/>
  <Override PartName="/ppt/media/image7.wmf" ContentType="image/x-wmf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6.png" ContentType="image/png"/>
  <Override PartName="/ppt/media/image24.png" ContentType="image/png"/>
  <Override PartName="/ppt/media/image23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gif" ContentType="image/gif"/>
  <Override PartName="/ppt/media/image9.wmf" ContentType="image/x-wmf"/>
  <Override PartName="/ppt/media/image14.png" ContentType="image/png"/>
  <Override PartName="/ppt/media/image22.jpeg" ContentType="image/jpeg"/>
  <Override PartName="/ppt/media/image15.wmf" ContentType="image/x-wmf"/>
  <Override PartName="/ppt/media/image3.jpeg" ContentType="image/jpeg"/>
  <Override PartName="/ppt/media/image13.gif" ContentType="image/gif"/>
  <Override PartName="/ppt/media/image20.wmf" ContentType="image/x-wmf"/>
  <Override PartName="/ppt/media/image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AA36-0E10-44A2-BB7D-0B9DCB91C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523-4137-4332-A13A-B69128D04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E8D8-A72E-4332-8D08-D0F5D880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80B0-5E25-46D5-B90C-03E5D5A0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5139-E275-4528-B7E4-BD55F220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228A-9D7C-4C4B-9ACA-79EB61AB1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0DB1-1C33-4767-A047-ECA21773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272-3605-47CE-AC96-3A86F2176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935F-3258-4539-871A-8C09CB9EE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897E-057F-436B-8EA0-2BC543B5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2CF2-F14F-4E44-BE0B-1D1DC4C9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18B-B450-4D48-AB41-EE82D6C5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PMingLiU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345-C0E6-4405-9C22-375C6FF7D69D}" type="slidenum">
              <a:rPr b="0" lang="zh-TW" sz="14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0" y="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考前叮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O050"/>
          <p:cNvPicPr/>
          <p:nvPr/>
        </p:nvPicPr>
        <p:blipFill>
          <a:blip r:embed="rId2"/>
          <a:stretch/>
        </p:blipFill>
        <p:spPr>
          <a:xfrm>
            <a:off x="228600" y="1752480"/>
            <a:ext cx="4724280" cy="573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O050"/>
          <p:cNvPicPr/>
          <p:nvPr/>
        </p:nvPicPr>
        <p:blipFill>
          <a:blip r:embed="rId3"/>
          <a:stretch/>
        </p:blipFill>
        <p:spPr>
          <a:xfrm flipH="1" rot="10800000">
            <a:off x="5715000" y="990360"/>
            <a:ext cx="3200400" cy="38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O050"/>
          <p:cNvPicPr/>
          <p:nvPr/>
        </p:nvPicPr>
        <p:blipFill>
          <a:blip r:embed="rId4"/>
          <a:stretch/>
        </p:blipFill>
        <p:spPr>
          <a:xfrm>
            <a:off x="6705720" y="5791320"/>
            <a:ext cx="1828800" cy="222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O050"/>
          <p:cNvPicPr/>
          <p:nvPr/>
        </p:nvPicPr>
        <p:blipFill>
          <a:blip r:embed="rId5"/>
          <a:stretch/>
        </p:blipFill>
        <p:spPr>
          <a:xfrm flipH="1" rot="10800000">
            <a:off x="1371600" y="6202440"/>
            <a:ext cx="2895480" cy="3506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0" y="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考前叮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6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image" Target="../media/image20.wmf"/><Relationship Id="rId4" Type="http://schemas.openxmlformats.org/officeDocument/2006/relationships/image" Target="../media/image17.gi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wm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no12345.spaces.live.com/?_c11_BlogPart_blogpart=blogview&amp;_c=BlogPart&amp;partqs=amonth%3D10%26ayear%3D2005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image" Target="../media/image23.wmf"/><Relationship Id="rId7" Type="http://schemas.openxmlformats.org/officeDocument/2006/relationships/image" Target="../media/image23.wmf"/><Relationship Id="rId8" Type="http://schemas.openxmlformats.org/officeDocument/2006/relationships/image" Target="../media/image23.wmf"/><Relationship Id="rId9" Type="http://schemas.openxmlformats.org/officeDocument/2006/relationships/image" Target="../media/image23.wmf"/><Relationship Id="rId10" Type="http://schemas.openxmlformats.org/officeDocument/2006/relationships/image" Target="../media/image23.wmf"/><Relationship Id="rId11" Type="http://schemas.openxmlformats.org/officeDocument/2006/relationships/image" Target="../media/image23.wmf"/><Relationship Id="rId12" Type="http://schemas.openxmlformats.org/officeDocument/2006/relationships/image" Target="../media/image23.wmf"/><Relationship Id="rId13" Type="http://schemas.openxmlformats.org/officeDocument/2006/relationships/image" Target="../media/image23.wmf"/><Relationship Id="rId14" Type="http://schemas.openxmlformats.org/officeDocument/2006/relationships/image" Target="../media/image23.wm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1187280" y="2492280"/>
            <a:ext cx="669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考前热点复习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梦江南.mp3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2"/>
          <p:cNvSpPr txBox="1"/>
          <p:nvPr/>
        </p:nvSpPr>
        <p:spPr>
          <a:xfrm>
            <a:off x="4067280" y="33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772640"/>
            <a:ext cx="76327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先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看设问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后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看材料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审清题意，题眼明了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审题要慢，答题要快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术语周到，技巧用好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打好腹稿，卷面排好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horz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395280" y="2996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教材理论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材料内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时事观点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标准答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24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684360" y="273744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往前想一想、往后推一推、多问为什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28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971640" y="292356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原理（略）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方法论</a:t>
            </a: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材料（详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32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468360" y="29232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5.</a:t>
            </a:r>
            <a:r>
              <a:rPr b="1" lang="en-US" sz="3200" spc="-1" strike="noStrike">
                <a:solidFill>
                  <a:srgbClr val="ffffff"/>
                </a:solidFill>
                <a:latin typeface="华文中宋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关键词、标点符号、连接词</a:t>
            </a:r>
            <a:r>
              <a:rPr b="1" lang="zh-CN" sz="3200" spc="-1" strike="noStrike">
                <a:solidFill>
                  <a:srgbClr val="ffff00"/>
                </a:solidFill>
                <a:latin typeface="华文中宋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审题方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36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70000">
    <p:cover dir="u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324000" y="2655360"/>
            <a:ext cx="842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图表题</a:t>
            </a:r>
            <a:r>
              <a:rPr b="1" lang="en-US" sz="2800" spc="-1" strike="noStrike">
                <a:solidFill>
                  <a:srgbClr val="ffffff"/>
                </a:solidFill>
                <a:latin typeface="华文中宋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审题：先看标题，弄清楚说什么？说了哪几点？（横向、纵向看全、小注不可丢），结合几个材料整体把握题意观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漫画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试题特别注意漫画标题，找准主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2916360" y="1052640"/>
            <a:ext cx="3528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</p:spTree>
  </p:cSld>
  <p:transition spd="slow" advTm="70000">
    <p:cover dir="u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2"/>
          <p:cNvSpPr txBox="1"/>
          <p:nvPr/>
        </p:nvSpPr>
        <p:spPr>
          <a:xfrm>
            <a:off x="3132000" y="260280"/>
            <a:ext cx="3167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68360" y="1706760"/>
            <a:ext cx="828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①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为什么（理由、依据等）”类型试题的答题技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②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国家政府行为”类试题的评价方法（共性和个性统一，国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国家职能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三大原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材料个体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意义等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③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共产党行为（党内、党外）类”试题的评价需要的九大知识内容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④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政府的对外政治行为和经济行为”类试题的评价方法。（经济学或者政治学理论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意义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+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国际背景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⑤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怎么做”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怎样贯彻对人民负责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?)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的试题答法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中国政府的经济行为”类试题的评价方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⑦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企业的经济行为”评价行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⑧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公民的政治行为”评价、“消费者行为”评价、“劳动者行为”评价、从人生观、价值观角度评价个人道德行为评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⑨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意义”类试题的思考方法（由小到大，直接到间接、经济到政治、国内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⑩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、“认识、评价、理解、看法等”类试题的思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三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W” )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杜鹃圆舞曲.mp3" descr=""/>
          <p:cNvPicPr/>
          <p:nvPr/>
        </p:nvPicPr>
        <p:blipFill>
          <a:blip r:embed="rId1"/>
          <a:stretch/>
        </p:blipFill>
        <p:spPr>
          <a:xfrm>
            <a:off x="802800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0">
    <p:cover dir="r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"/>
                            </p:stCondLst>
                            <p:childTnLst>
                              <p:par>
                                <p:cTn id="178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9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1"/>
                            </p:stCondLst>
                            <p:childTnLst>
                              <p:par>
                                <p:cTn id="18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7001"/>
                            </p:stCondLst>
                            <p:childTnLst>
                              <p:par>
                                <p:cTn id="192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9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2001"/>
                            </p:stCondLst>
                            <p:childTnLst>
                              <p:par>
                                <p:cTn id="199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9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7001"/>
                            </p:stCondLst>
                            <p:childTnLst>
                              <p:par>
                                <p:cTn id="206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2001"/>
                            </p:stCondLst>
                            <p:childTnLst>
                              <p:par>
                                <p:cTn id="213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7001"/>
                            </p:stCondLst>
                            <p:childTnLst>
                              <p:par>
                                <p:cTn id="220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9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2000"/>
                            </p:stCondLst>
                            <p:childTnLst>
                              <p:par>
                                <p:cTn id="227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9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37001"/>
                            </p:stCondLst>
                            <p:childTnLst>
                              <p:par>
                                <p:cTn id="234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9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42001"/>
                            </p:stCondLst>
                            <p:childTnLst>
                              <p:par>
                                <p:cTn id="241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2"/>
          <p:cNvSpPr txBox="1"/>
          <p:nvPr/>
        </p:nvSpPr>
        <p:spPr>
          <a:xfrm>
            <a:off x="2124000" y="2637000"/>
            <a:ext cx="5256360" cy="86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77000"/>
                    </a:srgbClr>
                  </a:outerShdw>
                </a:effectLst>
                <a:latin typeface="华文中宋"/>
              </a:rPr>
              <a:t>五、这类问题我该怎么做（建议）？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77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2"/>
          <p:cNvSpPr/>
          <p:nvPr/>
        </p:nvSpPr>
        <p:spPr>
          <a:xfrm>
            <a:off x="900000" y="476280"/>
            <a:ext cx="7704360" cy="40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养兵千日，用兵一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高考时段，我们该怎么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进场前后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预先已经知道了考场的位置，就不必再为寻找考场费心，以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精神饱满、体健心宽、从容不迫、自然大方，面带微笑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姿态进入考场。简单地熟悉一下环境，不要过多地东张西望，以免分散精力和受到意外的干扰。争取做到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我的眼里只有你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试卷和考题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别的都不要去关心。晴也罢，阴也罢，热也罢，凉也罢，打雷也罢，刮风也罢，一概不管它。前后的考生是谁，监考老师是男是女，是老是少？一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不知道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　　发卷前，静下心来，眯缝着眼睛，做几次深呼吸，全身放松，以缓解心理的紧张气氛，好像练气功的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入定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能使你忘掉个人得失以及与当前考试无关的一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"/>
          <p:cNvSpPr/>
          <p:nvPr/>
        </p:nvSpPr>
        <p:spPr>
          <a:xfrm>
            <a:off x="2124000" y="4149720"/>
            <a:ext cx="41767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2627280" y="6381720"/>
            <a:ext cx="54007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5000"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3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3500"/>
                            </p:stCondLst>
                            <p:childTnLst>
                              <p:par>
                                <p:cTn id="259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1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5" dur="5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7" nodeType="afterEffect" fill="hold" presetClass="entr" presetID="12" presetSubtype="4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9" dur="5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3000"/>
                            </p:stCondLst>
                            <p:childTnLst>
                              <p:par>
                                <p:cTn id="27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8000"/>
                            </p:stCondLst>
                            <p:childTnLst>
                              <p:par>
                                <p:cTn id="2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755640" y="211320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B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发卷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仿宋_GB2312"/>
              </a:rPr>
              <a:t>    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要在完全自如的状态中完成要做的一切工作，如填写考号、座位号，按要求填涂答题卡等。用剩下的时间大体浏览一下试卷，对题型的分布与试题的难度有个概略的了解和估计，对时间的分配使用有个初步的打算，对陌生的试题要有充分的思想准备，随后立即根据预先自己的安排看题。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分分秒秒都是分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开始时，很可能头脑中一片空白，感觉一道题都不会解，这是正常的，因为你还没有进入状态，这时需要的是镇定与冷静，相信不要多久，当你进入临考状态，大脑渐渐地升温后，情况会发生根本性转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祝你一路顺风h.mp3" descr=""/>
          <p:cNvPicPr/>
          <p:nvPr/>
        </p:nvPicPr>
        <p:blipFill>
          <a:blip r:embed="rId1"/>
          <a:stretch/>
        </p:blipFill>
        <p:spPr>
          <a:xfrm>
            <a:off x="7885080" y="6021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415_179570_5642500721ca446"/>
          <p:cNvPicPr/>
          <p:nvPr/>
        </p:nvPicPr>
        <p:blipFill>
          <a:blip r:embed="rId2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4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7000"/>
                            </p:stCondLst>
                            <p:childTnLst>
                              <p:par>
                                <p:cTn id="304" nodeType="afterEffect" fill="hold" presetClass="entr" presetID="37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50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900000" y="1049400"/>
            <a:ext cx="77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中宋"/>
                <a:ea typeface="华文中宋"/>
              </a:rPr>
              <a:t>科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学发展观的内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华文中宋"/>
              </a:rPr>
              <a:t>坚持以人为本，全面协调可持续的发展观，实现人与自然、经济与社会的协调发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4643280" y="3426120"/>
            <a:ext cx="42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社会主义新农村的内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产发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生活宽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乡风文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村容整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管理民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54080" y="3210120"/>
            <a:ext cx="4470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社会主义和谐社会的总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民主法治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公平正义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诚信友爱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充满活力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安定有序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人与自然和谐相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9000"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1800"/>
                            </p:stCondLst>
                            <p:childTnLst>
                              <p:par>
                                <p:cTn id="1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1600"/>
                            </p:stCondLst>
                            <p:childTnLst>
                              <p:par>
                                <p:cTn id="2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2"/>
          <p:cNvSpPr/>
          <p:nvPr/>
        </p:nvSpPr>
        <p:spPr>
          <a:xfrm>
            <a:off x="611280" y="2048760"/>
            <a:ext cx="82803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C.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开考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    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硝烟乍起，真正的战斗打响，此时更需要“内热外凉”、“目中无人”。随着解题的逐步展开，大脑的活力也慢慢增强，从而使你渐渐进入考试“角色”，一种“有我无人”的良好状态也就形成了。不过也有这样的情况，由于各人进入状态的速度可能不一致，有人快热，有人慢热，在这种情况下，切勿慌乱与急躁，越急越糟糕，不如静下心来认真思考。提供以下建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6"/>
          <p:cNvSpPr/>
          <p:nvPr/>
        </p:nvSpPr>
        <p:spPr>
          <a:xfrm>
            <a:off x="1403280" y="5157720"/>
            <a:ext cx="7056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7"/>
          <p:cNvSpPr/>
          <p:nvPr/>
        </p:nvSpPr>
        <p:spPr>
          <a:xfrm>
            <a:off x="826920" y="5589720"/>
            <a:ext cx="1297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wipe dir="d"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7000"/>
                            </p:stCondLst>
                            <p:childTnLst>
                              <p:par>
                                <p:cTn id="3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2000"/>
                            </p:stCondLst>
                            <p:childTnLst>
                              <p:par>
                                <p:cTn id="32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539640" y="1413000"/>
            <a:ext cx="80661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遵循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先后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原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先易后难；先熟后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坚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一慢一快原则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审题要慢，做题要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瞎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答题要看分值高低定先后，但分值高低也不完全决定答题角度。答题到底有多少角度，应由设问而定，只有详略之分，没有多少之分，不可妄加估量。一切从题目的设问和材料实际出发审题解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多虑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做选择题时相信自己第一感觉的答案，检查阶段尽量不要轻易改动自己第一次写下的答案。如果要检查，就检查答案是否搬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random/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68360" y="907920"/>
            <a:ext cx="81360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自大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遇到熟题大喜，不细审，不思考，随意下笔，结果犯低级错误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※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不自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——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考场上的心理承受一般比平时脆弱，平时十分容易的试卷，在高考氛围中你会觉得十分不容易。本来每份试卷中都会有难题，但在高考氛围中你会觉得通卷不易。你可万万不能对自己嘀咕：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张卷纸好难啊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”“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死定了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宋体"/>
                <a:ea typeface="楷体_GB2312"/>
              </a:rPr>
              <a:t>……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其实你这是在长对手的威风，灭自己的志气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卷子的难易、材料的冷热、试题的生熟根本不是你能否战胜对手的关键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。水涨船高呀！决胜高考的</a:t>
            </a:r>
            <a:r>
              <a:rPr b="1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根本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是考点、套路、热点术语谁掌握更熟谁掌握更全！</a:t>
            </a:r>
            <a:r>
              <a:rPr b="1" lang="zh-CN" sz="2400" spc="-1" strike="noStrike" u="sng">
                <a:solidFill>
                  <a:srgbClr val="ffff00"/>
                </a:solidFill>
                <a:uFillTx/>
                <a:latin typeface="楷体_GB2312"/>
                <a:ea typeface="楷体_GB2312"/>
              </a:rPr>
              <a:t>决胜高考的关键是考场上谁更冷静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谁更善于凉拌</a:t>
            </a:r>
            <a:r>
              <a:rPr b="1" lang="en-US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――</a:t>
            </a: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将考点、套路、热点术语灵活迁移，巧妙融合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cover dir="d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2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395280" y="2188440"/>
            <a:ext cx="8424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D.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考完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    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四堂的考试，中间有三次间歇，这段时间如何处理和度过？考过一门，有得有失，一点都不想，不可能！首先，如果有不该失的却失去了，考生往往有夸大失误的倾向，惊呼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考砸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塌糊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！其实并没有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砸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也并非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一塌糊涂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题目难，你感到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砸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，别人也好不了多少，还有下面的考试，想门门都发挥得十分出色，也是不现实的。要很快调整好自己的心态，迎接下面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战斗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415_179570_5642500721ca446"/>
          <p:cNvPicPr/>
          <p:nvPr/>
        </p:nvPicPr>
        <p:blipFill>
          <a:blip r:embed="rId1"/>
          <a:srcRect l="10783" t="8335" r="4610" b="6514"/>
          <a:stretch/>
        </p:blipFill>
        <p:spPr>
          <a:xfrm>
            <a:off x="7236000" y="5543640"/>
            <a:ext cx="1908000" cy="13143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heel spokes="2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9" dur="3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258920" y="981000"/>
            <a:ext cx="6840360" cy="4603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高  考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我们要全力以赴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绝不是尽力而为</a:t>
            </a:r>
            <a:r>
              <a:rPr b="1" lang="en-US" sz="4800" spc="-1" strike="noStrike">
                <a:solidFill>
                  <a:srgbClr val="ffff00"/>
                </a:solidFill>
                <a:latin typeface="黑体"/>
                <a:ea typeface="黑体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372360" y="4948200"/>
            <a:ext cx="2771640" cy="190980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FbandaoBLOG_files_bgGml4xO2g8XOPHcdr9C200609220637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3"/>
          <p:cNvSpPr/>
          <p:nvPr/>
        </p:nvSpPr>
        <p:spPr>
          <a:xfrm>
            <a:off x="395280" y="2564640"/>
            <a:ext cx="477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无论多么可怕的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当它真的来临时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Arial"/>
                <a:ea typeface="黑体"/>
              </a:rPr>
              <a:t>也不过如此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花4"/>
          <p:cNvPicPr/>
          <p:nvPr/>
        </p:nvPicPr>
        <p:blipFill>
          <a:blip r:embed="rId2"/>
          <a:stretch/>
        </p:blipFill>
        <p:spPr>
          <a:xfrm>
            <a:off x="0" y="4869000"/>
            <a:ext cx="1911240" cy="1989000"/>
          </a:xfrm>
          <a:prstGeom prst="rect">
            <a:avLst/>
          </a:prstGeom>
          <a:ln w="0">
            <a:noFill/>
          </a:ln>
        </p:spPr>
      </p:pic>
      <p:pic>
        <p:nvPicPr>
          <p:cNvPr id="176" name="真心英雄.mp3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jp069a"/>
          <p:cNvPicPr/>
          <p:nvPr/>
        </p:nvPicPr>
        <p:blipFill>
          <a:blip r:embed="rId4"/>
          <a:stretch/>
        </p:blipFill>
        <p:spPr>
          <a:xfrm>
            <a:off x="749628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WordArt 4" descr=""/>
          <p:cNvPicPr/>
          <p:nvPr/>
        </p:nvPicPr>
        <p:blipFill>
          <a:blip r:embed="rId5"/>
          <a:stretch/>
        </p:blipFill>
        <p:spPr>
          <a:xfrm>
            <a:off x="-268200" y="901800"/>
            <a:ext cx="5430600" cy="903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wheel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6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971640" y="21837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考在即，面临这人生的头等大事，同学们产生亢奋、激动和不安、焦虑等多种复杂心情是很正常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诸多影响考试正常发挥的因素中，心理状态是居于首位的，此时的关键是改变心态，喜迎挑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考是人生的转折点，是走向辉煌的起点，是生命的盛大节日，是书写人生历史新篇章的开端，也是千百万学子热切盼望期待了十几年的展示自己才华的舞台，我们应该激情满腔，在这个舞台上用青春与智慧燃起熊熊大火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WordArt 3"/>
          <p:cNvSpPr txBox="1"/>
          <p:nvPr/>
        </p:nvSpPr>
        <p:spPr>
          <a:xfrm>
            <a:off x="1187280" y="5084640"/>
            <a:ext cx="698508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把握生命里的每一分钟，全力以赴我们心中的梦，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不经历风雨怎么见彩虹，没有人能够随随便便成功。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5000">
    <p:blinds dir="horz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8000"/>
                            </p:stCondLst>
                            <p:childTnLst>
                              <p:par>
                                <p:cTn id="380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84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6" dur="5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8" nodeType="afterEffect" fill="hold" presetClass="entr" presetID="35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1042920" y="1111680"/>
            <a:ext cx="716436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利用自我心理暗示实现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三变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恐惧为平常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焦虑为渴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变压抑为昂扬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3" descr="jp069a"/>
          <p:cNvPicPr/>
          <p:nvPr/>
        </p:nvPicPr>
        <p:blipFill>
          <a:blip r:embed="rId1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6"/>
          <p:cNvSpPr txBox="1"/>
          <p:nvPr/>
        </p:nvSpPr>
        <p:spPr>
          <a:xfrm>
            <a:off x="1835280" y="5300640"/>
            <a:ext cx="698472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把握生命里的每一分钟，全力以赴我们心中的梦，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华文中宋"/>
              </a:rPr>
              <a:t>不经历风雨怎么见彩虹，没有人能够随随便便成功。</a:t>
            </a:r>
            <a:endParaRPr b="1" lang="en-US" sz="40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华文中宋"/>
              <a:ea typeface="华文中宋"/>
            </a:endParaRPr>
          </a:p>
        </p:txBody>
      </p:sp>
    </p:spTree>
  </p:cSld>
  <p:transition spd="slow" advTm="20000">
    <p:blinds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539640" y="3303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仿宋_GB2312"/>
              </a:rPr>
              <a:t>   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仿宋_GB2312"/>
              </a:rPr>
              <a:t>国内外许多心理学家与教育家研究发现，良好的自我心理暗示是事业成功的有力保证。未曾上阵，先怵三分，什么事情也办不成，战场、赛场、商场与考场无不如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WordArt 3"/>
          <p:cNvSpPr txBox="1"/>
          <p:nvPr/>
        </p:nvSpPr>
        <p:spPr>
          <a:xfrm>
            <a:off x="1116000" y="1052640"/>
            <a:ext cx="7000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高考，四分考实力，六分考心理！</a:t>
            </a:r>
            <a:endParaRPr b="1" lang="en-US" sz="1800" spc="-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227640" y="4849920"/>
            <a:ext cx="2916360" cy="2008080"/>
          </a:xfrm>
          <a:prstGeom prst="rect">
            <a:avLst/>
          </a:prstGeom>
          <a:ln w="0">
            <a:noFill/>
          </a:ln>
        </p:spPr>
      </p:pic>
    </p:spTree>
  </p:cSld>
  <p:transition spd="slow" advTm="20000">
    <p:zoom dir="in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WordArt 4"/>
          <p:cNvSpPr txBox="1"/>
          <p:nvPr/>
        </p:nvSpPr>
        <p:spPr>
          <a:xfrm>
            <a:off x="826920" y="2421000"/>
            <a:ext cx="720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信心比黄金更重要！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9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4859280" y="3906720"/>
            <a:ext cx="428472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2195640" y="2493000"/>
            <a:ext cx="568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城乡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区域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经济社会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人与自然和谐发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统筹国内发展和对外开放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042920" y="9079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中宋"/>
              </a:rPr>
              <a:t>落实科学发展观，构建和谐社会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中宋"/>
              </a:rPr>
              <a:t>国民经济又好又快的发展必须做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611280" y="2637000"/>
            <a:ext cx="863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华文中宋"/>
              </a:rPr>
              <a:t>五个统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5000">
    <p:wipe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8000"/>
                            </p:stCondLst>
                            <p:childTnLst>
                              <p:par>
                                <p:cTn id="4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611280" y="1125360"/>
            <a:ext cx="73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     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考场是最安全的港湾，没有什么可怕的，我是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久经沙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老将，我怕谁？高考试题有什么难，都是基础加变化，我又不想得满分，只求正常发挥，没有过高的奢望，也就没有什么压力。高考试题都是命题专家智慧的结晶，具有科学性、选拔性和公平性，谁也别想通过投机取巧获胜。你难我难，我不畏难；你易我易，我不大意；你繁我繁，我不惧繁，努力克服患得患失的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3" descr="jp069a"/>
          <p:cNvPicPr/>
          <p:nvPr/>
        </p:nvPicPr>
        <p:blipFill>
          <a:blip r:embed="rId1"/>
          <a:stretch/>
        </p:blipFill>
        <p:spPr>
          <a:xfrm>
            <a:off x="-130320" y="5300640"/>
            <a:ext cx="1173240" cy="1557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6084720" y="4751280"/>
            <a:ext cx="3059280" cy="2106720"/>
          </a:xfrm>
          <a:prstGeom prst="rect">
            <a:avLst/>
          </a:prstGeom>
          <a:ln w="0">
            <a:noFill/>
          </a:ln>
        </p:spPr>
      </p:pic>
    </p:spTree>
  </p:cSld>
  <p:transition spd="slow" advTm="40000">
    <p:zoom dir="ou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0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with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2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3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4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25" dur="10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6948360" y="5221440"/>
            <a:ext cx="2195640" cy="163656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2"/>
          <p:cNvSpPr/>
          <p:nvPr/>
        </p:nvSpPr>
        <p:spPr>
          <a:xfrm>
            <a:off x="324000" y="1052640"/>
            <a:ext cx="79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古语说得好：“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宠辱不惊，看庭前花开花落；去留无意，望天上云卷云舒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到了考场，所有私心杂念一扫而光，完全进入一种忘我的临考“角色”之中。越接近高考，就越要淡化目标，使心理更加平和、冷静，防止“目标颤抖”。做到这些，人的思维和心态可达到最佳状态，记忆清晰，理解透彻，思维敏捷，思想活跃，联想丰富，语言流畅，论证严谨，计算准确，那么就有可能产生一种智慧与能力的爆发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checker dir="horz"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"/>
          <p:cNvSpPr/>
          <p:nvPr/>
        </p:nvSpPr>
        <p:spPr>
          <a:xfrm>
            <a:off x="2556000" y="69444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咱们就要高考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时间可要记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付出定有回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赶紧睡个好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别想分数高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放松最为重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爸妈最近很累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别忘对她笑笑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最后提醒一遍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检查铅笔小刀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WordArt 3"/>
          <p:cNvSpPr txBox="1"/>
          <p:nvPr/>
        </p:nvSpPr>
        <p:spPr>
          <a:xfrm rot="5400000">
            <a:off x="-786240" y="3241440"/>
            <a:ext cx="4451400" cy="5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心平气和迎接高考</a:t>
            </a:r>
            <a:endParaRPr b="1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checker dir="ver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0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2"/>
          <p:cNvSpPr/>
          <p:nvPr/>
        </p:nvSpPr>
        <p:spPr>
          <a:xfrm>
            <a:off x="1403280" y="1989000"/>
            <a:ext cx="65534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事成先成于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效高首高于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jp069a"/>
          <p:cNvPicPr/>
          <p:nvPr/>
        </p:nvPicPr>
        <p:blipFill>
          <a:blip r:embed="rId2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mb dir="horz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52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2"/>
          <p:cNvSpPr/>
          <p:nvPr/>
        </p:nvSpPr>
        <p:spPr>
          <a:xfrm>
            <a:off x="1332000" y="1413000"/>
            <a:ext cx="63370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每临大事，必先静气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静则神明，疑难冰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积极准备，坦然面对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最佳发挥，舍我其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3" descr="jp069a"/>
          <p:cNvPicPr/>
          <p:nvPr/>
        </p:nvPicPr>
        <p:blipFill>
          <a:blip r:embed="rId2"/>
          <a:stretch/>
        </p:blipFill>
        <p:spPr>
          <a:xfrm>
            <a:off x="0" y="467028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blinds dir="ver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2"/>
          <p:cNvSpPr/>
          <p:nvPr/>
        </p:nvSpPr>
        <p:spPr>
          <a:xfrm>
            <a:off x="826920" y="843120"/>
            <a:ext cx="80661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盘马弯弓，箭在弦上。笑谈高考，喜迎较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六月安泰，火爆吉祥。刀锋剑利，子弹登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从容上阵，崭露锋芒。四门学科，依次登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十年积攒，释放能量。双基扎实，智能闪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三基熟练，艺高胆壮。成竹在胸，意坚志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统揽全局，调度恰当。尝试探索，敢拼善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瞬时陌生，早有提防。警惕陷阱，戒误克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问道于零，不迷方向。联想丰富，挖掘隐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大小兼顾，当仁不让。见微知著，毫发不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分析论证，严谨稳当。条分缕析，敏捷流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处变不惊，转化有方。目标引路，分析导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动静结合，激情满腔。张弛有度，内热外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信心百倍，敌弱我强。百折不挠，锐不可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8000">
    <p:zoom dir="in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37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5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45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2000"/>
                            </p:stCondLst>
                            <p:childTnLst>
                              <p:par>
                                <p:cTn id="480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45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45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0"/>
                            </p:stCondLst>
                            <p:childTnLst>
                              <p:par>
                                <p:cTn id="494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45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500"/>
                            </p:stCondLst>
                            <p:childTnLst>
                              <p:par>
                                <p:cTn id="501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45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8000"/>
                            </p:stCondLst>
                            <p:childTnLst>
                              <p:par>
                                <p:cTn id="508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45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9500"/>
                            </p:stCondLst>
                            <p:childTnLst>
                              <p:par>
                                <p:cTn id="515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50" fill="hold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1000"/>
                            </p:stCondLst>
                            <p:childTnLst>
                              <p:par>
                                <p:cTn id="522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45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9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45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6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500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450" fill="hold"/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3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450" fill="hold"/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550" nodeType="afterEffect" fill="hold" presetClass="entr" presetID="37">
                                  <p:stCondLst>
                                    <p:cond delay="100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450" fill="hold"/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826920" y="1052640"/>
            <a:ext cx="73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黑体"/>
                <a:ea typeface="黑体"/>
              </a:rPr>
              <a:t>万事俱备，只欠东风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684360" y="2411640"/>
            <a:ext cx="5759280" cy="32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考前，考中，考后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所有高考事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都希望你冷静，细心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老师时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为你加油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为你祈祷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祝福.mp3" descr=""/>
          <p:cNvPicPr/>
          <p:nvPr/>
        </p:nvPicPr>
        <p:blipFill>
          <a:blip r:embed="rId2"/>
          <a:stretch/>
        </p:blipFill>
        <p:spPr>
          <a:xfrm>
            <a:off x="788508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2000">
    <p:zoom dir="out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1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7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2050920" y="3358080"/>
            <a:ext cx="6381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今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我们分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黑体"/>
                <a:ea typeface="黑体"/>
              </a:rPr>
              <a:t>300</a:t>
            </a: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堂哲学政治和经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希望能给你永远的人生启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333360"/>
            <a:ext cx="590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昨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在这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相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000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个日日夜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我们风雨同舟，同甘共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图片点击可在新窗口打开查看"/>
          <p:cNvPicPr/>
          <p:nvPr/>
        </p:nvPicPr>
        <p:blipFill>
          <a:blip r:embed="rId1"/>
          <a:stretch/>
        </p:blipFill>
        <p:spPr>
          <a:xfrm>
            <a:off x="5867280" y="549360"/>
            <a:ext cx="2371680" cy="2523960"/>
          </a:xfrm>
          <a:prstGeom prst="rect">
            <a:avLst/>
          </a:prstGeom>
          <a:ln w="0">
            <a:noFill/>
          </a:ln>
        </p:spPr>
      </p:pic>
    </p:spTree>
  </p:cSld>
  <p:transition spd="slow" advTm="50000">
    <p:checker dir="horz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8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7600"/>
                            </p:stCondLst>
                            <p:childTnLst>
                              <p:par>
                                <p:cTn id="58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755640" y="1150920"/>
            <a:ext cx="3456000" cy="2654280"/>
          </a:xfrm>
          <a:prstGeom prst="rect">
            <a:avLst/>
          </a:prstGeom>
          <a:noFill/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回首三年的紧张生活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有欢畅的笑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有痛快的哭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挥洒汗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曾经收获成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三年的书山揽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题海遨游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0" y="2637000"/>
            <a:ext cx="4032360" cy="3020040"/>
          </a:xfrm>
          <a:prstGeom prst="rect">
            <a:avLst/>
          </a:prstGeom>
          <a:noFill/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深夜里的孤灯奋战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夏日中的涔涔汗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父母的声声叮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老师的殷殷期盼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都将化作无穷动力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催你前行，励你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高中的美好回忆将被收藏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留待日后细细品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WordArt 4"/>
          <p:cNvSpPr txBox="1"/>
          <p:nvPr/>
        </p:nvSpPr>
        <p:spPr>
          <a:xfrm>
            <a:off x="2987640" y="3284640"/>
            <a:ext cx="1873440" cy="12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面对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6" name="WordArt 5"/>
          <p:cNvSpPr txBox="1"/>
          <p:nvPr/>
        </p:nvSpPr>
        <p:spPr>
          <a:xfrm>
            <a:off x="5292720" y="907920"/>
            <a:ext cx="1873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高考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7" name="WordArt 6"/>
          <p:cNvSpPr txBox="1"/>
          <p:nvPr/>
        </p:nvSpPr>
        <p:spPr>
          <a:xfrm>
            <a:off x="755640" y="4941720"/>
            <a:ext cx="2089080" cy="140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隶书"/>
              </a:rPr>
              <a:t>从容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隶书"/>
              <a:ea typeface="隶书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checker dir="vert"/>
  </p:transition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0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5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4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500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5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5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4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0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2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22000"/>
                            </p:stCondLst>
                            <p:childTnLst>
                              <p:par>
                                <p:cTn id="617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3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30000"/>
                            </p:stCondLst>
                            <p:childTnLst>
                              <p:par>
                                <p:cTn id="624" nodeType="afterEffect" fill="hold" presetClass="entr" presetID="17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pic>
        <p:nvPicPr>
          <p:cNvPr id="230" name="WordArt 2" descr=""/>
          <p:cNvPicPr/>
          <p:nvPr/>
        </p:nvPicPr>
        <p:blipFill>
          <a:blip r:embed="rId2"/>
          <a:stretch/>
        </p:blipFill>
        <p:spPr>
          <a:xfrm>
            <a:off x="835200" y="1060560"/>
            <a:ext cx="7791120" cy="2798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3"/>
          <p:cNvSpPr/>
          <p:nvPr/>
        </p:nvSpPr>
        <p:spPr>
          <a:xfrm>
            <a:off x="1258920" y="3357000"/>
            <a:ext cx="681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真心祝愿你考出好成绩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jp069a"/>
          <p:cNvPicPr/>
          <p:nvPr/>
        </p:nvPicPr>
        <p:blipFill>
          <a:blip r:embed="rId3"/>
          <a:stretch/>
        </p:blipFill>
        <p:spPr>
          <a:xfrm>
            <a:off x="611280" y="4149720"/>
            <a:ext cx="1647720" cy="21877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mb dir="horz"/>
  </p:transition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5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5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4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5000"/>
                            </p:stCondLst>
                            <p:childTnLst>
                              <p:par>
                                <p:cTn id="64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3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2124000" y="2637000"/>
            <a:ext cx="525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latin typeface="黑体"/>
              </a:rPr>
              <a:t>二、下列理论或者术语灵活运用</a:t>
            </a:r>
            <a:endParaRPr b="1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00"/>
              </a:solidFill>
              <a:latin typeface="黑体"/>
              <a:ea typeface="黑体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13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2"/>
          <p:cNvSpPr/>
          <p:nvPr/>
        </p:nvSpPr>
        <p:spPr>
          <a:xfrm>
            <a:off x="1403280" y="765000"/>
            <a:ext cx="6264360" cy="48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未来的路还很长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请你记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生就是一场战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社会就是那么残酷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努力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坚强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拼搏的人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我们要做一个无悔的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5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38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43000">
    <p:cover dir="d"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0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2"/>
          <p:cNvSpPr/>
          <p:nvPr/>
        </p:nvSpPr>
        <p:spPr>
          <a:xfrm>
            <a:off x="684360" y="765000"/>
            <a:ext cx="633708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毕业的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也是离别的日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真诚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祝福同学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一生平安  快乐幸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5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45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cover dir="r"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6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6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6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10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2"/>
          <p:cNvSpPr/>
          <p:nvPr/>
        </p:nvSpPr>
        <p:spPr>
          <a:xfrm>
            <a:off x="611280" y="93492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请  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再一次凝视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即将别离的校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“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品”字教学楼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留下的眼泪和欢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还有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灿烂的阳光下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满园浮动的栀子花香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朋友.mp3" descr=""/>
          <p:cNvPicPr/>
          <p:nvPr/>
        </p:nvPicPr>
        <p:blipFill>
          <a:blip r:embed="rId2"/>
          <a:stretch/>
        </p:blipFill>
        <p:spPr>
          <a:xfrm>
            <a:off x="7740720" y="5734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6"/>
          <p:cNvGrpSpPr/>
          <p:nvPr/>
        </p:nvGrpSpPr>
        <p:grpSpPr>
          <a:xfrm>
            <a:off x="0" y="5202360"/>
            <a:ext cx="1193760" cy="1655640"/>
            <a:chOff x="0" y="5202360"/>
            <a:chExt cx="1193760" cy="1655640"/>
          </a:xfrm>
        </p:grpSpPr>
        <p:pic>
          <p:nvPicPr>
            <p:cNvPr id="252" name="Picture 7" descr="jp069a"/>
            <p:cNvPicPr/>
            <p:nvPr/>
          </p:nvPicPr>
          <p:blipFill>
            <a:blip r:embed="rId3"/>
            <a:stretch/>
          </p:blipFill>
          <p:spPr>
            <a:xfrm>
              <a:off x="0" y="527364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8" descr="xiaran2046,20051129164419"/>
            <p:cNvPicPr/>
            <p:nvPr/>
          </p:nvPicPr>
          <p:blipFill>
            <a:blip r:embed="rId4"/>
            <a:stretch/>
          </p:blipFill>
          <p:spPr>
            <a:xfrm>
              <a:off x="287280" y="541836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9" descr="xiaran2046,20051129195842"/>
            <p:cNvPicPr/>
            <p:nvPr/>
          </p:nvPicPr>
          <p:blipFill>
            <a:blip r:embed="rId5"/>
            <a:stretch/>
          </p:blipFill>
          <p:spPr>
            <a:xfrm>
              <a:off x="720720" y="520236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cover dir="u"/>
  </p:transition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0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"/>
                            </p:stCondLst>
                            <p:childTnLst>
                              <p:par>
                                <p:cTn id="67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3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27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3001"/>
                            </p:stCondLst>
                            <p:childTnLst>
                              <p:par>
                                <p:cTn id="6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3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7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6001"/>
                            </p:stCondLst>
                            <p:childTnLst>
                              <p:par>
                                <p:cTn id="6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3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27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9001"/>
                            </p:stCondLst>
                            <p:childTnLst>
                              <p:par>
                                <p:cTn id="69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3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8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27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12001"/>
                            </p:stCondLst>
                            <p:childTnLst>
                              <p:par>
                                <p:cTn id="70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3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27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5001"/>
                            </p:stCondLst>
                            <p:childTnLst>
                              <p:par>
                                <p:cTn id="70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3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27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0" y="622440"/>
            <a:ext cx="5832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请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要记得，再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虽，时过境迁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但若干年后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勿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——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云阳中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2009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级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那块黑板上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写有我们的誓言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11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wipe dir="d"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fill="hold">
                            <p:stCondLst>
                              <p:cond delay="2000"/>
                            </p:stCondLst>
                            <p:childTnLst>
                              <p:par>
                                <p:cTn id="7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2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2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2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6000"/>
                            </p:stCondLst>
                            <p:childTnLst>
                              <p:par>
                                <p:cTn id="7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8000"/>
                            </p:stCondLst>
                            <p:childTnLst>
                              <p:par>
                                <p:cTn id="7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2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3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183280" y="3905280"/>
            <a:ext cx="3960720" cy="295272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116000" y="980640"/>
            <a:ext cx="604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请  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别忘了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你的老师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他们，曾用岁月沧桑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呵护你们成长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学生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那是老师不变的牵挂！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5"/>
          <p:cNvGrpSpPr/>
          <p:nvPr/>
        </p:nvGrpSpPr>
        <p:grpSpPr>
          <a:xfrm>
            <a:off x="34920" y="5157720"/>
            <a:ext cx="1193760" cy="1655640"/>
            <a:chOff x="34920" y="5157720"/>
            <a:chExt cx="1193760" cy="1655640"/>
          </a:xfrm>
        </p:grpSpPr>
        <p:pic>
          <p:nvPicPr>
            <p:cNvPr id="261" name="Picture 6" descr="jp069a"/>
            <p:cNvPicPr/>
            <p:nvPr/>
          </p:nvPicPr>
          <p:blipFill>
            <a:blip r:embed="rId2"/>
            <a:stretch/>
          </p:blipFill>
          <p:spPr>
            <a:xfrm>
              <a:off x="34920" y="5229000"/>
              <a:ext cx="1193760" cy="15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" descr="xiaran2046,20051129164419"/>
            <p:cNvPicPr/>
            <p:nvPr/>
          </p:nvPicPr>
          <p:blipFill>
            <a:blip r:embed="rId3"/>
            <a:stretch/>
          </p:blipFill>
          <p:spPr>
            <a:xfrm>
              <a:off x="322200" y="5373720"/>
              <a:ext cx="287280" cy="282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8" descr="xiaran2046,20051129195842"/>
            <p:cNvPicPr/>
            <p:nvPr/>
          </p:nvPicPr>
          <p:blipFill>
            <a:blip r:embed="rId4"/>
            <a:stretch/>
          </p:blipFill>
          <p:spPr>
            <a:xfrm>
              <a:off x="755640" y="5157720"/>
              <a:ext cx="35892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 advTm="30000">
    <p:push dir="u"/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8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2000"/>
                            </p:stCondLst>
                            <p:childTnLst>
                              <p:par>
                                <p:cTn id="76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8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fill="hold">
                            <p:stCondLst>
                              <p:cond delay="4000"/>
                            </p:stCondLst>
                            <p:childTnLst>
                              <p:par>
                                <p:cTn id="77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3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8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2"/>
          <p:cNvGrpSpPr/>
          <p:nvPr/>
        </p:nvGrpSpPr>
        <p:grpSpPr>
          <a:xfrm>
            <a:off x="36360" y="27000"/>
            <a:ext cx="9144000" cy="6858000"/>
            <a:chOff x="36360" y="27000"/>
            <a:chExt cx="9144000" cy="6858000"/>
          </a:xfrm>
        </p:grpSpPr>
        <p:pic>
          <p:nvPicPr>
            <p:cNvPr id="265" name="Picture 3" descr="DhfzSTJ3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36360" y="2700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Rectangle 4"/>
            <p:cNvSpPr/>
            <p:nvPr/>
          </p:nvSpPr>
          <p:spPr>
            <a:xfrm>
              <a:off x="6948360" y="4437000"/>
              <a:ext cx="86364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755640" y="5373720"/>
              <a:ext cx="72072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8" descr="415_179570_5642500721ca446"/>
          <p:cNvPicPr/>
          <p:nvPr/>
        </p:nvPicPr>
        <p:blipFill>
          <a:blip r:embed="rId1"/>
          <a:stretch/>
        </p:blipFill>
        <p:spPr>
          <a:xfrm>
            <a:off x="0" y="0"/>
            <a:ext cx="9325080" cy="6905520"/>
          </a:xfrm>
          <a:prstGeom prst="rect">
            <a:avLst/>
          </a:prstGeom>
          <a:ln w="0">
            <a:noFill/>
          </a:ln>
        </p:spPr>
      </p:pic>
      <p:sp>
        <p:nvSpPr>
          <p:cNvPr id="270" name="WordArt 3"/>
          <p:cNvSpPr txBox="1"/>
          <p:nvPr/>
        </p:nvSpPr>
        <p:spPr>
          <a:xfrm rot="5400000">
            <a:off x="-756360" y="1629720"/>
            <a:ext cx="3240000" cy="1079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7000"/>
                    </a:srgbClr>
                  </a:outerShdw>
                </a:effectLst>
                <a:latin typeface="宋体"/>
              </a:rPr>
              <a:t>相聚是缘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1" name="WordArt 4"/>
          <p:cNvSpPr txBox="1"/>
          <p:nvPr/>
        </p:nvSpPr>
        <p:spPr>
          <a:xfrm rot="5400000">
            <a:off x="1006560" y="2888640"/>
            <a:ext cx="3529080" cy="1152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7000"/>
                    </a:srgbClr>
                  </a:outerShdw>
                </a:effectLst>
                <a:latin typeface="宋体"/>
              </a:rPr>
              <a:t>再会是份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cover dir="lu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0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1508040" y="184464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的信任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476360" y="2751120"/>
            <a:ext cx="63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工作的支持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8"/>
          <p:cNvSpPr/>
          <p:nvPr/>
        </p:nvSpPr>
        <p:spPr>
          <a:xfrm>
            <a:off x="1486080" y="3614760"/>
            <a:ext cx="67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你对我工作不足的宽容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9"/>
          <p:cNvSpPr/>
          <p:nvPr/>
        </p:nvSpPr>
        <p:spPr>
          <a:xfrm>
            <a:off x="1515960" y="4587840"/>
            <a:ext cx="46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感谢同学们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3910320" y="2728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黑体"/>
                <a:ea typeface="黑体"/>
              </a:rPr>
              <a:t>三年来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comb dir="vert"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3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7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3000"/>
                            </p:stCondLst>
                            <p:childTnLst>
                              <p:par>
                                <p:cTn id="805" nodeType="afterEffect" fill="hold" presetClass="entr" presetID="37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3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7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9000"/>
                            </p:stCondLst>
                            <p:childTnLst>
                              <p:par>
                                <p:cTn id="812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5" dur="3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7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1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1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3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27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250920" y="620640"/>
            <a:ext cx="8713800" cy="28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寫信是快樂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收信是幸福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黑体"/>
              </a:rPr>
              <a:t>……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br>
              <a:rPr sz="3600"/>
            </a:br>
            <a:r>
              <a:rPr b="1" lang="zh-TW" sz="3600" spc="-1" strike="noStrike">
                <a:solidFill>
                  <a:srgbClr val="ffffff"/>
                </a:solidFill>
                <a:latin typeface="黑体"/>
                <a:ea typeface="黑体"/>
              </a:rPr>
              <a:t>希望不能常見面也要常用科技聯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971640" y="3518640"/>
            <a:ext cx="693108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余小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QQ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1399663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电话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:13996555853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-mail:yuxiaoyou@cqyyzx.c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0" y="6491160"/>
            <a:ext cx="3960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2E98-9498-42E0-95A8-3CCBF1A3588A}" type="datetime3">
              <a:rPr b="1" lang="zh-CN" sz="1800" spc="-1" strike="noStrike">
                <a:solidFill>
                  <a:srgbClr val="ff0000"/>
                </a:solidFill>
                <a:latin typeface="Arial"/>
              </a:rPr>
              <a:t>2026年7月28日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0">
    <p:randomBar dir="vert"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fill="hold">
                      <p:stCondLst>
                        <p:cond delay="0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withEffect" fill="hold" presetClass="entr" presetID="5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3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8200"/>
                            </p:stCondLst>
                            <p:childTnLst>
                              <p:par>
                                <p:cTn id="8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5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6" dur="5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4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KWFUF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0" y="292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WordArt 4" descr=""/>
          <p:cNvPicPr/>
          <p:nvPr/>
        </p:nvPicPr>
        <p:blipFill>
          <a:blip r:embed="rId2"/>
          <a:stretch/>
        </p:blipFill>
        <p:spPr>
          <a:xfrm>
            <a:off x="682560" y="1122480"/>
            <a:ext cx="7778880" cy="2882880"/>
          </a:xfrm>
          <a:prstGeom prst="rect">
            <a:avLst/>
          </a:prstGeom>
          <a:ln w="0">
            <a:noFill/>
          </a:ln>
        </p:spPr>
      </p:pic>
      <p:sp>
        <p:nvSpPr>
          <p:cNvPr id="285" name="WordArt 5"/>
          <p:cNvSpPr txBox="1"/>
          <p:nvPr/>
        </p:nvSpPr>
        <p:spPr>
          <a:xfrm>
            <a:off x="3132000" y="3500280"/>
            <a:ext cx="273528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再见</a:t>
            </a:r>
            <a:endParaRPr b="1" lang="en-US" sz="4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9"/>
          <p:cNvGrpSpPr/>
          <p:nvPr/>
        </p:nvGrpSpPr>
        <p:grpSpPr>
          <a:xfrm>
            <a:off x="0" y="5545080"/>
            <a:ext cx="9144000" cy="836640"/>
            <a:chOff x="0" y="5545080"/>
            <a:chExt cx="9144000" cy="836640"/>
          </a:xfrm>
        </p:grpSpPr>
        <p:pic>
          <p:nvPicPr>
            <p:cNvPr id="288" name="Picture 10" descr="KWFUF02"/>
            <p:cNvPicPr/>
            <p:nvPr/>
          </p:nvPicPr>
          <p:blipFill>
            <a:blip r:embed="rId3"/>
            <a:stretch/>
          </p:blipFill>
          <p:spPr>
            <a:xfrm>
              <a:off x="4643280" y="5589360"/>
              <a:ext cx="7225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11" descr="KWFUF02"/>
            <p:cNvPicPr/>
            <p:nvPr/>
          </p:nvPicPr>
          <p:blipFill>
            <a:blip r:embed="rId4"/>
            <a:stretch/>
          </p:blipFill>
          <p:spPr>
            <a:xfrm>
              <a:off x="5435640" y="5589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12" descr="KWFUF02"/>
            <p:cNvPicPr/>
            <p:nvPr/>
          </p:nvPicPr>
          <p:blipFill>
            <a:blip r:embed="rId5"/>
            <a:stretch/>
          </p:blipFill>
          <p:spPr>
            <a:xfrm>
              <a:off x="6232680" y="5589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13" descr="KWFUF02"/>
            <p:cNvPicPr/>
            <p:nvPr/>
          </p:nvPicPr>
          <p:blipFill>
            <a:blip r:embed="rId6"/>
            <a:stretch/>
          </p:blipFill>
          <p:spPr>
            <a:xfrm>
              <a:off x="6948360" y="5589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14" descr="KWFUF02"/>
            <p:cNvPicPr/>
            <p:nvPr/>
          </p:nvPicPr>
          <p:blipFill>
            <a:blip r:embed="rId7"/>
            <a:stretch/>
          </p:blipFill>
          <p:spPr>
            <a:xfrm>
              <a:off x="7628040" y="5589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15" descr="KWFUF02"/>
            <p:cNvPicPr/>
            <p:nvPr/>
          </p:nvPicPr>
          <p:blipFill>
            <a:blip r:embed="rId8"/>
            <a:stretch/>
          </p:blipFill>
          <p:spPr>
            <a:xfrm>
              <a:off x="8353440" y="5545080"/>
              <a:ext cx="790560" cy="83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6" descr="KWFUF02"/>
            <p:cNvPicPr/>
            <p:nvPr/>
          </p:nvPicPr>
          <p:blipFill>
            <a:blip r:embed="rId9"/>
            <a:stretch/>
          </p:blipFill>
          <p:spPr>
            <a:xfrm>
              <a:off x="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7" descr="KWFUF02"/>
            <p:cNvPicPr/>
            <p:nvPr/>
          </p:nvPicPr>
          <p:blipFill>
            <a:blip r:embed="rId10"/>
            <a:stretch/>
          </p:blipFill>
          <p:spPr>
            <a:xfrm>
              <a:off x="72072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18" descr="KWFUF02"/>
            <p:cNvPicPr/>
            <p:nvPr/>
          </p:nvPicPr>
          <p:blipFill>
            <a:blip r:embed="rId11"/>
            <a:stretch/>
          </p:blipFill>
          <p:spPr>
            <a:xfrm>
              <a:off x="1440000" y="5616360"/>
              <a:ext cx="7221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19" descr="KWFUF02"/>
            <p:cNvPicPr/>
            <p:nvPr/>
          </p:nvPicPr>
          <p:blipFill>
            <a:blip r:embed="rId12"/>
            <a:stretch/>
          </p:blipFill>
          <p:spPr>
            <a:xfrm>
              <a:off x="2236680" y="5616360"/>
              <a:ext cx="72252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20" descr="KWFUF02"/>
            <p:cNvPicPr/>
            <p:nvPr/>
          </p:nvPicPr>
          <p:blipFill>
            <a:blip r:embed="rId13"/>
            <a:stretch/>
          </p:blipFill>
          <p:spPr>
            <a:xfrm>
              <a:off x="3056040" y="5616360"/>
              <a:ext cx="723960" cy="76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21" descr="KWFUF02"/>
            <p:cNvPicPr/>
            <p:nvPr/>
          </p:nvPicPr>
          <p:blipFill>
            <a:blip r:embed="rId14"/>
            <a:stretch/>
          </p:blipFill>
          <p:spPr>
            <a:xfrm>
              <a:off x="3848040" y="5616360"/>
              <a:ext cx="723960" cy="76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Text Box 22"/>
          <p:cNvSpPr/>
          <p:nvPr/>
        </p:nvSpPr>
        <p:spPr>
          <a:xfrm>
            <a:off x="2916360" y="2565360"/>
            <a:ext cx="43923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ff00"/>
                </a:solidFill>
                <a:latin typeface="Arial"/>
                <a:ea typeface="华文隶书"/>
              </a:rPr>
              <a:t>谢谢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4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5000"/>
                            </p:stCondLst>
                            <p:childTnLst>
                              <p:par>
                                <p:cTn id="8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5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4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57" nodeType="afterEffect" fill="hold" presetClass="exit" presetID="53">
                                  <p:stCondLst>
                                    <p:cond delay="5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58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300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60" dur="3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3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5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3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27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2"/>
          <p:cNvSpPr/>
          <p:nvPr/>
        </p:nvSpPr>
        <p:spPr>
          <a:xfrm>
            <a:off x="179280" y="1413000"/>
            <a:ext cx="698364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社会主义本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共同富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科学技术是第一生产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社会主义生产目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80000">
    <p:wheel spokes="3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4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2"/>
          <p:cNvSpPr txBox="1"/>
          <p:nvPr/>
        </p:nvSpPr>
        <p:spPr>
          <a:xfrm>
            <a:off x="1979640" y="2492280"/>
            <a:ext cx="540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三、政治选择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pic>
        <p:nvPicPr>
          <p:cNvPr id="103" name="第四十号交响曲.mp3" descr=""/>
          <p:cNvPicPr/>
          <p:nvPr/>
        </p:nvPicPr>
        <p:blipFill>
          <a:blip r:embed="rId1"/>
          <a:stretch/>
        </p:blipFill>
        <p:spPr>
          <a:xfrm>
            <a:off x="8101080" y="5734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415_179570_5642500721ca446"/>
          <p:cNvPicPr/>
          <p:nvPr/>
        </p:nvPicPr>
        <p:blipFill>
          <a:blip r:embed="rId2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heel spokes="8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539640" y="210708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①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政治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选择题一般是集中排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②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政治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选择题中，只有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-3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个可能有较高难度，要胆大心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③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哲学试题抓好关键词语，甚至标点符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④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、千万注意题干知识方向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政治经济哲学等</a:t>
            </a:r>
            <a:r>
              <a:rPr b="1" lang="en-US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)</a:t>
            </a:r>
            <a:r>
              <a:rPr b="1" lang="zh-CN" sz="36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的规定性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3"/>
          <p:cNvSpPr txBox="1"/>
          <p:nvPr/>
        </p:nvSpPr>
        <p:spPr>
          <a:xfrm>
            <a:off x="2987640" y="404640"/>
            <a:ext cx="31669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选择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0">
    <p:wipe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9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7000"/>
                            </p:stCondLst>
                            <p:childTnLst>
                              <p:par>
                                <p:cTn id="88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37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2050920" y="242100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四、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5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7" descr="415_179570_5642500721ca446"/>
          <p:cNvPicPr/>
          <p:nvPr/>
        </p:nvPicPr>
        <p:blipFill>
          <a:blip r:embed="rId1"/>
          <a:srcRect l="10784" t="8332" r="4612" b="6503"/>
          <a:stretch/>
        </p:blipFill>
        <p:spPr>
          <a:xfrm>
            <a:off x="5003640" y="3772080"/>
            <a:ext cx="4140360" cy="3085920"/>
          </a:xfrm>
          <a:prstGeom prst="rect">
            <a:avLst/>
          </a:prstGeom>
          <a:ln w="0">
            <a:noFill/>
          </a:ln>
        </p:spPr>
      </p:pic>
      <p:sp>
        <p:nvSpPr>
          <p:cNvPr id="114" name="WordArt 2"/>
          <p:cNvSpPr txBox="1"/>
          <p:nvPr/>
        </p:nvSpPr>
        <p:spPr>
          <a:xfrm>
            <a:off x="4067280" y="33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黑体"/>
              </a:rPr>
              <a:t>政治综合题考场策略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1604880"/>
            <a:ext cx="7848720" cy="33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最关键的问题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试题是地理、历史还是政治试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经济、政治、还是哲学试题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明确是哲学那一个板块知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7270920" y="6521400"/>
            <a:ext cx="18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云阳中学余小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0">
    <p:blinds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3T11:45:34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5:35:26Z</dcterms:modified>
  <cp:revision>1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NXTAG2">
    <vt:lpwstr>000800424b000000000001024120</vt:lpwstr>
  </property>
</Properties>
</file>