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A06-F7C0-4493-B8D8-031B9435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217-A89A-4D39-BE10-7B24D14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C5A8B-D764-4123-948E-0D787015946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A52CE-3335-47CF-BB9E-3B9F07B9179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CF669-D2BA-468C-BD68-FEA6B5B472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D001-A56A-4379-AF34-EA3B2247969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38A95-53B2-488E-8DA5-43E5FFC7B49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25745-294B-447C-8A5A-54AB57A04B7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94D61-1605-434C-82A2-16C953E835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ACDA-7424-4BAA-975D-827DE1BBEE7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562C8-C3C4-47E8-A698-E0F91978535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2B9BE-D393-4217-AAA1-3AD820D45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4A6-4B2A-4A08-AA1A-986D2943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6B608-3CA5-4233-BA59-ACB1A10A0C9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4619E-EE63-431F-A529-B1F885A95B5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43FD3-AC57-47F6-8414-BA9DDCDC019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E1358-A12F-4070-AAFE-0696587E48C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02629-FEB9-4C1F-BAD8-9196205EA7F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CFCE9-F179-48D7-B9EE-4FF65D5995D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DFE41-5439-4D74-A8CF-152CC52D122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903D1-4C76-4E34-8148-A7B8A2505AC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F0CF4-66AE-41E0-8BCD-8937436766F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9DBD4-7352-453A-8677-C3ACA012F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390-10BF-4E35-9741-C10B701F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6A8BC-DD9E-4F5F-877D-F2AFCC413B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A8BD28-6FE0-4239-B84A-006107C55AF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22762B-C3DD-4E84-A7A4-C79767E516C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35C8AA-6A4E-4E89-A287-11153B4D774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C0A47C-A45F-4DAF-A8CA-AC493E0BC6E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971F3E-1A29-48CE-A146-F01B7DC36CF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C4AC3D-DEFD-4840-859A-1C4D30FB5A6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1FA49D-FC77-478F-B168-CD73544A35F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22DE44-4798-4CC7-ACE1-E2D4C3B3F40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53BD3-7D4D-4DD0-B43F-C88F9B17C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BD0C5-EA63-496E-9B07-C70075F11E2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72D799-BEDE-4AD1-A864-889D99C254D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EC5C14-7E68-4843-9192-7D79F6BA836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D6CD37-65A5-4BB8-93AF-AF24FF75341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0B3A7-D490-472A-9126-08E26E05503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4B38C-82EB-4574-9F9F-2F0964542E2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5DE53-C93D-4266-A319-8D2C739B051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8DB63-B479-4DB8-B2C6-C4DBC93D27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B2B22-F921-4CA8-9654-04E3985AE9E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FB350-F789-45B6-BF25-6E4239D9B07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A1A2D-3DCE-4B27-88AD-0FDF8A96A5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E049A-4BD3-480D-A64F-C8345E266F9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412B9-324C-4727-A3D5-D4B85C4D345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3C063-4EED-4D7C-B692-A7CCA3A31EC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F0FE1-282B-4403-AB96-C5B568FD305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E6FDA-C265-4962-B458-4ED78E3A881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EC647-FCEA-4A92-953A-C57374E98DE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9FFD4-37B3-4722-A4CF-E8160D36C72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7A14D-83AF-41D0-9D6C-C2BE2D5F915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11CDE-57CF-4471-A111-F2E19BEE589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03465-F254-4EA1-A79F-6D64E862A18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4AD0D-0F94-4849-8F76-4FAB3E12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CE897-2524-46B6-B7A1-152E996D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6F8ED-536A-4354-84DF-6B02998E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212E9-F4E0-43FD-BBF1-8E63588A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B10D7-D0B1-418F-84D8-E61C84C4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F3679-ED12-4227-B51D-23FEA167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3B093-05B2-48DF-B41D-EC638E3E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A8C73-D12F-408E-A533-6C18348A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70CF5-D7B3-4CD7-BD4C-DB1C27A2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81D0A-9E10-4F83-8841-D297D291039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492D3-54F7-484B-9114-07E3FAB0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26A8C-C0D8-40D4-A3E3-ADC63CC5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0393A-E6F0-446B-AF62-B16964E9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B65-929D-4156-906A-A025250F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97E7E-4E45-41C3-9945-AEC4E674AF1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11A533-3171-4615-A4D3-43F9A9911B5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C1D7D-B4FA-4CE2-93BB-5AA06F1D49D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898518-A644-45BE-AD45-00C207B4DB2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EE3CCD-9ACF-48D8-B61C-4A207107A02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E933B0-81A1-4E91-B998-ACAF75171D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22211-EE62-4A1E-9DF1-B855E3F670C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A5448E-C148-4ED4-8C0E-2F5D0EACEB6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E1DADD-6E09-4777-8D90-B59E0CD5D77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4AC440-1A4E-4DAC-B1A9-922398A3F63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F2A70E-7B4C-447D-AAB0-A8A2E673EAC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6C477E-6051-4142-B48B-CED8A3D7E78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8C46D5-9867-4286-8F3A-76BC4A3240C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3FCA89-AEE2-4C42-ACBA-932A0B80077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547C0-8681-4B1E-A429-F48EB76254E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9D18F-8F7D-4C6B-82B0-F7F646812ED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46617-216F-45C5-80C0-0D31D3D446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5A2A1-209C-43A8-81C7-83D8BFD2F45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94D34-0D42-4C82-846A-F4BC42D0344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EF03A-A64C-416A-AC6E-1EF2E689D87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17795-A9D8-4B37-B22B-1E9CB4C6D04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B5C27-6E06-41BC-B895-8ECB269690C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6EA1D-FBB9-4A1D-B05B-E1D2066DE40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822DF-BE38-4376-9B8B-63C590AD20B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9F739-B802-4F73-965D-FB930F8507E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CCB51-77FE-4B1C-9676-775F5351747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3CEBC-AC93-4A1E-915B-6EAA65B8079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CFA10-FCE1-41C6-A05C-419625F10D2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F0380-9C55-4D58-8C9D-4B771BF3852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E5568-706F-4E89-A455-A2853C636DE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30942-14B2-4602-B062-8D8D62260DD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E6757-91D2-4AFE-9CEF-B693327CF6D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88B74-BD28-4BB4-9718-7E874810163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B87A4-810A-4D83-867D-62E6848E6AB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772EC-7FC4-4113-AD83-6CDDB4A1C68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FB183-0BB7-4579-B9DC-2F510FB8D3E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7889A-9450-4F20-B4F7-C379CEAA40A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AFFC3-16E3-4F72-8BA4-24659B4C0E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06932-9300-4D18-A689-5508C62506F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9AC15-C628-4489-B564-FE72B50A34B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1D666-8EB0-4994-98F9-18CE048267E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80D0C-58BD-4D3D-BA36-F93F6FF03C5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A0E47C-3952-418B-8670-EFFF81FFC62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C3449C-9BFD-4DEF-92DF-7967B4F147A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8124FA-7456-4EBE-8487-7AF4DFA867A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55EA55-996D-42BF-84B6-AC462F7A84C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90EC2F-548E-4206-BE4C-099948CA9AF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3A5B3D-4F82-4E9A-A61F-17AC97668A3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816E35-182D-47F1-9139-FEFC4A680C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829716-D24D-4D88-99C7-E59DE441C70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872D81-F895-43C1-9F86-CAAC7DB182D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662FD8-AEA1-4443-9D77-4A002B65AE6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358051-576B-490B-90D5-93E1DE1EB6D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853171-C948-48F2-B98E-74757D0F234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50A177-3EED-4417-B8AE-7EB54A22EA1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6969E-DE51-4289-B110-A581BC9DB2A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09FF9-3B9B-4353-AAE5-2F952810542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C0D80-A90C-49D2-823C-2315D5FA403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25415-1FE0-4BD3-897F-3D9451917EF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95A0F-87FB-4523-B7DD-818140C7FC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69769-7C69-40F7-A42F-F6D27C41407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04F94-2B36-4F1D-9CFF-9C4AB697407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A0FF3-EF61-47C0-B361-3ACB444CAFA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8A93D-2490-42D5-A083-E0D8C2C702A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6F8A3-1D6F-423D-92A1-0E9F59A0F88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24F17-F9A5-4777-9A83-49DD408F772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CF2A7-5466-48EC-805E-D096DD9CD21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241C1-89A8-4417-B35F-AECCDDCE53B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FC491-643D-45D2-B8FA-1C1A1272356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D0A44-9BA4-4F34-8D2C-188494AFDAF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23936-1A92-481C-BB9C-A7843A422F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56644-2D3D-4D56-8AE1-3D16BB39DE4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39503-1D77-492F-B254-387470BF0D5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C9CCC-E29E-4F4A-A253-89A12456378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6DD7B-0F0A-40E4-9D7E-721E4CD08D9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9F642-5715-413F-AC2B-02D80B61EB4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8BD1F-7F40-4CA8-A33C-CD293D03B0B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FC992-EC94-4B36-AA87-12640BE9BAC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78753-7A1B-4063-BED6-2988DDE1995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A87B8-1542-43C6-A145-BFAAC3EDFAD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14328-5BB2-41CB-864E-CCDCD3395D5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161D68-F5CD-4D48-8C94-5D3E279DEF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407D6-1A0E-40B0-BF7E-F0F9EB088E3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568BAA-8264-4ED7-9F31-329726719E6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F08E5C-207D-4D74-AD10-3D076C46A6C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29D3E6-4B99-4CB6-A1CA-FA314EC3200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90A384-4CF5-48C8-AD5E-36EA116A39E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A7E018-9B0F-45F4-B1C6-4A44B10A13C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9D6FF7-7412-4923-8D00-281237FFD2B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7689F9-3F5E-4A17-BC01-BF15C397A72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A13E6F-DD77-4F84-87CE-0ED0367FC78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E564DB-8834-4321-BAA0-FCB38B6E379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A4F6DE-BDAC-4002-B5E4-DFB972A5B8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983-5E6D-4ED0-8C1D-5E5E51D9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DC4E8-2070-48DD-9EC6-72B31C83DF7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81C066-672B-4C2A-9AAF-22B9D16B50A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B3985-1812-46C0-A326-3C194D0E247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4C706B-D257-48CD-BCAE-BE77FBAA713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1484CC-4EB6-422B-A1E5-6277D5EE0C78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510BE8-B3AA-4827-9B52-AF8E7CD0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C743C7-3E68-4AE8-8300-E5BA81C4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DAC689-C0E7-4F7B-82E6-3591ED57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A4EB5-A895-423F-AF08-1E12AF6FA5F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313C4C-1241-401C-BE9C-597F378A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D624D2-F3DE-4507-A007-CF8D363E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658192-0BBB-4B17-8812-31E011FF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9952E7-A955-480F-917F-58A31F4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061732-9D8D-4FC2-A8F5-F8F77040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B0F98D-4C03-468E-8651-9FEEF1F3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A7F439-0695-4FB9-85CF-282BAD99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C92297-DF13-48E4-A663-AA0E79AA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8CAA8D-834A-49F7-809D-D208D213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C8C5E-3FC5-4921-9D8A-23E4313211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0B08B1-A6A0-43B6-B88F-A24DCB3DA6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40C-985C-438F-B8E6-8D0E8AE9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0D39-AF02-4136-B533-63EFA1146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417-97C8-465D-8B3D-C7171D8C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6E13-FECF-4BE3-ADE0-EA25957248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13CA-75A5-42A8-9A34-D9EE27FCF0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3FE9-D118-45A4-8DF1-E301B81B297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BD2FA-DC46-4186-8915-02EAA48DA9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3D36-79CE-4E0A-AC7C-650AC1B0C9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79662-FA79-4B1C-9CCB-FEA9119081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54E9-888F-49CC-BD83-E1766589280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88FB-5389-4820-BC8E-7F0E0D8FB88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E873-B84F-4A1A-95FF-7FBD6EEDF7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8782-EE6C-4DD5-A84A-7576CD314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3A7-086F-41A0-A610-0713BE30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21BD-9CF9-4073-B561-F8155B2C2C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58A30-69C8-4007-97D8-B9BB4B533C1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C3CB4-1EFD-4FD9-85A4-4BB28EC040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78FC7-0669-4020-8370-908C2EF948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5FE9C-5BC5-47B1-8F85-A9AA9E2E9B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2FADD-9A81-4299-A3D5-2D78C476832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BE86E-3F16-42EA-93AC-38CF7399AA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1670E-C3E0-45EB-AD2A-27B6E1786AD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32FB7-428C-4711-BDF0-8F53E83B92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4DC65-9F2E-41B2-8BBE-B2A2756FA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9A4-8C21-4254-A6A6-9D1BE8B5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E9453-51E0-44CE-A8C3-5AFAC387E0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9D3AC-89F0-4565-B403-08197B7BB2D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ED1CE-844F-433F-8D40-EC0E72F10B4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4B3-4835-453E-A242-E4E23241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6AF7B6-24A2-49AE-8AAB-BDB8EF67C54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9BE723-4220-4B34-A2CB-CB13FF9CEF3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060933-357F-4592-B990-0EC0F176F05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1C8851-3E19-4009-9EBA-2552B2EF07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885803-3B45-4EF2-9767-A60BA2222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DB7-F31F-4F25-8F78-71686AC9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E407E9-9505-49AB-BCE8-06145703F65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67A478-9AC3-4550-B9C7-BD58B5F29DE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B029B-6EC7-4192-BD20-AB781520C88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5807B1-C2C6-45D0-A8BE-FDD13C014EE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27B069-C20B-42A6-B31C-453D020F14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6DB921-3D40-4C5B-96B9-FF9A53B5AFB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FC5CD9-F41E-4D3E-9E64-F61AE50AF0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2850E-ADD0-4BE9-A142-879EF3ADDF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2880-DD5C-4AD7-A1B3-CD4782FAC24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AA9FC-BEC2-47A4-8426-7D48AA572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DD4A-57F6-4604-8457-0554F06BBA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3E8D-9C49-4608-AB4F-FE92B1E8F44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498A-7855-46E2-B14F-79F104E5CF6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2EC9-57F1-49FE-8D64-82FFC9D145A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7523-665A-4DCD-B0DA-C52F47512B1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B432-D7B8-4E41-9E26-C6B884E08A3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F78C-1FE9-448E-BE79-00B5705472C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2881-225F-4DC2-B247-E0A2B1761F1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8214-D110-4C9A-9059-96EDF35494F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D08F-2204-4A47-AA59-704087D8109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3B01-5987-496C-922C-25519A831B4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B399-ECE8-4D5F-A5C0-03778CE2088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E693-19EB-4708-892A-2CAE7944FFA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9975-C57F-43D7-89E2-DC9BD42317B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85C3-03FB-4525-9E02-2E1F43CF7B8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26A4-B0D8-4962-B63F-54FF10A969B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9672-D509-42BE-9543-4E5938FEDFF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A9D0-FFFA-43CC-ADEB-D2CA057A30C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8ECA-54C3-4277-ACA6-20176B57EE7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219240" y="68400"/>
            <a:ext cx="4929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卡通</a:t>
            </a: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模板下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12"/>
          <p:cNvSpPr/>
          <p:nvPr/>
        </p:nvSpPr>
        <p:spPr>
          <a:xfrm>
            <a:off x="4143240" y="17859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学习的校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卡通幻灯片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学习的校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矩形 5"/>
          <p:cNvSpPr/>
          <p:nvPr/>
        </p:nvSpPr>
        <p:spPr>
          <a:xfrm>
            <a:off x="6308640" y="4218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그룹 27"/>
          <p:cNvGrpSpPr/>
          <p:nvPr/>
        </p:nvGrpSpPr>
        <p:grpSpPr>
          <a:xfrm>
            <a:off x="1981080" y="1558800"/>
            <a:ext cx="5543640" cy="3814920"/>
            <a:chOff x="1981080" y="1558800"/>
            <a:chExt cx="5543640" cy="3814920"/>
          </a:xfrm>
        </p:grpSpPr>
        <p:sp>
          <p:nvSpPr>
            <p:cNvPr id="1184" name="AutoShape 38"/>
            <p:cNvSpPr/>
            <p:nvPr/>
          </p:nvSpPr>
          <p:spPr>
            <a:xfrm>
              <a:off x="1981080" y="15588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AutoShape 39"/>
            <p:cNvSpPr/>
            <p:nvPr/>
          </p:nvSpPr>
          <p:spPr>
            <a:xfrm>
              <a:off x="2022120" y="1607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WordArt 40"/>
            <p:cNvSpPr txBox="1"/>
            <p:nvPr/>
          </p:nvSpPr>
          <p:spPr>
            <a:xfrm>
              <a:off x="2231640" y="174276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7" name="WordArt 41"/>
            <p:cNvSpPr txBox="1"/>
            <p:nvPr/>
          </p:nvSpPr>
          <p:spPr>
            <a:xfrm>
              <a:off x="4147920" y="180468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88" name="Line 42"/>
            <p:cNvSpPr/>
            <p:nvPr/>
          </p:nvSpPr>
          <p:spPr>
            <a:xfrm flipH="1">
              <a:off x="3996720" y="1784160"/>
              <a:ext cx="4680" cy="2044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AutoShape 43"/>
            <p:cNvSpPr/>
            <p:nvPr/>
          </p:nvSpPr>
          <p:spPr>
            <a:xfrm>
              <a:off x="1981080" y="2357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AutoShape 44"/>
            <p:cNvSpPr/>
            <p:nvPr/>
          </p:nvSpPr>
          <p:spPr>
            <a:xfrm>
              <a:off x="2030040" y="24192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WordArt 45"/>
            <p:cNvSpPr txBox="1"/>
            <p:nvPr/>
          </p:nvSpPr>
          <p:spPr>
            <a:xfrm>
              <a:off x="2231640" y="254304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2" name="WordArt 46"/>
            <p:cNvSpPr txBox="1"/>
            <p:nvPr/>
          </p:nvSpPr>
          <p:spPr>
            <a:xfrm>
              <a:off x="4147920" y="260316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3" name="Line 47"/>
            <p:cNvSpPr/>
            <p:nvPr/>
          </p:nvSpPr>
          <p:spPr>
            <a:xfrm>
              <a:off x="3997080" y="254304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AutoShape 48"/>
            <p:cNvSpPr/>
            <p:nvPr/>
          </p:nvSpPr>
          <p:spPr>
            <a:xfrm>
              <a:off x="1981080" y="31590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AutoShape 49"/>
            <p:cNvSpPr/>
            <p:nvPr/>
          </p:nvSpPr>
          <p:spPr>
            <a:xfrm>
              <a:off x="2030040" y="322092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WordArt 50"/>
            <p:cNvSpPr txBox="1"/>
            <p:nvPr/>
          </p:nvSpPr>
          <p:spPr>
            <a:xfrm>
              <a:off x="2231640" y="334476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7" name="WordArt 51"/>
            <p:cNvSpPr txBox="1"/>
            <p:nvPr/>
          </p:nvSpPr>
          <p:spPr>
            <a:xfrm>
              <a:off x="4147920" y="340524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8" name="Line 52"/>
            <p:cNvSpPr/>
            <p:nvPr/>
          </p:nvSpPr>
          <p:spPr>
            <a:xfrm>
              <a:off x="3997080" y="334476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AutoShape 53"/>
            <p:cNvSpPr/>
            <p:nvPr/>
          </p:nvSpPr>
          <p:spPr>
            <a:xfrm>
              <a:off x="1981080" y="3959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AutoShape 54"/>
            <p:cNvSpPr/>
            <p:nvPr/>
          </p:nvSpPr>
          <p:spPr>
            <a:xfrm>
              <a:off x="2030040" y="40194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WordArt 55"/>
            <p:cNvSpPr txBox="1"/>
            <p:nvPr/>
          </p:nvSpPr>
          <p:spPr>
            <a:xfrm>
              <a:off x="2231640" y="414360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2" name="WordArt 56"/>
            <p:cNvSpPr txBox="1"/>
            <p:nvPr/>
          </p:nvSpPr>
          <p:spPr>
            <a:xfrm>
              <a:off x="4147920" y="420372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3" name="Line 57"/>
            <p:cNvSpPr/>
            <p:nvPr/>
          </p:nvSpPr>
          <p:spPr>
            <a:xfrm>
              <a:off x="3997080" y="414324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AutoShape 58"/>
            <p:cNvSpPr/>
            <p:nvPr/>
          </p:nvSpPr>
          <p:spPr>
            <a:xfrm>
              <a:off x="1981080" y="475956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AutoShape 59"/>
            <p:cNvSpPr/>
            <p:nvPr/>
          </p:nvSpPr>
          <p:spPr>
            <a:xfrm>
              <a:off x="2030040" y="4784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WordArt 60"/>
            <p:cNvSpPr txBox="1"/>
            <p:nvPr/>
          </p:nvSpPr>
          <p:spPr>
            <a:xfrm>
              <a:off x="2231640" y="494352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7" name="WordArt 61"/>
            <p:cNvSpPr txBox="1"/>
            <p:nvPr/>
          </p:nvSpPr>
          <p:spPr>
            <a:xfrm>
              <a:off x="4147920" y="5005440"/>
              <a:ext cx="1512720" cy="1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8" name="Line 62"/>
            <p:cNvSpPr/>
            <p:nvPr/>
          </p:nvSpPr>
          <p:spPr>
            <a:xfrm>
              <a:off x="3997080" y="494352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그룹 54"/>
          <p:cNvGrpSpPr/>
          <p:nvPr/>
        </p:nvGrpSpPr>
        <p:grpSpPr>
          <a:xfrm>
            <a:off x="1052640" y="1558800"/>
            <a:ext cx="785520" cy="3814920"/>
            <a:chOff x="1052640" y="1558800"/>
            <a:chExt cx="785520" cy="3814920"/>
          </a:xfrm>
        </p:grpSpPr>
        <p:sp>
          <p:nvSpPr>
            <p:cNvPr id="1210" name="AutoShape 38"/>
            <p:cNvSpPr/>
            <p:nvPr/>
          </p:nvSpPr>
          <p:spPr>
            <a:xfrm>
              <a:off x="1052640" y="15588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AutoShape 39"/>
            <p:cNvSpPr/>
            <p:nvPr/>
          </p:nvSpPr>
          <p:spPr>
            <a:xfrm>
              <a:off x="1058760" y="1607760"/>
              <a:ext cx="77148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43"/>
            <p:cNvSpPr/>
            <p:nvPr/>
          </p:nvSpPr>
          <p:spPr>
            <a:xfrm>
              <a:off x="1052640" y="2357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44"/>
            <p:cNvSpPr/>
            <p:nvPr/>
          </p:nvSpPr>
          <p:spPr>
            <a:xfrm>
              <a:off x="1058760" y="24192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48"/>
            <p:cNvSpPr/>
            <p:nvPr/>
          </p:nvSpPr>
          <p:spPr>
            <a:xfrm>
              <a:off x="1052640" y="31590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49"/>
            <p:cNvSpPr/>
            <p:nvPr/>
          </p:nvSpPr>
          <p:spPr>
            <a:xfrm>
              <a:off x="1058760" y="322092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53"/>
            <p:cNvSpPr/>
            <p:nvPr/>
          </p:nvSpPr>
          <p:spPr>
            <a:xfrm>
              <a:off x="1052640" y="3959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AutoShape 54"/>
            <p:cNvSpPr/>
            <p:nvPr/>
          </p:nvSpPr>
          <p:spPr>
            <a:xfrm>
              <a:off x="1058760" y="40194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AutoShape 58"/>
            <p:cNvSpPr/>
            <p:nvPr/>
          </p:nvSpPr>
          <p:spPr>
            <a:xfrm>
              <a:off x="1052640" y="475956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AutoShape 59"/>
            <p:cNvSpPr/>
            <p:nvPr/>
          </p:nvSpPr>
          <p:spPr>
            <a:xfrm>
              <a:off x="1058760" y="4784760"/>
              <a:ext cx="77292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TextBox 56"/>
          <p:cNvSpPr/>
          <p:nvPr/>
        </p:nvSpPr>
        <p:spPr>
          <a:xfrm>
            <a:off x="1247760" y="1566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Box 57"/>
          <p:cNvSpPr/>
          <p:nvPr/>
        </p:nvSpPr>
        <p:spPr>
          <a:xfrm>
            <a:off x="1247760" y="24004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Box 58"/>
          <p:cNvSpPr/>
          <p:nvPr/>
        </p:nvSpPr>
        <p:spPr>
          <a:xfrm>
            <a:off x="1247760" y="31813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Box 59"/>
          <p:cNvSpPr/>
          <p:nvPr/>
        </p:nvSpPr>
        <p:spPr>
          <a:xfrm>
            <a:off x="1247760" y="3987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Box 60"/>
          <p:cNvSpPr/>
          <p:nvPr/>
        </p:nvSpPr>
        <p:spPr>
          <a:xfrm>
            <a:off x="1247760" y="4775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矩形 1"/>
          <p:cNvSpPr/>
          <p:nvPr/>
        </p:nvSpPr>
        <p:spPr>
          <a:xfrm>
            <a:off x="539640" y="144468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矩形 2"/>
          <p:cNvSpPr/>
          <p:nvPr/>
        </p:nvSpPr>
        <p:spPr>
          <a:xfrm>
            <a:off x="522360" y="1125360"/>
            <a:ext cx="81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1" descr=""/>
          <p:cNvPicPr/>
          <p:nvPr/>
        </p:nvPicPr>
        <p:blipFill>
          <a:blip r:embed="rId2"/>
          <a:stretch/>
        </p:blipFill>
        <p:spPr>
          <a:xfrm>
            <a:off x="2341440" y="2419200"/>
            <a:ext cx="4924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7:51Z</dcterms:modified>
  <cp:revision>2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