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25F-0EE6-49B9-9523-ABC1AD6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71F-A9EC-4B71-84B2-E6F4682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F87-3C78-4C35-9C94-E41E60A5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F05-EC26-48F8-87BF-F6043D4D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6FC-5AE5-4B45-B478-9DBDFEB0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126-BDA7-45F6-8AA7-5860F100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A3F-4E6F-4D74-B192-E35CECF3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8AC3-5F5A-4AD0-92AE-20629489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096C-C34F-4EAF-8EDD-6CFF027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9B79-CDE2-4782-A6F2-F38FE9C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EB3A-F4E9-4C0C-AE74-7A560ED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FB1-7A3A-4AEF-9F08-E0883986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CDBD-C13E-4539-80B0-C92C890E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786-0614-4E71-98D1-9D33C23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4A55-E810-4490-B579-E0EBAF2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4409-2EE9-4618-BC18-B7D37331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5D8-C6D3-4601-8E4A-13D52851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B7CB-8185-4B61-BA3B-FD1C9AC4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D8B2-2C96-479F-8D98-28F301E4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1CC3-A240-4CC3-8EBE-EAB2F612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A406-602B-4028-902A-9A1A5595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F6FB-8559-4290-893C-8746D846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DFD-8A9C-4064-A24C-366C0C7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3BAD-44BF-4FC8-A0EC-789075D3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8CDE-3212-4358-BAD1-230360FA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72AB-7EE4-4325-BBE4-DB80889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655A-ED44-456A-B7BD-0311831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0072-F1C5-4C5B-B503-F8CEB6A3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0B24-0994-4124-ABB1-68B20093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B103-B7A1-419F-A8FE-7F58D215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BB3-B004-4774-9E23-85CCB68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AA0-1808-4BB3-B139-2B38F87E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EFB-93D5-4BC8-9DF4-871ABB0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A19-360B-4A67-B7FB-37C2F23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3F1-82AE-4DD1-B481-DAD5994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EDE-53B3-4330-8C49-7C5A0FF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8D4-2132-485D-B3F1-E44F8B340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2EB-E48D-4CF7-8FD3-F7391406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282-2B8C-4B20-8F24-8505C9A901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A27-371C-4819-8100-46E3AEEF9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2"/>
          <a:srcRect l="0" t="3849" r="0" b="7080"/>
          <a:stretch/>
        </p:blipFill>
        <p:spPr>
          <a:xfrm>
            <a:off x="-14400" y="-27000"/>
            <a:ext cx="9158400" cy="6899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1628640"/>
            <a:ext cx="7427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看 云 识 天 气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阅读第四、五节，完成表格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1523880"/>
          <a:ext cx="8458200" cy="4903920"/>
        </p:xfrm>
        <a:graphic>
          <a:graphicData uri="http://schemas.openxmlformats.org/drawingml/2006/table">
            <a:tbl>
              <a:tblPr/>
              <a:tblGrid>
                <a:gridCol w="1754280"/>
                <a:gridCol w="4660920"/>
                <a:gridCol w="204300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形       状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卷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75760" y="260280"/>
            <a:ext cx="9115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华文彩云"/>
              </a:rPr>
              <a:t>         </a:t>
            </a: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华文彩云"/>
              </a:rPr>
              <a:t>卷  层  云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高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-677160" y="1052640"/>
            <a:ext cx="200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f47e7"/>
                </a:solidFill>
                <a:latin typeface="Arial"/>
                <a:ea typeface="华文彩云"/>
              </a:rPr>
              <a:t>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  <a:ea typeface="华文彩云"/>
              </a:rPr>
              <a:t>高  层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2" descr="雨层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3424680" y="1133640"/>
            <a:ext cx="256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cc"/>
                </a:solidFill>
                <a:latin typeface="Arial"/>
                <a:ea typeface="华文彩云"/>
              </a:rPr>
              <a:t>雨  层  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积雨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257800" y="457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cc"/>
                </a:solidFill>
                <a:latin typeface="Times New Roman"/>
                <a:ea typeface="华文彩云"/>
              </a:rPr>
              <a:t>积  雨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阅读第六节，完成表格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714680"/>
                <a:gridCol w="4008240"/>
                <a:gridCol w="20494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云 彩 情 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晕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楷体_GB2312"/>
                          <a:ea typeface="楷体_GB2312"/>
                        </a:rPr>
                        <a:t>华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虹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霞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39"/>
          <p:cNvSpPr/>
          <p:nvPr/>
        </p:nvSpPr>
        <p:spPr>
          <a:xfrm>
            <a:off x="7467480" y="6172200"/>
            <a:ext cx="1067040" cy="45720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日晕"/>
          <p:cNvPicPr/>
          <p:nvPr/>
        </p:nvPicPr>
        <p:blipFill>
          <a:blip r:embed="rId2"/>
          <a:stretch/>
        </p:blipFill>
        <p:spPr>
          <a:xfrm>
            <a:off x="0" y="0"/>
            <a:ext cx="5364000" cy="444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月晕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3"/>
          <p:cNvSpPr/>
          <p:nvPr/>
        </p:nvSpPr>
        <p:spPr>
          <a:xfrm>
            <a:off x="7093080" y="184464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1979640" y="4724280"/>
            <a:ext cx="360360" cy="505080"/>
          </a:xfrm>
          <a:prstGeom prst="upArrow">
            <a:avLst>
              <a:gd name="adj1" fmla="val 50000"/>
              <a:gd name="adj2" fmla="val 35040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6156360" y="620640"/>
            <a:ext cx="230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日  晕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971640" y="5516640"/>
            <a:ext cx="21603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月 晕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1240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彩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372360" y="105264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彩云"/>
              </a:rPr>
              <a:t>虹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5943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4" descr="霞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1692360" y="90792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华文彩云"/>
              </a:rPr>
              <a:t>霞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739152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品位语言，学习写法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文中运用了哪些修辞方法？你能举出具体的例子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文中哪些词语能够体现说明文语言的准确性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你认为要写好一篇说明文应该注意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谚  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805032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早上乌云盖，无雨也风来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上鲤鱼斑，明天晒谷不用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上灰布悬，雨丝定连绵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朝霞不出门，晚霞行千里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30492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仿写练习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31320" y="1266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示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69960" y="1820880"/>
            <a:ext cx="84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上的云真是姿态万千，变化无常。它们有的像羽毛，有的像鱼鳞，有的像羊群；还有的像峰峦，像河流，像雄师，像奔马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778480" y="365760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、夜幕四合，四周的群山，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73920" y="449568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、远处的霓虹灯亮了，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51480" y="5335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327760" y="20988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巩固课后的生字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558680" y="301320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从今天开始，每天练习看云识天气，判断当天或第二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天气情况，轮流发布天气预报，看谁预报得准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58800" y="4572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继续搜集民间关于天气的谚语，整理在集锦本上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7"/>
          <p:cNvSpPr/>
          <p:nvPr/>
        </p:nvSpPr>
        <p:spPr>
          <a:xfrm>
            <a:off x="2305800" y="19828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eb00b"/>
                </a:solidFill>
                <a:latin typeface="Times New Roman"/>
                <a:ea typeface="隶书"/>
              </a:rPr>
              <a:t>本节课到此结束，谢谢大家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快速阅读课文，完成下列练习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找出看云识天气的基本经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23840" y="3124080"/>
            <a:ext cx="8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划出课本上介绍的各种云的名称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396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看 云 识 天 气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190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形状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55640" y="234936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高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348000" y="242100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高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雨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积雨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629400" y="2514600"/>
            <a:ext cx="79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1280" y="5373720"/>
            <a:ext cx="1584360" cy="70344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华文新魏"/>
              </a:rPr>
              <a:t>薄  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348000" y="5373720"/>
            <a:ext cx="1655640" cy="70344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华文新魏"/>
              </a:rPr>
              <a:t>厚  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643284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光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5280" y="1557360"/>
          <a:ext cx="8367840" cy="4614840"/>
        </p:xfrm>
        <a:graphic>
          <a:graphicData uri="http://schemas.openxmlformats.org/drawingml/2006/table">
            <a:tbl>
              <a:tblPr/>
              <a:tblGrid>
                <a:gridCol w="1844640"/>
                <a:gridCol w="4467240"/>
                <a:gridCol w="2055960"/>
              </a:tblGrid>
              <a:tr h="12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  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形      状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3"/>
          <p:cNvSpPr/>
          <p:nvPr/>
        </p:nvSpPr>
        <p:spPr>
          <a:xfrm>
            <a:off x="0" y="404640"/>
            <a:ext cx="32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457200" y="3808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黑体"/>
              </a:rPr>
              <a:t>阅读第三节，完成表格</a:t>
            </a:r>
            <a:r>
              <a:rPr b="0" lang="zh-CN" sz="4000" spc="-1" strike="noStrike">
                <a:solidFill>
                  <a:srgbClr val="eeb00b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73"/>
          <p:cNvSpPr/>
          <p:nvPr/>
        </p:nvSpPr>
        <p:spPr>
          <a:xfrm>
            <a:off x="3759120" y="408312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77"/>
          <p:cNvSpPr/>
          <p:nvPr/>
        </p:nvSpPr>
        <p:spPr>
          <a:xfrm>
            <a:off x="684360" y="2637000"/>
            <a:ext cx="143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Picture 11" descr="卷云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609480" y="6094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彩云"/>
              </a:rPr>
              <a:t>卷   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3" descr="卷积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3276720" y="6858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卷积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7" descr="积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2556000" y="76500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  <a:ea typeface="华文彩云"/>
              </a:rPr>
              <a:t>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彩云"/>
              </a:rPr>
              <a:t>积    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高积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-466920" y="1484280"/>
            <a:ext cx="237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彩云"/>
              </a:rPr>
              <a:t>高 积 云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5:23:2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5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