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59042-020D-42DA-A062-205A976FE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87D9F-8F45-493F-B72D-2C48B20B5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31242-C6E4-470D-B71C-758B41C7F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E6713-D91B-419B-8B0A-6099A3032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97E80-8318-4F2F-BC27-F2C4E8630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58D9A-509F-41E0-8AF6-31248BA3E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22B3E-B2DF-4D75-8645-7688CBAD8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5B708-CE9D-4D39-B06C-0B1824E47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D6BCF-F4E5-4A4F-855F-477E36859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3FB2B-D698-4968-9AB1-E2D0F3B84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1C887-9BDB-4555-951C-D597D7A50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FED28-542F-4154-B19E-F9F843AF2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F529C-1901-4BE7-A278-3BA7D9EBA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52C3B-7C5D-423D-91E9-5C4236ED6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2B074-A369-4CD8-B006-09625F07E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83DC4-7DCB-408A-972F-3C54EA784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4A6FA-EA24-46BB-8DF0-2E28D9832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AC70EE-3143-4165-8C8F-2847EF234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D03EDB-2090-4880-9E07-B76D906A6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8F0800-CBF2-4E03-9CC2-1A258675A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438D41-571C-4024-9291-1E35FC31B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BE786D-D2F9-418A-82AB-F4C0C3066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BEA53-00B8-41AB-93B8-163056A6E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6265E5-A69F-44B7-9AA7-9E1EA5009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4C6391-93D4-4D12-8686-EF3431CFA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F0CCDF-8843-48FB-BF08-BC906C9B4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F00088-57B6-4279-9CA0-745955A41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7542A7-356A-46B8-AB6B-8B31145A8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D517FC-B662-48DB-AAB8-5D5F093D2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AE2276-D475-480D-93A2-D8BFD319E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F1FBCC-5AD7-48D1-98CB-E3CEE8682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679878-F834-4DD1-9CF8-7AC5584C4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F44607-E114-4DFD-B12F-995274F2F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50B75-DF8F-403E-8672-68DB35451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5D3A5D-04B5-452D-BB75-74780BBF9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6B1717-8D9B-4C69-AC96-289911FC3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924AF2-4BE4-44E7-AB86-B80724DF6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27EF78-EC67-492A-937E-7681A3B6E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B97C48-0100-4707-9FB0-718B49B63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BBA4B1-FAC0-411F-9DF6-3D1B87131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097438-EEC2-4D0B-94D0-AA8939025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D55A6C-D22B-4D0F-962A-0836CABB1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CBA254-1E72-4837-A9B8-8F7B0C7E7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7DF648-632C-461D-A511-A132CAEFF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C144A-E42E-4D5E-9031-7F954181E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0D5AD1-5BFD-4E92-8E03-9270705D5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A0D055-C998-49FE-AAEE-F971A3672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3B695B-B7E0-4A20-A627-221BCB040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90B115-1F6C-43A0-A6DE-B5D5A2047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FC01F0-6BF6-4285-931D-9797B96B6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F32734-A69C-4D61-8008-BBABD6630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619407-5577-4B87-A60B-8084441DF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A146AB-4E8A-4873-BFCF-360F99993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537AD5-5D04-424D-B572-B926A96C1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95A187-21FA-4E12-9521-DF2941B5F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EEAA4-063A-4BA8-9A29-C7A360814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0B8D43-FCFB-48FB-B222-B54BA6CA8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436098-9E23-4302-8618-C463C5F3E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7367CA-EC41-46F7-8695-1CC5AA529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EC4BD2-265A-4EC7-8251-BDCDE8763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1753F7-1950-4C57-9EB9-DFF617447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77B749-E33F-4DB8-9DAE-438405E7A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CF5A99-0EA8-41FA-BF9B-84F3EDC33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89ADD4-5CDD-4314-8CE4-19363E140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AC1AFB-A354-4DE2-9218-2BAA2FA51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3F96B2-3E4D-48D9-A80C-5C8EB76E8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A83E1-411C-40FD-B80A-CC8D91FF8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F851CF-35DE-4A16-B75B-D03733A29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F05011-11BB-45BE-AEBE-1F2277437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DB7C34-890B-4032-A039-D940AB87C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F8D4C-765D-431E-9BC7-6FF91B14A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B2ED2-EFCF-4945-A63A-A543755A9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10325-5EFB-4980-9380-F2219681B6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42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4747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43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BB1D5-5E37-41E8-ABB2-40FCE9D6D5A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6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ff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66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ff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DBD84-C567-494F-A114-6565EF8161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Group 2"/>
          <p:cNvGrpSpPr/>
          <p:nvPr/>
        </p:nvGrpSpPr>
        <p:grpSpPr>
          <a:xfrm>
            <a:off x="1071360" y="304920"/>
            <a:ext cx="7615440" cy="1105920"/>
            <a:chOff x="1071360" y="304920"/>
            <a:chExt cx="7615440" cy="1105920"/>
          </a:xfrm>
        </p:grpSpPr>
        <p:sp>
          <p:nvSpPr>
            <p:cNvPr id="127" name="Oval 3"/>
            <p:cNvSpPr/>
            <p:nvPr/>
          </p:nvSpPr>
          <p:spPr>
            <a:xfrm flipH="1">
              <a:off x="4868280" y="304920"/>
              <a:ext cx="1104840" cy="11044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Oval 4"/>
            <p:cNvSpPr/>
            <p:nvPr/>
          </p:nvSpPr>
          <p:spPr>
            <a:xfrm flipH="1">
              <a:off x="7583760" y="304920"/>
              <a:ext cx="1103040" cy="11044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Oval 5"/>
            <p:cNvSpPr/>
            <p:nvPr/>
          </p:nvSpPr>
          <p:spPr>
            <a:xfrm flipH="1">
              <a:off x="1071000" y="30600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Oval 6"/>
            <p:cNvSpPr/>
            <p:nvPr/>
          </p:nvSpPr>
          <p:spPr>
            <a:xfrm flipH="1">
              <a:off x="6324120" y="304920"/>
              <a:ext cx="1103400" cy="11044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Oval 7"/>
            <p:cNvSpPr/>
            <p:nvPr/>
          </p:nvSpPr>
          <p:spPr>
            <a:xfrm flipH="1">
              <a:off x="2358360" y="304920"/>
              <a:ext cx="1103400" cy="11044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2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B43A1-FB6E-4EB0-88E5-2A3C1A867D8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C3E23-0703-494E-870F-04BEC20B7B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4B02B-3CE5-4497-BB8D-6DC97D29230E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89B3A-7650-47BF-985A-6306F16E5B2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5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14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图片 1" descr=""/>
          <p:cNvPicPr/>
          <p:nvPr/>
        </p:nvPicPr>
        <p:blipFill>
          <a:blip r:embed="rId1"/>
          <a:stretch/>
        </p:blipFill>
        <p:spPr>
          <a:xfrm>
            <a:off x="1440" y="0"/>
            <a:ext cx="9147240" cy="6858000"/>
          </a:xfrm>
          <a:prstGeom prst="rect">
            <a:avLst/>
          </a:prstGeom>
          <a:ln w="0">
            <a:noFill/>
          </a:ln>
        </p:spPr>
      </p:pic>
      <p:sp>
        <p:nvSpPr>
          <p:cNvPr id="256" name="WordArt 6"/>
          <p:cNvSpPr txBox="1"/>
          <p:nvPr/>
        </p:nvSpPr>
        <p:spPr>
          <a:xfrm>
            <a:off x="1619280" y="907920"/>
            <a:ext cx="614376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176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505050"/>
                    </a:gs>
                    <a:gs pos="100000">
                      <a:srgbClr val="000000"/>
                    </a:gs>
                  </a:gsLst>
                  <a:lin ang="5400000"/>
                </a:gradFill>
                <a:effectLst>
                  <a:outerShdw dist="0" dir="0" blurRad="0" rotWithShape="0">
                    <a:srgbClr val="000000"/>
                  </a:outerShdw>
                </a:effectLst>
                <a:latin typeface="宋体"/>
              </a:rPr>
              <a:t>拉萨的天空</a:t>
            </a:r>
            <a:endParaRPr b="1" lang="en-US" sz="9600" spc="1" strike="noStrike">
              <a:ln w="176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505050"/>
                  </a:gs>
                  <a:gs pos="100000">
                    <a:srgbClr val="000000"/>
                  </a:gs>
                </a:gsLst>
                <a:lin ang="5400000"/>
              </a:gradFill>
              <a:effectLst>
                <a:outerShdw dist="0" dir="0" blurRad="0" rotWithShape="0">
                  <a:srgbClr val="00000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页脚占位符 2"/>
          <p:cNvSpPr/>
          <p:nvPr/>
        </p:nvSpPr>
        <p:spPr>
          <a:xfrm>
            <a:off x="3124080" y="60199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7" name="Picture 4" descr="cl14"/>
          <p:cNvPicPr/>
          <p:nvPr/>
        </p:nvPicPr>
        <p:blipFill>
          <a:blip r:embed="rId1"/>
          <a:stretch/>
        </p:blipFill>
        <p:spPr>
          <a:xfrm>
            <a:off x="0" y="0"/>
            <a:ext cx="9144000" cy="717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页脚占位符 4"/>
          <p:cNvSpPr/>
          <p:nvPr/>
        </p:nvSpPr>
        <p:spPr>
          <a:xfrm>
            <a:off x="3124080" y="60199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9" name="Picture 4" descr="bj1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0" name="Rectangle 5"/>
          <p:cNvSpPr/>
          <p:nvPr/>
        </p:nvSpPr>
        <p:spPr>
          <a:xfrm>
            <a:off x="1979640" y="1341360"/>
            <a:ext cx="6480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zh-CN" sz="5400" spc="-1" strike="noStrike">
                <a:solidFill>
                  <a:srgbClr val="ffffff"/>
                </a:solidFill>
                <a:latin typeface="Arial"/>
              </a:rPr>
              <a:t>作业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5400" spc="-1" strike="noStrike">
                <a:solidFill>
                  <a:srgbClr val="ffffff"/>
                </a:solidFill>
                <a:latin typeface="Arial"/>
              </a:rPr>
              <a:t>、 摘抄课文中你认为写得最美的句子。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2 </a:t>
            </a:r>
            <a:r>
              <a:rPr b="1" lang="zh-CN" sz="5400" spc="-1" strike="noStrike">
                <a:solidFill>
                  <a:srgbClr val="ffffff"/>
                </a:solidFill>
                <a:latin typeface="Arial"/>
              </a:rPr>
              <a:t>、写几个打比方的句子。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页脚占位符 2"/>
          <p:cNvSpPr/>
          <p:nvPr/>
        </p:nvSpPr>
        <p:spPr>
          <a:xfrm>
            <a:off x="3124080" y="60199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2" name="Picture 4" descr="20051230101624905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283" name="Text Box 5"/>
          <p:cNvSpPr/>
          <p:nvPr/>
        </p:nvSpPr>
        <p:spPr>
          <a:xfrm>
            <a:off x="755640" y="836640"/>
            <a:ext cx="7704000" cy="538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</a:t>
            </a:r>
            <a:r>
              <a:rPr b="1" lang="zh-CN" sz="4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再见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</a:t>
            </a:r>
            <a:r>
              <a:rPr b="1" lang="zh-CN" sz="4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拉萨的天空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</a:t>
            </a:r>
            <a:r>
              <a:rPr b="1" lang="zh-CN" sz="4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设计者</a:t>
            </a:r>
            <a:r>
              <a:rPr b="1" lang="en-US" sz="4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: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</a:t>
            </a:r>
            <a:r>
              <a:rPr b="1" lang="zh-CN" sz="4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连云港师专三附小 周影            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cc0066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cc0066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0066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cc0066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cc0066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0066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cc0066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cc0066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0066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cc0066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cc0066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0066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cc0066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0066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0066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7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288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89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0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8" name="Picture 4" descr="bj07"/>
          <p:cNvPicPr/>
          <p:nvPr/>
        </p:nvPicPr>
        <p:blipFill>
          <a:blip r:embed="rId1"/>
          <a:stretch/>
        </p:blipFill>
        <p:spPr>
          <a:xfrm>
            <a:off x="0" y="-387360"/>
            <a:ext cx="9144000" cy="7821720"/>
          </a:xfrm>
          <a:prstGeom prst="rect">
            <a:avLst/>
          </a:prstGeom>
          <a:ln w="0">
            <a:noFill/>
          </a:ln>
        </p:spPr>
      </p:pic>
      <p:sp>
        <p:nvSpPr>
          <p:cNvPr id="259" name="Rectangle 5"/>
          <p:cNvSpPr/>
          <p:nvPr/>
        </p:nvSpPr>
        <p:spPr>
          <a:xfrm>
            <a:off x="250920" y="1700280"/>
            <a:ext cx="8713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zh-CN" sz="6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湛蓝 映衬 纯净 雄伟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</a:t>
            </a:r>
            <a:r>
              <a:rPr b="1" lang="zh-CN" sz="6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透亮 对照 明洁 壮丽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Rectangle 4"/>
          <p:cNvSpPr/>
          <p:nvPr/>
        </p:nvSpPr>
        <p:spPr>
          <a:xfrm>
            <a:off x="250920" y="189000"/>
            <a:ext cx="8642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  </a:t>
            </a:r>
            <a:r>
              <a:rPr b="1" lang="zh-CN" sz="8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拉萨的天空总是那么湛蓝、透亮</a:t>
            </a:r>
            <a:r>
              <a:rPr b="1" lang="en-US" sz="8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,</a:t>
            </a:r>
            <a:r>
              <a:rPr b="1" lang="zh-CN" sz="8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好像用清水洗过的蓝宝石一样。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Rectangle 4"/>
          <p:cNvSpPr/>
          <p:nvPr/>
        </p:nvSpPr>
        <p:spPr>
          <a:xfrm>
            <a:off x="2124000" y="476280"/>
            <a:ext cx="6840720" cy="38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zh-CN" sz="6000" spc="-1" strike="noStrike">
                <a:solidFill>
                  <a:srgbClr val="ffffff"/>
                </a:solidFill>
                <a:latin typeface="Arial"/>
              </a:rPr>
              <a:t>有贴着山顶的白云映衬</a:t>
            </a: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zh-CN" sz="6000" spc="-1" strike="noStrike">
                <a:solidFill>
                  <a:srgbClr val="ffffff"/>
                </a:solidFill>
                <a:latin typeface="Arial"/>
              </a:rPr>
              <a:t>湛蓝的天空显得越发纯净</a:t>
            </a: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;</a:t>
            </a:r>
            <a:r>
              <a:rPr b="1" lang="zh-CN" sz="6000" spc="-1" strike="noStrike">
                <a:solidFill>
                  <a:srgbClr val="ffffff"/>
                </a:solidFill>
                <a:latin typeface="Arial"/>
              </a:rPr>
              <a:t>有拉萨河畔草地的对照</a:t>
            </a: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zh-CN" sz="6000" spc="-1" strike="noStrike">
                <a:solidFill>
                  <a:srgbClr val="ffffff"/>
                </a:solidFill>
                <a:latin typeface="Arial"/>
              </a:rPr>
              <a:t>湛蓝的天空显得更加明洁</a:t>
            </a:r>
            <a:r>
              <a:rPr b="1" lang="zh-CN" sz="6000" spc="-1" strike="noStrike">
                <a:solidFill>
                  <a:srgbClr val="ffffff"/>
                </a:solidFill>
                <a:latin typeface="Comic Sans MS"/>
              </a:rPr>
              <a:t>。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Rectangle 4"/>
          <p:cNvSpPr/>
          <p:nvPr/>
        </p:nvSpPr>
        <p:spPr>
          <a:xfrm>
            <a:off x="3059280" y="476280"/>
            <a:ext cx="244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布达拉宫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7" name="Picture 4" descr="89140270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8" name="Rectangle 6"/>
          <p:cNvSpPr/>
          <p:nvPr/>
        </p:nvSpPr>
        <p:spPr>
          <a:xfrm>
            <a:off x="3635280" y="549360"/>
            <a:ext cx="2565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布达拉宫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0" name="Picture 2" descr="布达拉宫显得更加雄伟、壮丽3"/>
          <p:cNvPicPr/>
          <p:nvPr/>
        </p:nvPicPr>
        <p:blipFill>
          <a:blip r:embed="rId2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271" name="Text Box 3"/>
          <p:cNvSpPr/>
          <p:nvPr/>
        </p:nvSpPr>
        <p:spPr>
          <a:xfrm>
            <a:off x="2987640" y="620640"/>
            <a:ext cx="266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a679"/>
                </a:solidFill>
                <a:latin typeface="Arial"/>
              </a:rPr>
              <a:t> 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布达拉宫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Text Box 4"/>
          <p:cNvSpPr/>
          <p:nvPr/>
        </p:nvSpPr>
        <p:spPr>
          <a:xfrm>
            <a:off x="539640" y="1844640"/>
            <a:ext cx="8209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zh-CN" sz="5400" spc="-1" strike="noStrike">
                <a:solidFill>
                  <a:srgbClr val="ffffff"/>
                </a:solidFill>
                <a:latin typeface="Arial"/>
              </a:rPr>
              <a:t>一年四季中</a:t>
            </a: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zh-CN" sz="5400" spc="-1" strike="noStrike">
                <a:solidFill>
                  <a:srgbClr val="ffffff"/>
                </a:solidFill>
                <a:latin typeface="Arial"/>
              </a:rPr>
              <a:t>不管是隆冬还是盛夏</a:t>
            </a: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zh-CN" sz="5400" spc="-1" strike="noStrike">
                <a:solidFill>
                  <a:srgbClr val="ffffff"/>
                </a:solidFill>
                <a:latin typeface="Arial"/>
              </a:rPr>
              <a:t>布达拉宫的上空总是</a:t>
            </a: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蓝晶晶</a:t>
            </a:r>
            <a:r>
              <a:rPr b="1" lang="zh-CN" sz="5400" spc="-1" strike="noStrike">
                <a:solidFill>
                  <a:srgbClr val="ffffff"/>
                </a:solidFill>
                <a:latin typeface="Arial"/>
              </a:rPr>
              <a:t>的。有了这蓝天</a:t>
            </a: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zh-CN" sz="5400" spc="-1" strike="noStrike">
                <a:solidFill>
                  <a:srgbClr val="ffffff"/>
                </a:solidFill>
                <a:latin typeface="Arial"/>
              </a:rPr>
              <a:t>依山而建的布达拉宫显得更加雄伟</a:t>
            </a:r>
            <a:r>
              <a:rPr b="0" lang="zh-CN" sz="5400" spc="-1" strike="noStrike">
                <a:solidFill>
                  <a:srgbClr val="ffffff"/>
                </a:solidFill>
                <a:latin typeface="Arial"/>
              </a:rPr>
              <a:t>、</a:t>
            </a:r>
            <a:r>
              <a:rPr b="1" lang="zh-CN" sz="5400" spc="-1" strike="noStrike">
                <a:solidFill>
                  <a:srgbClr val="ffffff"/>
                </a:solidFill>
                <a:latin typeface="Arial"/>
              </a:rPr>
              <a:t>壮丽。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页脚占位符 4"/>
          <p:cNvSpPr/>
          <p:nvPr/>
        </p:nvSpPr>
        <p:spPr>
          <a:xfrm>
            <a:off x="3124080" y="60199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/>
          </p:nvPr>
        </p:nvSpPr>
        <p:spPr>
          <a:xfrm>
            <a:off x="250560" y="476280"/>
            <a:ext cx="871380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33cc"/>
                </a:solidFill>
                <a:latin typeface="Arial"/>
              </a:rPr>
              <a:t>  </a:t>
            </a:r>
            <a:r>
              <a:rPr b="1" lang="zh-CN" sz="8000" spc="-1" strike="noStrike">
                <a:solidFill>
                  <a:srgbClr val="0033cc"/>
                </a:solidFill>
                <a:latin typeface="Arial"/>
              </a:rPr>
              <a:t>在藏语中，拉萨是圣地的意思，那么，这湛蓝的天就是圣地的窗帘了。</a:t>
            </a:r>
            <a:endParaRPr b="0" lang="en-US" sz="8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6T02:58:16Z</dcterms:created>
  <dc:creator>www.eeppt.com</dc:creator>
  <dc:description>ppt模板下载网站 http://www.eeppt.com</dc:description>
  <cp:keywords>ppt模板下载网站 http:/www.eeppt.com</cp:keywords>
  <dc:language>en-US</dc:language>
  <cp:lastModifiedBy/>
  <dcterms:modified xsi:type="dcterms:W3CDTF">2015-05-20T13:47:32Z</dcterms:modified>
  <cp:revision>6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