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E09-218A-4E80-8177-BA173376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B78-1C82-445A-8F89-357377F8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935-56F9-4774-A666-D4DB431F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9DC-F987-496A-808B-34281399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8E0-BC6F-426C-B73E-340AB495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63B-AFFF-4BCB-B317-1B571CF2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C9B-2CE7-4EB2-83F1-EF8DAAB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C65-948B-4A5D-BB04-461E3F71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8E1-5969-4009-8FE7-8E6D7736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317-5DA4-42E7-B7F7-07B9B9F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BE9-08F5-41AE-A5A4-ADD8BD8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508-0902-45FE-8022-672D558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1CCD-BCCD-49AA-BFCC-2E22DB42E9F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5" descr=""/>
          <p:cNvPicPr/>
          <p:nvPr/>
        </p:nvPicPr>
        <p:blipFill>
          <a:blip r:embed="rId2"/>
          <a:stretch/>
        </p:blipFill>
        <p:spPr>
          <a:xfrm>
            <a:off x="1511280" y="1127160"/>
            <a:ext cx="5475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3886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相接的两句话，字数相同，意思相对，这样的句子叫骈句，也就是修辞中的              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95280" y="457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苔痕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上</a:t>
            </a:r>
            <a:r>
              <a:rPr b="1" lang="zh-CN" sz="5400" spc="-1" strike="noStrike" u="sng">
                <a:solidFill>
                  <a:srgbClr val="6600ff"/>
                </a:solidFill>
                <a:uFillTx/>
                <a:latin typeface="Times New Roman"/>
              </a:rPr>
              <a:t>阶绿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371600" y="2666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草色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入</a:t>
            </a:r>
            <a:r>
              <a:rPr b="1" lang="zh-CN" sz="5400" spc="-1" strike="noStrike" u="sng">
                <a:solidFill>
                  <a:srgbClr val="6600ff"/>
                </a:solidFill>
                <a:uFillTx/>
                <a:latin typeface="Times New Roman"/>
              </a:rPr>
              <a:t>帘青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133720" y="1447920"/>
            <a:ext cx="0" cy="121896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3124080" y="1600200"/>
            <a:ext cx="0" cy="99072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4191120" y="152388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355720" y="5334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对偶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362320" y="304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黑体"/>
              </a:rPr>
              <a:t>练一练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3880"/>
            <a:ext cx="8763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划线词的意思相同的一项是（      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A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有仙则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不能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其一处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惟吾德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馨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如兰之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C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拍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案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而起 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无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案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牍之劳形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D  a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无案牍之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劳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形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我们在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劳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012080" y="13716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42670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在物质生活日益丰富的今天，你如何看待本文作者所表达的“惟吾德馨”的道德情操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2590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完成下面的对偶创作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句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：品千古美文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句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2286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用文中的语句填空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陋室不陋”的原因是                  ，与“陋室”主人交往的人都是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            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125320" y="114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惟吾德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238720" y="1752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鸿儒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457200" y="9144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33720" y="1981080"/>
            <a:ext cx="47242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明月松间照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清泉石上流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80880" y="5335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根据诗句，想象一种情境。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铭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古代刻在器物上用来警戒自己或者称述功德的文字，叫做“铭”，后来就成为一种文体。这种文体一般都是用韵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143000" y="32004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座右铭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86200" y="3352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写出来放在座位旁边的格言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304920"/>
            <a:ext cx="3520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隶书"/>
              </a:rPr>
              <a:t>作者简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5238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刘禹锡（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772—842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），字梦得，唐代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洛阳（现在属河南省）人，著名诗人。唐顺宗时，曾参加王叔文集团的政治革新运动，不久失败，被贬为朗州司马。后又连任连州、夔州、和州等地刺史。晚年回洛阳任太子宾客，世称刘宾客。作品有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刘宾客集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467560" y="182520"/>
            <a:ext cx="5493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784280" y="678240"/>
            <a:ext cx="139932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57680" y="685800"/>
            <a:ext cx="6884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水不在深，有龙则灵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斯是陋室，惟吾德馨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青。谈笑有鸿儒，往来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无白丁。可以调素琴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无丝竹之乱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耳，无案牍之劳形。南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阳诸葛庐，西蜀子云亭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089840" y="329112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刘禹锡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696080" y="6095880"/>
            <a:ext cx="1067040" cy="762120"/>
          </a:xfrm>
          <a:custGeom>
            <a:avLst/>
            <a:gdLst>
              <a:gd name="textAreaLeft" fmla="*/ 47520 w 1067040"/>
              <a:gd name="textAreaRight" fmla="*/ 1019520 w 106704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88" y="1350"/>
                </a:lnTo>
                <a:lnTo>
                  <a:pt x="1350" y="135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88" y="20250"/>
                </a:lnTo>
                <a:lnTo>
                  <a:pt x="28888" y="135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88" y="2025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38" h="21600">
                <a:moveTo>
                  <a:pt x="8075" y="8394"/>
                </a:moveTo>
                <a:lnTo>
                  <a:pt x="12529" y="8394"/>
                </a:lnTo>
                <a:lnTo>
                  <a:pt x="16974" y="3756"/>
                </a:lnTo>
                <a:lnTo>
                  <a:pt x="16974" y="17844"/>
                </a:lnTo>
                <a:lnTo>
                  <a:pt x="12529" y="13206"/>
                </a:lnTo>
                <a:lnTo>
                  <a:pt x="8075" y="13206"/>
                </a:lnTo>
                <a:close/>
              </a:path>
              <a:path fill="darken" w="30238" h="21600">
                <a:moveTo>
                  <a:pt x="18636" y="10800"/>
                </a:moveTo>
                <a:lnTo>
                  <a:pt x="22163" y="10800"/>
                </a:lnTo>
              </a:path>
              <a:path fill="darken" w="30238" h="21600">
                <a:moveTo>
                  <a:pt x="18636" y="8394"/>
                </a:moveTo>
                <a:lnTo>
                  <a:pt x="22163" y="5611"/>
                </a:lnTo>
              </a:path>
              <a:path fill="darken" w="30238" h="21600">
                <a:moveTo>
                  <a:pt x="18636" y="13206"/>
                </a:moveTo>
                <a:lnTo>
                  <a:pt x="22163" y="15989"/>
                </a:lnTo>
              </a:path>
            </a:pathLst>
          </a:cu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一  解释下列词语</a:t>
            </a:r>
            <a:r>
              <a:rPr b="0" lang="zh-CN" sz="4800" spc="-1" strike="noStrike">
                <a:solidFill>
                  <a:srgbClr val="545472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676520"/>
            <a:ext cx="5181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名：              馨 ：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鸿儒：                   案牍 ：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劳形：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47920" y="1676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著名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114800" y="1676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香气，这里指品德高尚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52480" y="2514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博学的人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4100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官府的公文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322360" y="32767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使身体劳累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253520" y="3962520"/>
            <a:ext cx="319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二 翻译下面句子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144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斯是陋室，惟吾德馨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914400" y="57913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何陋之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6858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山（仙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)  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名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28600" y="1600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水（龙）灵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62520" y="121932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陋室（          ）</a:t>
            </a:r>
            <a:r>
              <a:rPr b="0" lang="en-US" sz="4400" spc="-1" strike="noStrike">
                <a:solidFill>
                  <a:srgbClr val="545472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60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景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06668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人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82880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28600" y="4267080"/>
            <a:ext cx="2743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诸葛庐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子云亭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981080" y="47242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124080" y="4876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以古人自比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3352680" y="152388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3200400" y="99072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4724280" y="1905120"/>
            <a:ext cx="0" cy="12189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2133720" y="52578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 flipV="1">
            <a:off x="4648320" y="3809880"/>
            <a:ext cx="0" cy="10670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Rectangle 27"/>
          <p:cNvSpPr/>
          <p:nvPr/>
        </p:nvSpPr>
        <p:spPr>
          <a:xfrm>
            <a:off x="4339080" y="3200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不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2590920" y="3505320"/>
            <a:ext cx="14475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875560" y="106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德馨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6557040" y="1447920"/>
            <a:ext cx="200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黑体"/>
              </a:rPr>
              <a:t>托 物 言 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453360"/>
            <a:ext cx="618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595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5" name="Picture 9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5410080" y="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想一想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62520" y="10666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作者写陋室不陋，表达了怎样的思想感情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62520" y="34290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通过对居室的描绘，极力形容陋室不陋，表达了一种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高洁傲岸的节操和安贫乐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情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8436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6094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铭</a:t>
            </a: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隶书"/>
              </a:rPr>
              <a:t>”是古代的一种文体，这种文体一般都是             的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49568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267080" y="1295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用韵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57200" y="22860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请在课文中划出押韵的字，想一想，这些字的韵母都是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------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名  灵   馨  青  丁  经   形  亭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5257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Verdana"/>
              </a:rPr>
              <a:t>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1:43:1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4:49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