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A2B-A1BC-4755-90D3-9D544CE1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309-B123-4D46-A789-09E19590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1C6-0130-4B12-B207-34CD0987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AF6-46D7-4EDF-A4FA-540D7B3E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17AF-65FE-40C2-A229-768F9EF2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6C2C-70AE-4B13-A078-EE4CC8A5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816C-8AFF-45A5-97C8-A6EA8C07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A815-670B-4A91-AB08-720AE2AC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E913-CD14-4CB1-9615-AF0FBC3E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46AD-5B24-482E-AAF0-D3F0B2A0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52CA-71D5-4EB4-B1BA-86E8BFE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1F9-C22B-4D9E-B88E-DC3C507E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7ADB-16EF-4CF2-B812-68665B23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25C6-C312-452D-95D7-928E29A2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95C4-9D73-4B08-9B24-F59A825A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03CD-A987-4E01-AEAB-A81EE5BD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48EF-234F-4296-A070-32DA843C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96C-BAE4-4830-A7BB-E6FAE5AD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953-3CBD-4CE6-A2A9-9FA06415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EE3-AF29-45EA-A1FD-829120C6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C7F-5BC9-4BB5-9502-FB6E7221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A5B-AB97-40F5-B2EA-52F12269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9AE-A810-4859-8113-73242118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424-9652-428D-99D7-791C119A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C89C-5907-45C6-BC55-BC00A29B6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E692-A2F5-405C-A778-5C8958B84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4" descr="W02008021461188468553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0" y="25884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有一片美丽的绿洲，绿洲里藏着一颗闪光的珍珠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34920" y="7779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颗珍珠就是敦煌莫高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009621939"/>
          <p:cNvPicPr/>
          <p:nvPr/>
        </p:nvPicPr>
        <p:blipFill>
          <a:blip r:embed="rId2"/>
          <a:stretch/>
        </p:blipFill>
        <p:spPr>
          <a:xfrm>
            <a:off x="0" y="1098720"/>
            <a:ext cx="9144000" cy="5759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79280" y="33336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有的是描绘古代劳动人民打猎、捕鱼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20096219347"/>
          <p:cNvPicPr/>
          <p:nvPr/>
        </p:nvPicPr>
        <p:blipFill>
          <a:blip r:embed="rId2"/>
          <a:stretch/>
        </p:blipFill>
        <p:spPr>
          <a:xfrm>
            <a:off x="0" y="1073160"/>
            <a:ext cx="9144000" cy="5784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0" y="260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有的是描绘人们奏乐、舞蹈、演杂技的场面，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81104033837544"/>
          <p:cNvPicPr/>
          <p:nvPr/>
        </p:nvPicPr>
        <p:blipFill>
          <a:blip r:embed="rId2"/>
          <a:stretch/>
        </p:blipFill>
        <p:spPr>
          <a:xfrm>
            <a:off x="197964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327600" y="333360"/>
            <a:ext cx="6678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其中最引人注目的是飞天。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ppt21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25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pt60"/>
          <p:cNvPicPr/>
          <p:nvPr/>
        </p:nvPicPr>
        <p:blipFill>
          <a:blip r:embed="rId3"/>
          <a:stretch/>
        </p:blipFill>
        <p:spPr>
          <a:xfrm>
            <a:off x="1332000" y="0"/>
            <a:ext cx="5472000" cy="1781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读一读，我最棒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781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慈眉善目  威风凛凛  强壮勇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断崖绝壁  啧啧赞叹  宏伟瑰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引人注目  神态各异  举世闻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7" descr="书"/>
          <p:cNvPicPr/>
          <p:nvPr/>
        </p:nvPicPr>
        <p:blipFill>
          <a:blip r:embed="rId4"/>
          <a:stretch/>
        </p:blipFill>
        <p:spPr>
          <a:xfrm>
            <a:off x="7380360" y="476280"/>
            <a:ext cx="12952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默读课文，思考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课文主要向我们介绍了莫高窟里的哪些景物呢？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68360" y="3500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彩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140360" y="364500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268360" y="436572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壁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9" descr="你真棒"/>
          <p:cNvPicPr/>
          <p:nvPr/>
        </p:nvPicPr>
        <p:blipFill>
          <a:blip r:embed="rId2"/>
          <a:stretch/>
        </p:blipFill>
        <p:spPr>
          <a:xfrm>
            <a:off x="7020000" y="4869000"/>
            <a:ext cx="14605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描写彩塑时，写了那些艺术品？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76360" y="2708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慈眉善目的菩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476360" y="3645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威风凛凛的天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476360" y="4437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强壮勇猛的力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476360" y="55897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长达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米的卧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900000" y="479736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4716360" y="2997360"/>
            <a:ext cx="144720" cy="1800000"/>
          </a:xfrm>
          <a:custGeom>
            <a:avLst/>
            <a:gdLst>
              <a:gd name="textAreaLeft" fmla="*/ 0 w 144720"/>
              <a:gd name="textAreaRight" fmla="*/ 52200 w 1447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076720" y="3645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略  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003640" y="551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详  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14" descr="风车"/>
          <p:cNvPicPr/>
          <p:nvPr/>
        </p:nvPicPr>
        <p:blipFill>
          <a:blip r:embed="rId2"/>
          <a:stretch/>
        </p:blipFill>
        <p:spPr>
          <a:xfrm>
            <a:off x="7164360" y="450864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用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有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有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还有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……”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说一句话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在 多 媒 体 教 室 上 课 ，有 老 师 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引 导，有 优 美 的 音 乐 ，还 有 美 丽 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观 的 画 面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图片25"/>
          <p:cNvPicPr/>
          <p:nvPr/>
        </p:nvPicPr>
        <p:blipFill>
          <a:blip r:embed="rId2"/>
          <a:stretch/>
        </p:blipFill>
        <p:spPr>
          <a:xfrm>
            <a:off x="1619280" y="0"/>
            <a:ext cx="5716440" cy="1530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3419640" y="476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仿写句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作者由写彩塑到写壁画用一句话，你能找出他吗？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莫高窟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不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栩栩如生的彩塑，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万五千多平方米宏伟瑰丽的壁画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692360" y="2997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不仅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还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692360" y="41497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不仅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而且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763640" y="5229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不但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而且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描写壁画时，重点写了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547640" y="357336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飞天壁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360" y="2637000"/>
            <a:ext cx="216000" cy="244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924360" y="2349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924360" y="306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24360" y="3716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924360" y="4365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924360" y="49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文中的一、四自然段又怎样写的莫高窟呢？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总的介绍了莫高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24000" y="31417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从这两个自然段了解到什么？能向大家介绍一下吗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W020090429508165191122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3276720" y="476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坐落在我国甘肃省敦煌市三危山和鸣沙山的怀抱中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文章结构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385280" y="1557360"/>
            <a:ext cx="13993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总           分            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76720" y="1484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祖国西北的一颗明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987640" y="2421000"/>
            <a:ext cx="144360" cy="237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03640" y="2421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彩塑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个性鲜明   神态各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203640" y="3933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壁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宏伟瑰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059280" y="551664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艺术宝库    智慧结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2340000" y="4076640"/>
            <a:ext cx="71280" cy="1152720"/>
          </a:xfrm>
          <a:prstGeom prst="downArrow">
            <a:avLst>
              <a:gd name="adj1" fmla="val 50000"/>
              <a:gd name="adj2" fmla="val 40429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2340000" y="2205000"/>
            <a:ext cx="71280" cy="1224000"/>
          </a:xfrm>
          <a:prstGeom prst="downArrow">
            <a:avLst>
              <a:gd name="adj1" fmla="val 50000"/>
              <a:gd name="adj2" fmla="val 42929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13" descr="安琪儿2"/>
          <p:cNvPicPr/>
          <p:nvPr/>
        </p:nvPicPr>
        <p:blipFill>
          <a:blip r:embed="rId2"/>
          <a:stretch/>
        </p:blipFill>
        <p:spPr>
          <a:xfrm>
            <a:off x="7270920" y="0"/>
            <a:ext cx="1873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作者描写景物的方法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971640" y="170028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356000" y="170028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468360" y="1844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莫高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924360" y="18446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类描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95280" y="278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香港夜色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348000" y="278136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按观察地点观察角度不同描写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0" y="393372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美丽的小兴安岭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3348000" y="393372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按一年四季时间顺序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0" y="486900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江南水乡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周庄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3492360" y="486900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4543560" cy="15177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279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课下作业：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按 照 不 同 的 写 景 的 方 法 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写 写 自 己 见 过 的 一 处 风 景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7345440" cy="4945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543640" y="0"/>
            <a:ext cx="36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千六百多米长的崖壁上，凿有大小洞窟七百余个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5" descr="56532e9006f9377662b7e"/>
          <p:cNvPicPr/>
          <p:nvPr/>
        </p:nvPicPr>
        <p:blipFill>
          <a:blip r:embed="rId2"/>
          <a:stretch/>
        </p:blipFill>
        <p:spPr>
          <a:xfrm>
            <a:off x="684360" y="476280"/>
            <a:ext cx="7740360" cy="5797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692360" y="40464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其中四百九十二个洞窟中，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82708611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0" y="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有彩色塑像两千一百余尊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63817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说课ppt模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2008060515231512209"/>
          <p:cNvPicPr/>
          <p:nvPr/>
        </p:nvPicPr>
        <p:blipFill>
          <a:blip r:embed="rId2"/>
          <a:stretch/>
        </p:blipFill>
        <p:spPr>
          <a:xfrm>
            <a:off x="0" y="1177920"/>
            <a:ext cx="9144000" cy="5680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莫高窟的彩塑，每一尊都是一件精美的艺术品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8833015489176882"/>
          <p:cNvPicPr/>
          <p:nvPr/>
        </p:nvPicPr>
        <p:blipFill>
          <a:blip r:embed="rId2"/>
          <a:stretch/>
        </p:blipFill>
        <p:spPr>
          <a:xfrm>
            <a:off x="0" y="0"/>
            <a:ext cx="48229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-15480" y="189000"/>
            <a:ext cx="115524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这些彩塑个性鲜明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4932360" y="0"/>
            <a:ext cx="2333520" cy="391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4"/>
          <a:stretch/>
        </p:blipFill>
        <p:spPr>
          <a:xfrm>
            <a:off x="6810480" y="2943360"/>
            <a:ext cx="2333520" cy="391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7328520" y="0"/>
            <a:ext cx="11552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这些彩塑个性鲜明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735800" y="3517920"/>
            <a:ext cx="11552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这些彩塑个性鲜明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8da3c9caf62b47df53664fea"/>
          <p:cNvPicPr/>
          <p:nvPr/>
        </p:nvPicPr>
        <p:blipFill>
          <a:blip r:embed="rId2"/>
          <a:stretch/>
        </p:blipFill>
        <p:spPr>
          <a:xfrm>
            <a:off x="1979640" y="765000"/>
            <a:ext cx="5472000" cy="4980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54520" y="476280"/>
            <a:ext cx="667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神 态 各 异。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20080404115651_847140332"/>
          <p:cNvPicPr/>
          <p:nvPr/>
        </p:nvPicPr>
        <p:blipFill>
          <a:blip r:embed="rId2"/>
          <a:stretch/>
        </p:blipFill>
        <p:spPr>
          <a:xfrm>
            <a:off x="755640" y="1700280"/>
            <a:ext cx="7093080" cy="4125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692360" y="90792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莫高窟壁画的内容丰富多彩，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26:3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4:49:32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