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4.png" ContentType="image/png"/>
  <Override PartName="/ppt/media/image24.gif" ContentType="image/gif"/>
  <Override PartName="/ppt/media/image27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6.gif" ContentType="image/gif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C03-6DD8-4E55-9CF5-078824A7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562-8D99-486F-AFC8-B8E7DCE0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06E-D2CF-48CE-8FF5-29A3AA19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95F-B982-437A-8072-260014FC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7015-31D8-4CEB-A7A6-AFA16931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6D0F-40B9-47DC-B865-456C2C93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3DFC-9E50-4AEB-BFE0-CBF0C1C9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ED63-3581-4140-8C9D-04227D91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2074-D114-437A-8B4C-29566F50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5A41-C9B1-4C9E-871A-C8FE6F5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95A6-43E3-42AF-AD7F-795487B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DE3-4F7E-42FB-8CA1-386B9A71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12BE-AB9A-4109-804A-2FC3374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6E3C-CB78-4141-BF1A-76D71411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74EE-B6DE-4266-9979-0ECC92DE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1EB0-7A4F-4CF2-81C7-5F7C6B66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9682-F302-40D0-B693-9D6976FB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366-C161-42B2-91AD-5C56E2A6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E40-DBCC-4478-AD33-47F94A86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024-E31B-4837-9261-C3C09CF3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C6A-3BA2-4824-BFF8-15FBB8CD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CDE-9BB6-42C6-8D86-84732C05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77C-ECB9-4523-82BD-489B8235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0EB-C49F-432B-B62E-079BF9BA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0FF3-FCDE-46D1-B811-2BEE66D2C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7C26-2AA8-4959-8007-0C2B94212B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B551-28E7-4658-92FB-E11D2315D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17.jpe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1752480" y="692280"/>
            <a:ext cx="53341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000" spc="-1" strike="noStrike">
                <a:solidFill>
                  <a:srgbClr val="ff0000"/>
                </a:solidFill>
                <a:latin typeface="华康娃娃体W5"/>
                <a:ea typeface="华康娃娃体W5"/>
              </a:rPr>
              <a:t>盲孩子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1280" y="25909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050920" y="4292640"/>
            <a:ext cx="40388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00"/>
                </a:solidFill>
                <a:latin typeface="华康娃娃体W5"/>
                <a:ea typeface="华康娃娃体W5"/>
              </a:rPr>
              <a:t>他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5037120" y="3141720"/>
            <a:ext cx="3581280" cy="26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31680">
                  <a:solidFill>
                    <a:srgbClr val="faf514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影子</a:t>
            </a:r>
            <a:endParaRPr b="1" i="1" lang="en-US" sz="1800" spc="1" strike="noStrike">
              <a:ln w="31680">
                <a:solidFill>
                  <a:srgbClr val="faf514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008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295280" y="1279440"/>
            <a:ext cx="64008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63636"/>
                </a:solidFill>
                <a:latin typeface="Times New Roman"/>
                <a:ea typeface="黑体"/>
              </a:rPr>
              <a:t>        </a:t>
            </a:r>
            <a:r>
              <a:rPr b="1" lang="zh-CN" sz="8000" spc="-1" strike="noStrike">
                <a:solidFill>
                  <a:srgbClr val="363636"/>
                </a:solidFill>
                <a:latin typeface="Times New Roman"/>
                <a:ea typeface="黑体"/>
              </a:rPr>
              <a:t>画出表现盲孩子心情变化的关键语句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.wav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405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14300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有一天，影子来了，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惊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从此，影子天天陪着他，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快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对于影子的来历，盲孩子觉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又新奇又兴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当他得知是光明带来了影子，盲孩子很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感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感受到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友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温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每当人们夸赞他的影子时，盲孩子都会感到无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79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夏夜，他们去散步，盲孩子对萤火虫十分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好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他第一次模糊地感受到萤火虫的光亮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快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几乎大声喊叫起来。这个晚上盲孩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心情好极了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风雨来了，盲孩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孤零零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站在旷野上，他很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无助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过了很久，萤火虫来了，影子也回来了，他们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惊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拥抱在了一起。雨停了，天晴了，盲孩子重见光明了！他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惊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看着眼前的世界。盲孩子望着影子，他们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008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295280" y="16765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归纳一下本文的主要情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therap.mp3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471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008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1828800" y="1676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盲孩子很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828800" y="2362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影子的陪伴给孩子带来快乐和温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828800" y="3581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萤火虫、影子、太阳和月亮的爱使盲孩子得到光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08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143000" y="1219320"/>
            <a:ext cx="6629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你最喜欢的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觉得写得最美的或最受感动的是文章中的哪一处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心灵的光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对生活充满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友情的感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0064"/>
          <p:cNvPicPr/>
          <p:nvPr/>
        </p:nvPicPr>
        <p:blipFill>
          <a:blip r:embed="rId1"/>
          <a:stretch/>
        </p:blipFill>
        <p:spPr>
          <a:xfrm>
            <a:off x="7391520" y="5334120"/>
            <a:ext cx="961920" cy="9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026" descr="GH_071"/>
          <p:cNvPicPr/>
          <p:nvPr/>
        </p:nvPicPr>
        <p:blipFill>
          <a:blip r:embed="rId1"/>
          <a:srcRect l="0" t="0" r="0" b="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27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给别人幸福，自己也能获得幸福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28" descr="0033"/>
          <p:cNvPicPr/>
          <p:nvPr/>
        </p:nvPicPr>
        <p:blipFill>
          <a:blip r:embed="rId2"/>
          <a:stretch/>
        </p:blipFill>
        <p:spPr>
          <a:xfrm>
            <a:off x="7864560" y="6172200"/>
            <a:ext cx="127944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26" descr="008"/>
          <p:cNvPicPr/>
          <p:nvPr/>
        </p:nvPicPr>
        <p:blipFill>
          <a:blip r:embed="rId1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27" descr="star"/>
          <p:cNvPicPr/>
          <p:nvPr/>
        </p:nvPicPr>
        <p:blipFill>
          <a:blip r:embed="rId2"/>
          <a:stretch/>
        </p:blipFill>
        <p:spPr>
          <a:xfrm>
            <a:off x="77724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28" descr="star"/>
          <p:cNvPicPr/>
          <p:nvPr/>
        </p:nvPicPr>
        <p:blipFill>
          <a:blip r:embed="rId3"/>
          <a:stretch/>
        </p:blipFill>
        <p:spPr>
          <a:xfrm>
            <a:off x="685800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29" descr="star"/>
          <p:cNvPicPr/>
          <p:nvPr/>
        </p:nvPicPr>
        <p:blipFill>
          <a:blip r:embed="rId4"/>
          <a:stretch/>
        </p:blipFill>
        <p:spPr>
          <a:xfrm>
            <a:off x="8001000" y="45720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685800" y="2895480"/>
            <a:ext cx="7391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c6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ad624"/>
                </a:solidFill>
                <a:latin typeface="Times New Roman"/>
                <a:ea typeface="隶书"/>
              </a:rPr>
              <a:t>         </a:t>
            </a:r>
            <a:r>
              <a:rPr b="0" i="1" lang="zh-CN" sz="6000" spc="-1" strike="noStrike">
                <a:solidFill>
                  <a:srgbClr val="faf514"/>
                </a:solidFill>
                <a:latin typeface="Times New Roman"/>
                <a:ea typeface="隶书"/>
              </a:rPr>
              <a:t>做一个有能力获得幸福也让别人获得幸福的人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31" descr="star"/>
          <p:cNvPicPr/>
          <p:nvPr/>
        </p:nvPicPr>
        <p:blipFill>
          <a:blip r:embed="rId5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32" descr="star"/>
          <p:cNvPicPr/>
          <p:nvPr/>
        </p:nvPicPr>
        <p:blipFill>
          <a:blip r:embed="rId6"/>
          <a:stretch/>
        </p:blipFill>
        <p:spPr>
          <a:xfrm>
            <a:off x="22860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33" descr="star"/>
          <p:cNvPicPr/>
          <p:nvPr/>
        </p:nvPicPr>
        <p:blipFill>
          <a:blip r:embed="rId7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6" name="宽阔.MP3" descr=""/>
          <p:cNvPicPr/>
          <p:nvPr/>
        </p:nvPicPr>
        <p:blipFill>
          <a:blip r:embed="rId8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乐观、积极 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坚强、快乐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04920" y="914400"/>
            <a:ext cx="883908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黑夜给了我黑色的眼睛，我用它来寻找光明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顾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黑眼睛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爱的奉献.mp3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2112840" y="155520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白朗宁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我是幸福的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因为我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因为我被爱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20" y="716040"/>
            <a:ext cx="95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纪伯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和你一同笑过的人，你可能把他忘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和你一同哭过的人，你却永远不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29242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佚   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真友谊像磷火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在你周围最黑暗的时刻显得最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403280" y="220500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有这种永远不忘的朋友吗？你有磷火一般在别人最黑暗时给他光明的经历吗？请你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为中心，结合自身生活经历，写篇短文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971640" y="907920"/>
            <a:ext cx="277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动动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爱的奉献.mp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611280" y="549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黑体"/>
              </a:rPr>
              <a:t>童话有结束的时候，爱却永无止境。只要人人都献出一点爱，世界将变成美好的人间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08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676520" y="1295280"/>
            <a:ext cx="60958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        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营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造了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一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种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纯真、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友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好</a:t>
            </a:r>
            <a:r>
              <a:rPr b="1" lang="zh-CN" sz="66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的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氛围，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具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有诗情</a:t>
            </a:r>
            <a:r>
              <a:rPr b="1" lang="zh-CN" sz="66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画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意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的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境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界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ramp"/>
          <p:cNvPicPr/>
          <p:nvPr/>
        </p:nvPicPr>
        <p:blipFill>
          <a:blip r:embed="rId2"/>
          <a:stretch/>
        </p:blipFill>
        <p:spPr>
          <a:xfrm>
            <a:off x="6603840" y="0"/>
            <a:ext cx="2540160" cy="5079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"/>
          <p:cNvSpPr/>
          <p:nvPr/>
        </p:nvSpPr>
        <p:spPr>
          <a:xfrm>
            <a:off x="324000" y="1844640"/>
            <a:ext cx="7451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363636"/>
                </a:solidFill>
                <a:latin typeface="黑体"/>
                <a:ea typeface="黑体"/>
              </a:rPr>
              <a:t>盲孩子热爱生活，渴望光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把盲孩子周围的世界织成了一种绚丽的境界。吸引、感染着读者，使读者获得美的熏陶。</a:t>
            </a:r>
            <a:r>
              <a:rPr b="1" lang="zh-CN" sz="4000" spc="-1" strike="noStrike">
                <a:solidFill>
                  <a:srgbClr val="36363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520" y="2286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（</a:t>
            </a:r>
            <a:r>
              <a:rPr b="1" lang="en-US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1</a:t>
            </a: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）美的意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04920" y="974880"/>
            <a:ext cx="86868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按句排行，短小、活泼、跳跃，像小溪流水，自然流畅，叮咚有声，适合表现童话内容，适合孩子们的阅读心理。大量运用叠词，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静静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轻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潺潺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沉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阵阵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幽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飘飘忽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模糊糊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踉踉跄跄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跌跌爬爬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等。    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这些词语不仅描写情态逼真，而且舒缓语气，琅琅上口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1522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（</a:t>
            </a:r>
            <a:r>
              <a:rPr b="1" lang="en-US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2</a:t>
            </a: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）美的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480060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star"/>
          <p:cNvPicPr/>
          <p:nvPr/>
        </p:nvPicPr>
        <p:blipFill>
          <a:blip r:embed="rId2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star"/>
          <p:cNvPicPr/>
          <p:nvPr/>
        </p:nvPicPr>
        <p:blipFill>
          <a:blip r:embed="rId3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008"/>
          <p:cNvPicPr/>
          <p:nvPr/>
        </p:nvPicPr>
        <p:blipFill>
          <a:blip r:embed="rId4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star"/>
          <p:cNvPicPr/>
          <p:nvPr/>
        </p:nvPicPr>
        <p:blipFill>
          <a:blip r:embed="rId5"/>
          <a:stretch/>
        </p:blipFill>
        <p:spPr>
          <a:xfrm>
            <a:off x="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tar"/>
          <p:cNvPicPr/>
          <p:nvPr/>
        </p:nvPicPr>
        <p:blipFill>
          <a:blip r:embed="rId6"/>
          <a:stretch/>
        </p:blipFill>
        <p:spPr>
          <a:xfrm>
            <a:off x="701028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star"/>
          <p:cNvPicPr/>
          <p:nvPr/>
        </p:nvPicPr>
        <p:blipFill>
          <a:blip r:embed="rId7"/>
          <a:stretch/>
        </p:blipFill>
        <p:spPr>
          <a:xfrm>
            <a:off x="7391520" y="5257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28600" y="350532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af514"/>
                </a:solidFill>
                <a:latin typeface="方正舒体"/>
                <a:ea typeface="方正舒体"/>
              </a:rPr>
              <a:t>主题探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08"/>
          <p:cNvPicPr/>
          <p:nvPr/>
        </p:nvPicPr>
        <p:blipFill>
          <a:blip r:embed="rId2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star"/>
          <p:cNvPicPr/>
          <p:nvPr/>
        </p:nvPicPr>
        <p:blipFill>
          <a:blip r:embed="rId3"/>
          <a:stretch/>
        </p:blipFill>
        <p:spPr>
          <a:xfrm>
            <a:off x="77724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star"/>
          <p:cNvPicPr/>
          <p:nvPr/>
        </p:nvPicPr>
        <p:blipFill>
          <a:blip r:embed="rId4"/>
          <a:stretch/>
        </p:blipFill>
        <p:spPr>
          <a:xfrm>
            <a:off x="685800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star"/>
          <p:cNvPicPr/>
          <p:nvPr/>
        </p:nvPicPr>
        <p:blipFill>
          <a:blip r:embed="rId5"/>
          <a:stretch/>
        </p:blipFill>
        <p:spPr>
          <a:xfrm>
            <a:off x="8077320" y="5791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star"/>
          <p:cNvPicPr/>
          <p:nvPr/>
        </p:nvPicPr>
        <p:blipFill>
          <a:blip r:embed="rId6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star"/>
          <p:cNvPicPr/>
          <p:nvPr/>
        </p:nvPicPr>
        <p:blipFill>
          <a:blip r:embed="rId7"/>
          <a:stretch/>
        </p:blipFill>
        <p:spPr>
          <a:xfrm>
            <a:off x="22860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star"/>
          <p:cNvPicPr/>
          <p:nvPr/>
        </p:nvPicPr>
        <p:blipFill>
          <a:blip r:embed="rId8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324000" y="365040"/>
            <a:ext cx="830556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从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影子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萤火虫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对盲孩子的关爱、帮助中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    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影子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最后也获得生命  中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a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6516720" y="2924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a2"/>
          <p:cNvPicPr/>
          <p:nvPr/>
        </p:nvPicPr>
        <p:blipFill>
          <a:blip r:embed="rId1"/>
          <a:stretch/>
        </p:blipFill>
        <p:spPr>
          <a:xfrm>
            <a:off x="5654520" y="1905120"/>
            <a:ext cx="348948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685800" y="10666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童话是儿童文学的一种，它通过丰富的想象、幻想和夸张来塑造形象，反映生活，对儿童进行思想教育。语言通俗易懂，情节曲折离奇，往往采用拟人的手法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85800" y="3808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体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1629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9539280" cy="9774720"/>
            <a:chOff x="0" y="0"/>
            <a:chExt cx="9539280" cy="9774720"/>
          </a:xfrm>
        </p:grpSpPr>
        <p:pic>
          <p:nvPicPr>
            <p:cNvPr id="191" name="Picture 3" descr="tp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4"/>
            <p:cNvSpPr/>
            <p:nvPr/>
          </p:nvSpPr>
          <p:spPr>
            <a:xfrm>
              <a:off x="4859280" y="1008000"/>
              <a:ext cx="4680000" cy="87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和我有说不完的话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直到太阳落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影子消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只剩下孤零零的自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我知道，明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影子还会来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还会有新的故事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"/>
            <p:cNvSpPr/>
            <p:nvPr/>
          </p:nvSpPr>
          <p:spPr>
            <a:xfrm>
              <a:off x="2771640" y="458640"/>
              <a:ext cx="482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333399"/>
                  </a:solidFill>
                  <a:latin typeface="Times New Roman"/>
                  <a:ea typeface="华文新魏"/>
                </a:rPr>
                <a:t>读自己的影子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6"/>
          <p:cNvSpPr/>
          <p:nvPr/>
        </p:nvSpPr>
        <p:spPr>
          <a:xfrm>
            <a:off x="4648320" y="1066680"/>
            <a:ext cx="382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85800" y="246852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33520" y="1523880"/>
            <a:ext cx="71625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0">
            <a:hlinkClick r:id="" action="ppaction://hlinkshowjump?jump=previousslide"/>
          </p:cNvPr>
          <p:cNvSpPr/>
          <p:nvPr/>
        </p:nvSpPr>
        <p:spPr>
          <a:xfrm>
            <a:off x="6516720" y="6477120"/>
            <a:ext cx="533520" cy="3808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98" y="1350"/>
                </a:lnTo>
                <a:lnTo>
                  <a:pt x="1350" y="135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98" y="20250"/>
                </a:lnTo>
                <a:lnTo>
                  <a:pt x="28898" y="135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98" y="2025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48" h="21600">
                <a:moveTo>
                  <a:pt x="8080" y="10800"/>
                </a:moveTo>
                <a:lnTo>
                  <a:pt x="22168" y="3756"/>
                </a:lnTo>
                <a:lnTo>
                  <a:pt x="22168" y="178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">
            <a:hlinkClick r:id="" action="ppaction://hlinkshowjump?jump=nextslide"/>
          </p:cNvPr>
          <p:cNvSpPr/>
          <p:nvPr/>
        </p:nvSpPr>
        <p:spPr>
          <a:xfrm>
            <a:off x="7086600" y="6477120"/>
            <a:ext cx="533520" cy="3808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98" y="1350"/>
                </a:lnTo>
                <a:lnTo>
                  <a:pt x="1350" y="135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98" y="20250"/>
                </a:lnTo>
                <a:lnTo>
                  <a:pt x="28898" y="135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98" y="2025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48" h="21600">
                <a:moveTo>
                  <a:pt x="8080" y="3756"/>
                </a:moveTo>
                <a:lnTo>
                  <a:pt x="22168" y="10800"/>
                </a:lnTo>
                <a:lnTo>
                  <a:pt x="8080" y="178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24000" y="692280"/>
            <a:ext cx="475128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候，不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喜欢坐在那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自己的影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读一本童话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是读一头黑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是一只很黑的小兔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坐卧在我的脚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0124"/>
          <p:cNvPicPr/>
          <p:nvPr/>
        </p:nvPicPr>
        <p:blipFill>
          <a:blip r:embed="rId3"/>
          <a:stretch/>
        </p:blipFill>
        <p:spPr>
          <a:xfrm>
            <a:off x="539640" y="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202" name="TRACK11.MP3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838080" y="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258920" y="981000"/>
            <a:ext cx="612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生活不够慷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也不必回报吝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要细细的盘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付出和得到的必须一般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能够大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显得猥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能够潇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选择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获得是一种满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给予是一种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704320" y="26820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生活不够慷慨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汪国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133720" y="-609480"/>
            <a:ext cx="701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有时我想，要是人们把活着的每一天都看作是生命的最后一天该有多好啊！这就能更显出生命的价值。如果以为岁月还相当漫长，我们的每一天就不会过得那样有意义，有朝气，我们对生活就不会总是充满热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       </a:t>
            </a: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我有过这样的想法，如果让每一个人在他成年后的某个阶段瞎上几天，聋上几天有多好。黑暗将使他们更加珍惜光明；寂静将教会他们真正领略喧哗的欢乐。 事情往往就是这样，一旦失去了的东西，人们才会留恋它，人得了病才想到健康的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Arial"/>
                <a:ea typeface="汉仪粗宋简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U135P112T21D1191F370DT20040720122715"/>
          <p:cNvPicPr/>
          <p:nvPr/>
        </p:nvPicPr>
        <p:blipFill>
          <a:blip r:embed="rId1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假如给我三天光明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-533520"/>
            <a:ext cx="74674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我多么渴望看看这世上的一切，如果说我凭我的触觉能得到如此大的乐趣，那么能让我亲眼目睹一下该有多好。奇怪的是明眼人对这一切却如此淡漠！那点缀世界的五彩缤纷和千姿百态在他们看来是那么的平庸。也许人就是这样，有了的东西不知道欣赏，没有的东西又一味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请你思考一下这个问题：假如你只有三天的光明，你将如何使用你的眼睛？想到三天以后，太阳再也不会在你的眼前升起，你又将如何度过那宝贵的三日？你又会让你的眼睛停留在何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U135P112T21D1191F370DT20040720122715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80880" y="3808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失明的我可以给那些看得见的人们一个提示</a:t>
            </a:r>
            <a:r>
              <a:rPr b="1" lang="en-US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</a:t>
            </a:r>
            <a:r>
              <a:rPr b="1" lang="zh-CN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对那些能够充分利用天赋视觉的人们一个忠告：善用你的眼睛吧，犹如明天你将遭到失明的灾难。同样的方法也可以应用于其它感官。聆听乐曲的妙音，鸟儿的歌唱，管弦乐队的雄浑而铿锵有力的曲调吧，犹如明天你将遭到耳聋的厄运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tar"/>
          <p:cNvPicPr/>
          <p:nvPr/>
        </p:nvPicPr>
        <p:blipFill>
          <a:blip r:embed="rId2"/>
          <a:stretch/>
        </p:blipFill>
        <p:spPr>
          <a:xfrm>
            <a:off x="830592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tar"/>
          <p:cNvPicPr/>
          <p:nvPr/>
        </p:nvPicPr>
        <p:blipFill>
          <a:blip r:embed="rId3"/>
          <a:stretch/>
        </p:blipFill>
        <p:spPr>
          <a:xfrm>
            <a:off x="80010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star"/>
          <p:cNvPicPr/>
          <p:nvPr/>
        </p:nvPicPr>
        <p:blipFill>
          <a:blip r:embed="rId4"/>
          <a:stretch/>
        </p:blipFill>
        <p:spPr>
          <a:xfrm>
            <a:off x="54864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star"/>
          <p:cNvPicPr/>
          <p:nvPr/>
        </p:nvPicPr>
        <p:blipFill>
          <a:blip r:embed="rId5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star"/>
          <p:cNvPicPr/>
          <p:nvPr/>
        </p:nvPicPr>
        <p:blipFill>
          <a:blip r:embed="rId6"/>
          <a:stretch/>
        </p:blipFill>
        <p:spPr>
          <a:xfrm>
            <a:off x="2286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star"/>
          <p:cNvPicPr/>
          <p:nvPr/>
        </p:nvPicPr>
        <p:blipFill>
          <a:blip r:embed="rId7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52280" y="304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抚摸每一件你想要抚摸的物品吧，犹如明天你的触觉将会衰退。嗅闻所有鲜花的芳香，品尝每一口佳肴吧，犹如明天你再不能嗅闻品尝。充分利用你的每一个感官，为世界向你显示的所有愉快而美好的细节而自豪吧！</a:t>
            </a:r>
            <a:r>
              <a:rPr b="1" lang="en-US" sz="48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……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876920" y="6095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514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af514"/>
                </a:solidFill>
                <a:latin typeface="Times New Roman"/>
              </a:rPr>
              <a:t>海伦</a:t>
            </a:r>
            <a:r>
              <a:rPr b="1" lang="en-US" sz="3200" spc="-1" strike="noStrike">
                <a:solidFill>
                  <a:srgbClr val="faf514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af514"/>
                </a:solidFill>
                <a:latin typeface="Times New Roman"/>
              </a:rPr>
              <a:t>凯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star"/>
          <p:cNvPicPr/>
          <p:nvPr/>
        </p:nvPicPr>
        <p:blipFill>
          <a:blip r:embed="rId2"/>
          <a:stretch/>
        </p:blipFill>
        <p:spPr>
          <a:xfrm>
            <a:off x="784872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star"/>
          <p:cNvPicPr/>
          <p:nvPr/>
        </p:nvPicPr>
        <p:blipFill>
          <a:blip r:embed="rId3"/>
          <a:stretch/>
        </p:blipFill>
        <p:spPr>
          <a:xfrm>
            <a:off x="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star"/>
          <p:cNvPicPr/>
          <p:nvPr/>
        </p:nvPicPr>
        <p:blipFill>
          <a:blip r:embed="rId4"/>
          <a:stretch/>
        </p:blipFill>
        <p:spPr>
          <a:xfrm>
            <a:off x="76201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star"/>
          <p:cNvPicPr/>
          <p:nvPr/>
        </p:nvPicPr>
        <p:blipFill>
          <a:blip r:embed="rId5"/>
          <a:stretch/>
        </p:blipFill>
        <p:spPr>
          <a:xfrm>
            <a:off x="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tar"/>
          <p:cNvPicPr/>
          <p:nvPr/>
        </p:nvPicPr>
        <p:blipFill>
          <a:blip r:embed="rId6"/>
          <a:stretch/>
        </p:blipFill>
        <p:spPr>
          <a:xfrm>
            <a:off x="76201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star"/>
          <p:cNvPicPr/>
          <p:nvPr/>
        </p:nvPicPr>
        <p:blipFill>
          <a:blip r:embed="rId7"/>
          <a:stretch/>
        </p:blipFill>
        <p:spPr>
          <a:xfrm>
            <a:off x="4572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700360" y="476280"/>
            <a:ext cx="47242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c6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af514"/>
                </a:solidFill>
                <a:latin typeface="Times New Roman"/>
                <a:ea typeface="华文彩云"/>
              </a:rPr>
              <a:t>读一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371600" y="2057400"/>
            <a:ext cx="6781680" cy="37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6c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嬉戏  潺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情不自禁  孤零零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踉跄  泥泞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733920" y="1676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780000" y="29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j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8672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ī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11430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2209680" y="4419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q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49568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60020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LOWER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900000" y="62064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一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寂寞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71640" y="148428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快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95480" y="2060640"/>
            <a:ext cx="46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00000" y="23493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三）见到了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一线光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900000" y="321300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四）在风雨中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挣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并得到了       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关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71640" y="4869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五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重见光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6:41:0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54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