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png" ContentType="image/png"/>
  <Override PartName="/ppt/media/image19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gif" ContentType="image/gif"/>
  <Override PartName="/ppt/media/image9.jpeg" ContentType="image/jpeg"/>
  <Override PartName="/ppt/media/image31.gif" ContentType="image/gif"/>
  <Override PartName="/ppt/media/image34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959-6EE3-46BC-BB85-335E21C0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785-11CC-4A5B-85CC-7EB7806A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1D7-37C5-4BA2-81D8-2E35F6F9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40B-E802-4799-AEA0-3AD0CB06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2E3-5CC4-4459-8D82-43FA50BD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266-2ACB-4ED4-BAC5-06B82947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B3E-4413-4B60-97E4-BA94577C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F82-D24D-495F-9B34-7112D960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850-0BA4-42D3-B7B3-23827932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C73-3261-43F0-97DF-012AF43C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629-DE05-4105-BD01-4909EC5E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40E-6924-4195-8E3A-F69D59B9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7FB8-627C-4542-B3EA-3A24B30FB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8,2,&#24187;&#28783;&#29255; 2" TargetMode="External"/><Relationship Id="rId3" Type="http://schemas.openxmlformats.org/officeDocument/2006/relationships/hyperlink" Target="259,3,J &#299;        zh&#249;       ti&#283;      k&#232;h&#225;n      &#257;nji&#257;n    p&#232;i     ji&#257;n      y&#257;n          j&#299;u     r&#243;ng      shu&#242;       tu&#242;     zhu&#257;ng         zhu&#243;       ti&#283;        b&#224;ng   " TargetMode="External"/><Relationship Id="rId4" Type="http://schemas.openxmlformats.org/officeDocument/2006/relationships/hyperlink" Target="260,4,&#24187;&#28783;&#29255; 4" TargetMode="External"/><Relationship Id="rId5" Type="http://schemas.openxmlformats.org/officeDocument/2006/relationships/hyperlink" Target="261,5,&#24187;&#28783;&#29255; 5" TargetMode="External"/><Relationship Id="rId6" Type="http://schemas.openxmlformats.org/officeDocument/2006/relationships/hyperlink" Target="262,6,&#24187;&#28783;&#29255; 6" TargetMode="External"/><Relationship Id="rId7" Type="http://schemas.openxmlformats.org/officeDocument/2006/relationships/hyperlink" Target="264,8,&#24187;&#28783;&#29255; 8" TargetMode="External"/><Relationship Id="rId8" Type="http://schemas.openxmlformats.org/officeDocument/2006/relationships/hyperlink" Target="274,18,&#24187;&#28783;&#29255; 18" TargetMode="External"/><Relationship Id="rId9" Type="http://schemas.openxmlformats.org/officeDocument/2006/relationships/hyperlink" Target="275,19,&#24187;&#28783;&#29255; 19" TargetMode="Externa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hyperlink" Target="257,1,&#24187;&#28783;&#29255; 1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hyperlink" Target="260,4,&#24187;&#28783;&#29255; 4" TargetMode="External"/><Relationship Id="rId4" Type="http://schemas.openxmlformats.org/officeDocument/2006/relationships/hyperlink" Target="275,19,&#24187;&#28783;&#29255; 19" TargetMode="External"/><Relationship Id="rId5" Type="http://schemas.openxmlformats.org/officeDocument/2006/relationships/hyperlink" Target="257,1,&#24187;&#28783;&#29255; 1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257,1,&#24187;&#28783;&#29255; 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hyperlink" Target="257,1,&#24187;&#28783;&#29255; 1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57,1,&#24187;&#28783;&#29255; 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57,1,&#24187;&#28783;&#29255; 1" TargetMode="External"/><Relationship Id="rId2" Type="http://schemas.openxmlformats.org/officeDocument/2006/relationships/hyperlink" Target="260,4,&#24187;&#28783;&#29255; 4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hyperlink" Target="257,1,&#24187;&#28783;&#29255; 1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u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819520" y="5257800"/>
            <a:ext cx="2666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 </a:t>
            </a:r>
            <a:r>
              <a:rPr b="1" i="1" lang="zh-CN" sz="60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木兰诗</a:t>
            </a:r>
            <a:endParaRPr b="1" i="1" lang="en-US" sz="60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380880"/>
            <a:ext cx="235908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2"/>
              </a:rPr>
              <a:t>一诗歌简介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3"/>
              </a:rPr>
              <a:t>二字音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4"/>
              </a:rPr>
              <a:t>三朗读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5"/>
              </a:rPr>
              <a:t>四字词句义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6"/>
              </a:rPr>
              <a:t>五故事情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7"/>
              </a:rPr>
              <a:t>六人物形象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8"/>
              </a:rPr>
              <a:t>七详略分析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9"/>
              </a:rPr>
              <a:t>八课外廷伸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射箭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994320" y="-871920"/>
            <a:ext cx="115524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东市买骏马，西市买鞍鞯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南市买辔头，北市买长鞭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66520" y="53578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渲染临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紧张气氛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月夜思亲"/>
          <p:cNvPicPr/>
          <p:nvPr/>
        </p:nvPicPr>
        <p:blipFill>
          <a:blip r:embed="rId1"/>
          <a:stretch/>
        </p:blipFill>
        <p:spPr>
          <a:xfrm>
            <a:off x="0" y="2514600"/>
            <a:ext cx="914256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092560" y="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旦辞爷娘去，暮宿黄河边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不闻爷娘唤女声，但闻黄河流水鸣溅溅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旦辞黄河去，暮至黑山头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不闻黄河流水声，但闻燕山胡骑鸣啾啾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695640" y="1676520"/>
            <a:ext cx="17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女儿情怀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1" name="Picture 5" descr="木兰别父"/>
          <p:cNvPicPr/>
          <p:nvPr/>
        </p:nvPicPr>
        <p:blipFill>
          <a:blip r:embed="rId2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木兰为帅"/>
          <p:cNvPicPr/>
          <p:nvPr/>
        </p:nvPicPr>
        <p:blipFill>
          <a:blip r:embed="rId1"/>
          <a:stretch/>
        </p:blipFill>
        <p:spPr>
          <a:xfrm>
            <a:off x="3429000" y="2209680"/>
            <a:ext cx="5713560" cy="4648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179000" y="30492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万里赴戎机，关山度若飞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朔气传金柝，寒光照铁衣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将军百战死，壮士十年归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245200" y="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征途之遥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生活之苦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战斗之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时间之长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战况之烈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991920" y="609480"/>
            <a:ext cx="19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勇敢坚强的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英雄气慨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6" name="Picture 6" descr="参见将军"/>
          <p:cNvPicPr/>
          <p:nvPr/>
        </p:nvPicPr>
        <p:blipFill>
          <a:blip r:embed="rId2"/>
          <a:stretch/>
        </p:blipFill>
        <p:spPr>
          <a:xfrm>
            <a:off x="0" y="2209680"/>
            <a:ext cx="3429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U"/>
          <p:cNvPicPr/>
          <p:nvPr/>
        </p:nvPicPr>
        <p:blipFill>
          <a:blip r:embed="rId1"/>
          <a:stretch/>
        </p:blipFill>
        <p:spPr>
          <a:xfrm>
            <a:off x="6248520" y="0"/>
            <a:ext cx="289404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木兰48"/>
          <p:cNvPicPr/>
          <p:nvPr/>
        </p:nvPicPr>
        <p:blipFill>
          <a:blip r:embed="rId2"/>
          <a:stretch/>
        </p:blipFill>
        <p:spPr>
          <a:xfrm>
            <a:off x="0" y="2057400"/>
            <a:ext cx="914256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630440" y="0"/>
            <a:ext cx="338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归来见天子，天子坐明堂。策勋十二转，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赏赐百千强。可汗问所欲，木兰不用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书郎，愿驰千里足，送儿还故乡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585600" y="1219320"/>
            <a:ext cx="197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不慕荣华富贵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甘过普通百姓生活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木兰见父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746720" y="30492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爷娘闻女来，出郭相扶将；阿姊闻妹来，当户理红妆；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小弟闻姊来，磨刀霍霍向猪羊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713560" y="7621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渲染归家的欢乐气氛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木兰梳妆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179000" y="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开我东阁门，坐我西阁床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脱我战时袍，著我旧时裳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当窗理云鬓，对镜帖花黄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427360" y="304920"/>
            <a:ext cx="28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渲染归家及回复女儿身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的喜悦，突出女儿情怀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6021360"/>
            <a:ext cx="812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http://www.eeppt.com/moban/kejian/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回复女儿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690200" y="30492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出门看火伴，火伴皆惊忙，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同行十二年，不知木兰是女郎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364080" y="80316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机智、谨慎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忠孝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2520" y="-747000"/>
            <a:ext cx="91188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雄兔脚扑朔，雌兔眼迷离；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双兔傍地走，安能辨我是雄雌？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84120" y="5473440"/>
            <a:ext cx="5461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机智、谨慎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木兰"/>
          <p:cNvPicPr/>
          <p:nvPr/>
        </p:nvPicPr>
        <p:blipFill>
          <a:blip r:embed="rId1"/>
          <a:stretch/>
        </p:blipFill>
        <p:spPr>
          <a:xfrm>
            <a:off x="-1981080" y="1066680"/>
            <a:ext cx="6476760" cy="579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射箭（无底）"/>
          <p:cNvPicPr/>
          <p:nvPr/>
        </p:nvPicPr>
        <p:blipFill>
          <a:blip r:embed="rId2"/>
          <a:stretch/>
        </p:blipFill>
        <p:spPr>
          <a:xfrm>
            <a:off x="4572000" y="1066680"/>
            <a:ext cx="457056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669960" y="654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504440" y="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既有女儿情怀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076440" y="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更具英雄气慨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39640" y="4572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古代杰出的巾帼英雄形象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8565840" y="5540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425680" y="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诗中哪些地方写得详细？哪些地言写得简略？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这样写有什么好处？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2" name="Picture 3" descr="弹跳蓝"/>
          <p:cNvPicPr/>
          <p:nvPr/>
        </p:nvPicPr>
        <p:blipFill>
          <a:blip r:embed="rId2"/>
          <a:stretch/>
        </p:blipFill>
        <p:spPr>
          <a:xfrm>
            <a:off x="380880" y="228600"/>
            <a:ext cx="365400" cy="77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1814040" y="1066680"/>
            <a:ext cx="237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从军缘由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出征前的准备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出征中的思亲心理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关山飞度，征战沙场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凯旋辞官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家人迎接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木兰改装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386680" y="1143000"/>
            <a:ext cx="1253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略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略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692720" y="4572000"/>
            <a:ext cx="560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（在内容上）突出木兰的儿女情态，丰富了木兰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的英雄性格，使得人物形象真实感人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（在结构上）详略得当，使全诗显得简洁紧凑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548040" y="63388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  <a:hlinkClick r:id="rId3"/>
              </a:rPr>
              <a:t>朗读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919640" y="63388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  <a:hlinkClick r:id="rId4"/>
              </a:rPr>
              <a:t>课外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284800" y="645336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返回</a:t>
            </a:r>
            <a:endParaRPr b="1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7489080" y="22096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详写女儿情态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略写英雄气慨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亳州木兰祠"/>
          <p:cNvPicPr/>
          <p:nvPr/>
        </p:nvPicPr>
        <p:blipFill>
          <a:blip r:embed="rId2"/>
          <a:stretch/>
        </p:blipFill>
        <p:spPr>
          <a:xfrm>
            <a:off x="6480" y="0"/>
            <a:ext cx="3346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2466720" y="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安徽亳州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木兰像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6" name="WordArt 4" descr="白色大理石"/>
          <p:cNvPicPr/>
          <p:nvPr/>
        </p:nvPicPr>
        <p:blipFill>
          <a:blip r:embed="rId3"/>
          <a:stretch/>
        </p:blipFill>
        <p:spPr>
          <a:xfrm>
            <a:off x="5089680" y="-19080"/>
            <a:ext cx="2622240" cy="957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30120" y="838080"/>
            <a:ext cx="491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选自南朝郭茂倩编的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乐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府诗集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，南北朝时北方的一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首乐府民歌，属于叙事诗，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述了古代女英雄木兰代父从军、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建功立业的传奇故事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8361000" y="58356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  <a:hlinkClick r:id="rId4"/>
              </a:rPr>
              <a:t>返回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9" name="Picture 7" descr="木兰祠"/>
          <p:cNvPicPr/>
          <p:nvPr/>
        </p:nvPicPr>
        <p:blipFill>
          <a:blip r:embed="rId5"/>
          <a:stretch/>
        </p:blipFill>
        <p:spPr>
          <a:xfrm>
            <a:off x="3429000" y="34290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6998040" y="3429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河南虞城花木兰祠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399040" y="2728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你还知道我国历史上有哪些著名的女英雄吗？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1" name="Picture 3" descr="桂英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梁红玉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红娘子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99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梁红玉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红娘子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桂英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5841720" y="3962520"/>
            <a:ext cx="16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水浒传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里的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J ī        zhù       tiě      kèhán      ānjiān    pèi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jiān      yān          jīu     róng      shuò       tuò 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zhuāng         zhuó       tiē         bàng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03760" y="2133720"/>
            <a:ext cx="89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唧唧   机杼  军帖     可汗      鞍鞯    辔头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21080" y="342900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鸣溅溅   燕山 鸣啾啾 戎机     朔气   金柝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178280" y="5149800"/>
            <a:ext cx="70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红妆        著       帖花黄   傍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42680" y="304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请读准字音噢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——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6" name="Picture 7" descr="黄色笑面"/>
          <p:cNvPicPr/>
          <p:nvPr/>
        </p:nvPicPr>
        <p:blipFill>
          <a:blip r:embed="rId2"/>
          <a:stretch/>
        </p:blipFill>
        <p:spPr>
          <a:xfrm>
            <a:off x="7620120" y="5181480"/>
            <a:ext cx="126828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8284680" y="64450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/>
              </a:rPr>
              <a:t>返回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h095"/>
          <p:cNvPicPr/>
          <p:nvPr/>
        </p:nvPicPr>
        <p:blipFill>
          <a:blip r:embed="rId1"/>
          <a:stretch/>
        </p:blipFill>
        <p:spPr>
          <a:xfrm>
            <a:off x="0" y="-190440"/>
            <a:ext cx="13792320" cy="7048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02600" y="-85680"/>
            <a:ext cx="45698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唧唧复唧唧，木兰当户织。不闻机杼声，惟闻女叹息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问女何所思，问女何所忆。女亦无所思，女亦无所忆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昨夜见军帖，可汗大点兵，军书十二卷，卷卷有爷名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阿爷无大儿，木兰无长兄，愿为市鞍马，从此替爷征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东市买骏马，西市买鞍鞯，南市买辔头，北市买长鞭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旦辞爷娘去，暮宿黄河边，不闻爷娘唤女声，但闻黄河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流水鸣溅溅。旦辞黄河去，暮至黑山头，不闻爷娘唤女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声，但闻燕山胡骑鸣啾啾。万里赴戎机，关山度若飞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朔气传金柝，寒光照铁衣。将军百战死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壮士十年归。归来见天子，天子坐明堂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策勋十二转，赏赐百千强。可汗问所欲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木兰不用尚书郎；愿驰千里足，送儿还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故乡。爷娘闻女来，出郭相扶将；阿姊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闻妹来，当户理红妆；小弟闻姊来，磨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刀霍霍向猪羊。开我东阁门，坐我西阁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床，脱我战时袍，著我旧时裳，当窗理云鬓，对镜帖花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黄。出门看火伴， 火伴皆惊忙：同行十二年，不知木兰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是女郎。雄兔脚扑朔，雌兔眼迷离，双兔傍地走，安能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辨我是雄雌？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071920" y="63388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/>
              </a:rPr>
              <a:t>返回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71720" y="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注意字词句意思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-1019160" y="762120"/>
            <a:ext cx="1212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当户   惟   可汗    市   但   朔气   金柝   铁衣   明堂 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策勋   强   不用    郭   著   帖花黄    扑朔  迷离   安能        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74080" y="1905120"/>
            <a:ext cx="274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万里赴戎机，关山度若飞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朔气传金柝，寒光照铁衣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将军百战死，壮士二年归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184200" y="4495680"/>
            <a:ext cx="661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（互文）“将军壮士百战死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将军壮士十年归”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693040" y="182880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不远万里，奔赴战场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过关越山，飞速而行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193720" y="297180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北方寒气传送着打更的声音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白色的月光与雪光交织着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映照着明晃晃的铠甲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874080" y="5638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当窗理云鬓，对镜帖花黄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853600" y="5514840"/>
            <a:ext cx="24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当窗对镜理云鬓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当窗对镜帖花黄。”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23480" y="64008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返回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93400" y="64008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朗读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木兰2"/>
          <p:cNvPicPr/>
          <p:nvPr/>
        </p:nvPicPr>
        <p:blipFill>
          <a:blip r:embed="rId2"/>
          <a:stretch/>
        </p:blipFill>
        <p:spPr>
          <a:xfrm>
            <a:off x="3124080" y="0"/>
            <a:ext cx="6018480" cy="6953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253880" y="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请概括本诗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主要情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977040" y="1447920"/>
            <a:ext cx="14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代父从军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踏上征途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053360" y="2666880"/>
            <a:ext cx="14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奔赴前线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十年征战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129680" y="4038480"/>
            <a:ext cx="14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还朝辞官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亲人团聚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129680" y="5410080"/>
            <a:ext cx="14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比喻赞美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讴歌英雄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78" name="Picture 8" descr="转圈黄"/>
          <p:cNvPicPr/>
          <p:nvPr/>
        </p:nvPicPr>
        <p:blipFill>
          <a:blip r:embed="rId3"/>
          <a:stretch/>
        </p:blipFill>
        <p:spPr>
          <a:xfrm>
            <a:off x="228600" y="304920"/>
            <a:ext cx="53352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101520" y="144792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一、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9000" y="2666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二、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79000" y="41148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三、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47240" y="54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四、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8361000" y="64450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60093"/>
                </a:solidFill>
                <a:uFillTx/>
                <a:latin typeface="Times New Roman"/>
                <a:ea typeface="隶书"/>
                <a:hlinkClick r:id="rId4"/>
              </a:rPr>
              <a:t>返回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木兰纺织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261080" y="2791080"/>
            <a:ext cx="115524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唧唧复唧唧，木兰当户织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不闻机杼声，惟闻女叹息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432800" y="518148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勤劳孝顺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5920" y="2761200"/>
            <a:ext cx="127764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昨夜见军帖，可汗大点兵。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军书十二卷，卷卷有爷名。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81800" y="586728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军情紧急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89" name="Picture 4" descr="边关大战"/>
          <p:cNvPicPr/>
          <p:nvPr/>
        </p:nvPicPr>
        <p:blipFill>
          <a:blip r:embed="rId1"/>
          <a:stretch/>
        </p:blipFill>
        <p:spPr>
          <a:xfrm>
            <a:off x="2209680" y="0"/>
            <a:ext cx="6932880" cy="4419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可汗征兵"/>
          <p:cNvPicPr/>
          <p:nvPr/>
        </p:nvPicPr>
        <p:blipFill>
          <a:blip r:embed="rId2"/>
          <a:stretch/>
        </p:blipFill>
        <p:spPr>
          <a:xfrm>
            <a:off x="2209680" y="3429000"/>
            <a:ext cx="6932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三姐弟"/>
          <p:cNvPicPr/>
          <p:nvPr/>
        </p:nvPicPr>
        <p:blipFill>
          <a:blip r:embed="rId1"/>
          <a:stretch/>
        </p:blipFill>
        <p:spPr>
          <a:xfrm>
            <a:off x="0" y="0"/>
            <a:ext cx="640080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7001280" y="228600"/>
            <a:ext cx="164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阿爷无大儿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木兰无长兄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愿为市鞍马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从此替爷征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887520" y="3809880"/>
            <a:ext cx="166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愿”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勇敢坚毅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忠孝两全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94" name="Picture 4" descr="木兰乔装"/>
          <p:cNvPicPr/>
          <p:nvPr/>
        </p:nvPicPr>
        <p:blipFill>
          <a:blip r:embed="rId2"/>
          <a:stretch/>
        </p:blipFill>
        <p:spPr>
          <a:xfrm>
            <a:off x="1440" y="3429000"/>
            <a:ext cx="6323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21:27:1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1:36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