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EA0-348E-4A83-808C-3F91C54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F2F-4064-4C0C-91DB-3F7D880E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9F5-AD1E-4AD4-8C50-2B0BC83E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EF5-27C7-40C2-AE0E-CE75D239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5CC-DF3C-4920-96BE-FA22EBE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FAB-0279-453F-99AA-1632D26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471-6087-4F42-ADD2-6CBB28C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C2C-93D8-4863-BFD9-F576D3B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908-3E8C-45F6-9F71-F885332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CA-5981-4D19-8452-900125B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502-DD41-48AC-B9A9-133EBA0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647-B626-4FAD-AF7A-97C59AC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C11-3CFD-47B7-A21E-5FE403A2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图片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5" descr=""/>
          <p:cNvPicPr/>
          <p:nvPr/>
        </p:nvPicPr>
        <p:blipFill>
          <a:blip r:embed="rId2"/>
          <a:stretch/>
        </p:blipFill>
        <p:spPr>
          <a:xfrm>
            <a:off x="444600" y="762120"/>
            <a:ext cx="8132760" cy="324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48436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图片这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4343400"/>
            <a:ext cx="92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莫西奥图尼亚大瀑布位于南部非洲赞比西河中游，跨赞比亚、津巴布韦国界，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米，宽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 8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比我国著名的黄果树瀑布，宽了几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，是世界三大瀑布之一。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莫西奥图尼亚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当地语中意为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雷霆翻滚的云雾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图片4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非洲木雕是非洲一种古老的艺术形式。传统非洲人认为人死以后灵魂离开躯体，但仍然在活着的人中间走动。所以非洲人就想出制作面具和木雕的方式，为祖先的灵魂找个去处，避免对活着的后人造成危害。这些作品大都出自于非洲中西部民间艺人之手，那娴熟的刀法，生动的表情刻画，神秘而怪异的造型，使之成为世界各地乐于收藏的艺术品。常见的非洲木雕有面具木雕和动物木雕。由于非洲大多数民族没有文字，所以面具和雕刻又成为传统文化的传播工具，许多非洲古老神话就是木雕一代一代流传下来的。所以这些面具和雕刻又被称之为“非洲式照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347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坦赞铁路是迄今中国最大的援外成套项目之一。该铁路东起坦桑尼亚首都达累斯萨拉姆，西至赞比亚的新卡比里姆博希，全长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 8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里，由中国专家和工程技术人员进行勘测、考察、设计并帮助坦、赞两国政府组织施工。为建设这条铁路，中国政府提供无息贷款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亿元人民币，共发运各种设备材料近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吨，先后派遣工程技术人员近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人次，高峰时期在现场施工的中国员工队伍多达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人，在工程修建及后来技术合作过程中，中方有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为之献出了宝贵生命。坦赞铁路成为把坦赞两国连结在一起的一条主要交通干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ā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00200" y="76212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66688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摊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55320" y="685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02236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8222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720" y="4190760"/>
            <a:ext cx="1676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栩栩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41008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983520" y="192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01028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762120" y="3200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762120" y="3200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970560" y="2995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模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7273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243828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式各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441972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分壮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65372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6842520" y="307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不虚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76212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974880" y="421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人如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5"/>
          <p:cNvSpPr/>
          <p:nvPr/>
        </p:nvSpPr>
        <p:spPr>
          <a:xfrm>
            <a:off x="3032280" y="421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晰可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4937400" y="4290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官端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8222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1219320" y="59436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68580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不释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2895480" y="5715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28600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莫西奥图尼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480060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琳 琅 满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69343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6705720" y="1676520"/>
            <a:ext cx="1037880" cy="772920"/>
            <a:chOff x="6705720" y="1676520"/>
            <a:chExt cx="1037880" cy="772920"/>
          </a:xfrm>
        </p:grpSpPr>
        <p:sp>
          <p:nvSpPr>
            <p:cNvPr id="87" name="Rectangle 37"/>
            <p:cNvSpPr/>
            <p:nvPr/>
          </p:nvSpPr>
          <p:spPr>
            <a:xfrm>
              <a:off x="6922800" y="1928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驮树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"/>
            <p:cNvSpPr/>
            <p:nvPr/>
          </p:nvSpPr>
          <p:spPr>
            <a:xfrm>
              <a:off x="6705720" y="167652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u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51"/>
          <p:cNvSpPr/>
          <p:nvPr/>
        </p:nvSpPr>
        <p:spPr>
          <a:xfrm>
            <a:off x="388620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6858000" y="5562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思新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69343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9"/>
          <p:cNvGrpSpPr/>
          <p:nvPr/>
        </p:nvGrpSpPr>
        <p:grpSpPr>
          <a:xfrm>
            <a:off x="2057400" y="1600200"/>
            <a:ext cx="1066680" cy="977760"/>
            <a:chOff x="2057400" y="1600200"/>
            <a:chExt cx="1066680" cy="977760"/>
          </a:xfrm>
        </p:grpSpPr>
        <p:sp>
          <p:nvSpPr>
            <p:cNvPr id="93" name="Text Box 16"/>
            <p:cNvSpPr/>
            <p:nvPr/>
          </p:nvSpPr>
          <p:spPr>
            <a:xfrm>
              <a:off x="2057400" y="2057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诚 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7"/>
            <p:cNvSpPr/>
            <p:nvPr/>
          </p:nvSpPr>
          <p:spPr>
            <a:xfrm>
              <a:off x="243828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ě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67"/>
          <p:cNvGrpSpPr/>
          <p:nvPr/>
        </p:nvGrpSpPr>
        <p:grpSpPr>
          <a:xfrm>
            <a:off x="6019920" y="304920"/>
            <a:ext cx="1675440" cy="1008360"/>
            <a:chOff x="6019920" y="304920"/>
            <a:chExt cx="1675440" cy="1008360"/>
          </a:xfrm>
        </p:grpSpPr>
        <p:sp>
          <p:nvSpPr>
            <p:cNvPr id="96" name="Text Box 58"/>
            <p:cNvSpPr/>
            <p:nvPr/>
          </p:nvSpPr>
          <p:spPr>
            <a:xfrm>
              <a:off x="6019920" y="792720"/>
              <a:ext cx="12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遗  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6578280" y="304920"/>
              <a:ext cx="11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à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68"/>
          <p:cNvGrpSpPr/>
          <p:nvPr/>
        </p:nvGrpSpPr>
        <p:grpSpPr>
          <a:xfrm>
            <a:off x="7460640" y="380880"/>
            <a:ext cx="997560" cy="849240"/>
            <a:chOff x="7460640" y="380880"/>
            <a:chExt cx="997560" cy="849240"/>
          </a:xfrm>
        </p:grpSpPr>
        <p:sp>
          <p:nvSpPr>
            <p:cNvPr id="99" name="Rectangle 25"/>
            <p:cNvSpPr/>
            <p:nvPr/>
          </p:nvSpPr>
          <p:spPr>
            <a:xfrm>
              <a:off x="7460640" y="70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犹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63"/>
            <p:cNvSpPr/>
            <p:nvPr/>
          </p:nvSpPr>
          <p:spPr>
            <a:xfrm>
              <a:off x="7696080" y="38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4952880" y="1600200"/>
            <a:ext cx="1904760" cy="901440"/>
            <a:chOff x="4952880" y="1600200"/>
            <a:chExt cx="1904760" cy="901440"/>
          </a:xfrm>
        </p:grpSpPr>
        <p:sp>
          <p:nvSpPr>
            <p:cNvPr id="102" name="Text Box 23"/>
            <p:cNvSpPr/>
            <p:nvPr/>
          </p:nvSpPr>
          <p:spPr>
            <a:xfrm>
              <a:off x="5072040" y="198108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掏东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5"/>
            <p:cNvSpPr/>
            <p:nvPr/>
          </p:nvSpPr>
          <p:spPr>
            <a:xfrm>
              <a:off x="4952880" y="16002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ā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70"/>
          <p:cNvGrpSpPr/>
          <p:nvPr/>
        </p:nvGrpSpPr>
        <p:grpSpPr>
          <a:xfrm>
            <a:off x="3505320" y="1676520"/>
            <a:ext cx="1010880" cy="850680"/>
            <a:chOff x="3505320" y="1676520"/>
            <a:chExt cx="1010880" cy="850680"/>
          </a:xfrm>
        </p:grpSpPr>
        <p:sp>
          <p:nvSpPr>
            <p:cNvPr id="105" name="Rectangle 19"/>
            <p:cNvSpPr/>
            <p:nvPr/>
          </p:nvSpPr>
          <p:spPr>
            <a:xfrm>
              <a:off x="3722760" y="200664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宾  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6"/>
            <p:cNvSpPr/>
            <p:nvPr/>
          </p:nvSpPr>
          <p:spPr>
            <a:xfrm>
              <a:off x="3505320" y="1676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ī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73"/>
          <p:cNvSpPr/>
          <p:nvPr/>
        </p:nvSpPr>
        <p:spPr>
          <a:xfrm>
            <a:off x="52578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4"/>
          <p:cNvSpPr/>
          <p:nvPr/>
        </p:nvSpPr>
        <p:spPr>
          <a:xfrm>
            <a:off x="13716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背景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0" y="685800"/>
            <a:ext cx="891540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不虚传       游人如织      十分壮观    琳琅满目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式各样       构思新奇       栩栩如生    爱不释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瀑布真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这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景色十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摊点里陈列的木雕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其中象墩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大象雕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我一看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森林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609480" y="1371600"/>
            <a:ext cx="8001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祝同学们学习愉快！</a:t>
            </a:r>
            <a:endParaRPr b="0" lang="en-US" sz="2400" spc="1" strike="noStrike">
              <a:ln w="190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1:37:4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8:3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