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9.png" ContentType="image/png"/>
  <Override PartName="/ppt/media/image8.gif" ContentType="image/gif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7.gif" ContentType="image/gif"/>
  <Override PartName="/ppt/media/image15.png" ContentType="image/png"/>
  <Override PartName="/ppt/media/image5.png" ContentType="image/png"/>
  <Override PartName="/ppt/media/image2.png" ContentType="image/png"/>
  <Override PartName="/ppt/media/image12.png" ContentType="image/png"/>
  <Override PartName="/ppt/media/image1.jpeg" ContentType="image/jpeg"/>
  <Override PartName="/ppt/media/image4.gif" ContentType="image/gif"/>
  <Override PartName="/ppt/media/image3.gif" ContentType="image/gif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23C5-76DD-49ED-A03F-8AD585F38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0D3E-EAB7-47E0-8126-B5E1C67E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180A-2BF3-4E8A-8497-2EF1DA351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5102-D7CC-4D2E-9A1E-9279CA8A4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8F2D-EFFC-418F-873C-D621106E3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52EE-E3E6-4FEF-BC19-8C573CF5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08968-81F3-4E03-B150-9CF43683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926B-B587-4FEC-92D4-88D141BD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EF2D-C5BB-40C2-B247-B36D0CFB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0127-7BB4-47CF-B041-67CB7516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3D0A-332B-4ABC-BD2F-A9D4187F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9F86-C50D-4EB6-B7F9-7B01E0BF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26CF-C1A6-4DB9-86D2-9D7D552C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B7CF-6F99-483C-A669-67F8C9AD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6C88-6B6F-4A38-A4C9-5432D805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C5DA-833E-464B-B762-940BF5C00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9C10-A60F-4DAC-869C-2C70BCECE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0381-3969-4BDC-822B-AC532FB0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3F9D-0609-42A5-AC6A-6E870940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7E02-B2F2-418A-B3C1-B715F888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5F74-1585-4160-9742-5BD61476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49CB-A2F4-4206-A8A0-01DDDCEA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F11D-FDCB-4B45-9518-D0825457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CC2D-734F-41F0-BEEC-F7949F3A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253E-8BD9-4A72-B07A-FBAC22C1A732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0443-0FFD-4629-BB2E-870636F97CE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5BB6-6066-481C-92B4-57495BD28CE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7516-F5C7-4C69-8FAB-AA9BD6546F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3"/>
          <p:cNvSpPr/>
          <p:nvPr/>
        </p:nvSpPr>
        <p:spPr>
          <a:xfrm>
            <a:off x="1750320" y="414324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妈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4"/>
          <p:cNvSpPr/>
          <p:nvPr/>
        </p:nvSpPr>
        <p:spPr>
          <a:xfrm>
            <a:off x="4854600" y="5000760"/>
            <a:ext cx="4360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爱您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408240" y="260280"/>
            <a:ext cx="278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Cooper Black"/>
                <a:ea typeface="方正舒体"/>
              </a:rPr>
              <a:t>201</a:t>
            </a:r>
            <a:r>
              <a:rPr b="1" lang="zh-CN" sz="4400" spc="-1" strike="noStrike">
                <a:solidFill>
                  <a:srgbClr val="f8f8f8"/>
                </a:solidFill>
                <a:latin typeface="Cooper Black"/>
                <a:ea typeface="方正舒体"/>
              </a:rPr>
              <a:t>5</a:t>
            </a:r>
            <a:r>
              <a:rPr b="1" lang="en-US" sz="4400" spc="-1" strike="noStrike">
                <a:solidFill>
                  <a:srgbClr val="f8f8f8"/>
                </a:solidFill>
                <a:latin typeface="Cooper Black"/>
                <a:ea typeface="方正舒体"/>
              </a:rPr>
              <a:t>-5-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妈妈我爱你伴奏.wav" descr=""/>
          <p:cNvPicPr/>
          <p:nvPr/>
        </p:nvPicPr>
        <p:blipFill>
          <a:blip r:embed="rId2"/>
          <a:stretch/>
        </p:blipFill>
        <p:spPr>
          <a:xfrm>
            <a:off x="-1063800" y="4594320"/>
            <a:ext cx="2435400" cy="24382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2357280" y="1285920"/>
            <a:ext cx="650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0c0"/>
                </a:solidFill>
                <a:latin typeface="华文行楷"/>
                <a:ea typeface="华文行楷"/>
              </a:rPr>
              <a:t>五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华文行楷"/>
                <a:ea typeface="华文行楷"/>
              </a:rPr>
              <a:t>          </a:t>
            </a:r>
            <a:r>
              <a:rPr b="0" lang="zh-CN" sz="4800" spc="-1" strike="noStrike">
                <a:solidFill>
                  <a:srgbClr val="0070c0"/>
                </a:solidFill>
                <a:latin typeface="华文行楷"/>
                <a:ea typeface="华文行楷"/>
              </a:rPr>
              <a:t>春花烂漫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6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642960" y="571680"/>
            <a:ext cx="278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0c0"/>
                </a:solidFill>
                <a:latin typeface="华文行楷"/>
                <a:ea typeface="华文行楷"/>
              </a:rPr>
              <a:t>我采一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3"/>
          <p:cNvSpPr/>
          <p:nvPr/>
        </p:nvSpPr>
        <p:spPr>
          <a:xfrm>
            <a:off x="3949200" y="1285920"/>
            <a:ext cx="304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0c0"/>
                </a:solidFill>
                <a:latin typeface="华文行楷"/>
                <a:ea typeface="华文行楷"/>
              </a:rPr>
              <a:t> </a:t>
            </a:r>
            <a:r>
              <a:rPr b="0" lang="zh-CN" sz="4800" spc="-1" strike="noStrike">
                <a:solidFill>
                  <a:srgbClr val="0070c0"/>
                </a:solidFill>
                <a:latin typeface="华文行楷"/>
                <a:ea typeface="华文行楷"/>
              </a:rPr>
              <a:t>最芬芳的康乃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8" descr=""/>
          <p:cNvPicPr/>
          <p:nvPr/>
        </p:nvPicPr>
        <p:blipFill>
          <a:blip r:embed="rId2"/>
          <a:stretch/>
        </p:blipFill>
        <p:spPr>
          <a:xfrm>
            <a:off x="7812000" y="2552760"/>
            <a:ext cx="2610000" cy="430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6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601"/>
                            </p:stCondLst>
                            <p:childTnLst>
                              <p:par>
                                <p:cTn id="4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11111E-006 L -0.50486 0.00278 E">
                                      <p:cBhvr>
                                        <p:cTn id="46" dur="3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601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6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1801"/>
                            </p:stCondLst>
                            <p:childTnLst>
                              <p:par>
                                <p:cTn id="52" nodeType="after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50486 0.00278 L -1.18212 0.00278 E">
                                      <p:cBhvr>
                                        <p:cTn id="53" dur="3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6" descr=""/>
          <p:cNvPicPr/>
          <p:nvPr/>
        </p:nvPicPr>
        <p:blipFill>
          <a:blip r:embed="rId2"/>
          <a:srcRect l="0" t="5747" r="0" b="0"/>
          <a:stretch/>
        </p:blipFill>
        <p:spPr>
          <a:xfrm>
            <a:off x="6364440" y="1550880"/>
            <a:ext cx="2779560" cy="5307120"/>
          </a:xfrm>
          <a:prstGeom prst="rect">
            <a:avLst/>
          </a:prstGeom>
          <a:ln w="0">
            <a:noFill/>
          </a:ln>
        </p:spPr>
      </p:pic>
      <p:sp>
        <p:nvSpPr>
          <p:cNvPr id="91" name="TextBox 1"/>
          <p:cNvSpPr/>
          <p:nvPr/>
        </p:nvSpPr>
        <p:spPr>
          <a:xfrm>
            <a:off x="785880" y="1000080"/>
            <a:ext cx="306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0c0"/>
                </a:solidFill>
                <a:latin typeface="华文行楷"/>
                <a:ea typeface="华文行楷"/>
              </a:rPr>
              <a:t>别在母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4" descr=""/>
          <p:cNvPicPr/>
          <p:nvPr/>
        </p:nvPicPr>
        <p:blipFill>
          <a:blip r:embed="rId3"/>
          <a:stretch/>
        </p:blipFill>
        <p:spPr>
          <a:xfrm>
            <a:off x="4460760" y="5589720"/>
            <a:ext cx="806400" cy="1657080"/>
          </a:xfrm>
          <a:prstGeom prst="rect">
            <a:avLst/>
          </a:prstGeom>
          <a:ln w="0">
            <a:noFill/>
          </a:ln>
        </p:spPr>
      </p:pic>
      <p:sp>
        <p:nvSpPr>
          <p:cNvPr id="93" name="矩形 5"/>
          <p:cNvSpPr/>
          <p:nvPr/>
        </p:nvSpPr>
        <p:spPr>
          <a:xfrm>
            <a:off x="3090960" y="207180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那淡雅的衣襟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7" descr=""/>
          <p:cNvPicPr/>
          <p:nvPr/>
        </p:nvPicPr>
        <p:blipFill>
          <a:blip r:embed="rId4"/>
          <a:stretch/>
        </p:blipFill>
        <p:spPr>
          <a:xfrm rot="21359400">
            <a:off x="9302760" y="299520"/>
            <a:ext cx="669960" cy="654120"/>
          </a:xfrm>
          <a:prstGeom prst="rect">
            <a:avLst/>
          </a:prstGeom>
          <a:ln w="0">
            <a:noFill/>
          </a:ln>
        </p:spPr>
      </p:pic>
      <p:pic>
        <p:nvPicPr>
          <p:cNvPr id="95" name="图片 8" descr=""/>
          <p:cNvPicPr/>
          <p:nvPr/>
        </p:nvPicPr>
        <p:blipFill>
          <a:blip r:embed="rId5"/>
          <a:stretch/>
        </p:blipFill>
        <p:spPr>
          <a:xfrm flipH="1" rot="1652400">
            <a:off x="-919080" y="2127600"/>
            <a:ext cx="1044360" cy="77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6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8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8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6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14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1401"/>
                            </p:stCondLst>
                            <p:childTnLst>
                              <p:par>
                                <p:cTn id="73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93 L 0.36181 -0.13148 E">
                                      <p:cBhvr>
                                        <p:cTn id="74" dur="3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4401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4402"/>
                            </p:stCondLst>
                            <p:childTnLst>
                              <p:par>
                                <p:cTn id="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57 4.81481E-006 C -0.0743 -0.02454 -0.12951 -0.04908 -0.17691 -0.04977 C -0.22413 -0.05047 -0.26701 -0.02755 -0.30312 -0.00463 C -0.33941 0.01828 -0.36198 0.08842 -0.39427 0.08773 C -0.42621 0.08703 -0.45416 -0.00116 -0.49496 -0.0095 C -0.53559 -0.01783 -0.58541 0.00879 -0.63906 0.03796 C -0.69288 0.06712 -0.80208 0.11481 -0.81684 0.1662 C -0.83142 0.21759 -0.79184 0.31412 -0.72795 0.34675 C -0.66406 0.37939 -0.43663 0.32939 -0.43368 0.36087 C -0.43055 0.39236 -0.66389 0.50532 -0.71007 0.53449 E">
                                      <p:cBhvr>
                                        <p:cTn id="82" dur="5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2.77778E-007 -2.59259E-006 C 0.01181 -0.02384 0.01511 -0.02013 0.03108 -0.03217 C 0.03473 -0.03495 0.03785 -0.03842 0.04132 -0.04143 C 0.04427 -0.04421 0.05174 -0.04606 0.05174 -0.04606 C 0.06042 -0.04537 0.0691 -0.0456 0.07761 -0.04375 C 0.08143 -0.04282 0.08542 -0.03449 0.08802 -0.03217 C 0.09341 -0.02731 0.10087 -0.02476 0.10695 -0.02314 C 0.11737 -0.02476 0.12796 -0.02453 0.13802 -0.02777 C 0.14462 -0.02986 0.14688 -0.05115 0.15174 -0.05532 C 0.1599 -0.0625 0.16441 -0.07037 0.17414 -0.07361 C 0.18091 -0.06898 0.1849 -0.0625 0.19132 -0.05763 C 0.19653 -0.0537 0.19896 -0.05347 0.20348 -0.04838 C 0.21216 -0.03865 0.20469 -0.04328 0.21389 -0.03912 C 0.22014 -0.03981 0.22674 -0.03888 0.23282 -0.04143 C 0.23473 -0.04236 0.23473 -0.04652 0.23629 -0.04838 C 0.2382 -0.05046 0.2408 -0.05138 0.24306 -0.05301 C 0.2441 -0.05532 0.24514 -0.05787 0.24653 -0.05995 C 0.24862 -0.06319 0.25174 -0.06551 0.25348 -0.06898 C 0.25521 -0.07245 0.25556 -0.07685 0.25695 -0.08055 C 0.26355 -0.09791 0.28438 -0.12314 0.29827 -0.1287 C 0.30868 -0.12801 0.3191 -0.12847 0.32934 -0.12662 C 0.34341 -0.1243 0.35174 -0.10648 0.36389 -0.10115 C 0.37483 -0.09027 0.37205 -0.08888 0.38629 -0.09213 C 0.39584 -0.09652 0.40434 -0.10393 0.41389 -0.1081 C 0.42084 -0.1074 0.42796 -0.10833 0.43455 -0.10578 C 0.44584 -0.10162 0.45139 -0.08379 0.46042 -0.07592 C 0.46459 -0.05393 0.45834 -0.08055 0.46893 -0.05763 C 0.47014 -0.05486 0.46841 -0.04907 0.47066 -0.04838 C 0.48195 -0.0449 0.49375 -0.04676 0.50521 -0.04606 C 0.5224 -0.02314 0.49757 0.00649 0.52587 0.01598 C 0.54323 0.03149 0.53542 0.06135 0.53802 0.08727 C 0.53924 0.09931 0.55191 0.10718 0.55695 0.11713 C 0.55643 0.12246 0.55712 0.12848 0.55521 0.13334 C 0.554 0.13681 0.55035 0.13727 0.54827 0.14005 C 0.54271 0.14723 0.54011 0.15787 0.53455 0.16551 C 0.53577 0.17477 0.53629 0.18403 0.53802 0.19306 C 0.53959 0.2007 0.54775 0.20625 0.55174 0.21135 C 0.54914 0.22524 0.54809 0.22176 0.53802 0.22524 C 0.52136 0.24005 0.54289 0.24769 0.55 0.25278 C 0.55712 0.25787 0.56355 0.26436 0.57066 0.26899 C 0.59618 0.28519 0.62257 0.29607 0.65 0.30348 C 0.66198 0.31389 0.65643 0.31065 0.66546 0.31482 C 0.66563 0.31505 0.67414 0.32732 0.67587 0.32639 C 0.67865 0.325 0.67952 0.31343 0.68108 0.31019 C 0.68299 0.30602 0.68577 0.30255 0.68802 0.29885 C 0.68855 0.29653 0.68785 0.29213 0.68959 0.2919 C 0.69827 0.29051 0.70209 0.29537 0.70521 0.30348 C 0.70608 0.30556 0.70573 0.30857 0.70695 0.31019 C 0.70782 0.31135 0.70921 0.31019 0.71042 0.31019 E">
                                      <p:cBhvr>
                                        <p:cTn id="84" dur="5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1"/>
          <p:cNvSpPr/>
          <p:nvPr/>
        </p:nvSpPr>
        <p:spPr>
          <a:xfrm rot="20763600">
            <a:off x="1054440" y="966960"/>
            <a:ext cx="4635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妈妈，我感谢您赐给了我生命，是您教会了我做人的道理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无论现在、将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永远爱您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2" descr=""/>
          <p:cNvPicPr/>
          <p:nvPr/>
        </p:nvPicPr>
        <p:blipFill>
          <a:blip r:embed="rId2"/>
          <a:stretch/>
        </p:blipFill>
        <p:spPr>
          <a:xfrm>
            <a:off x="8317080" y="2617920"/>
            <a:ext cx="3052440" cy="4240080"/>
          </a:xfrm>
          <a:prstGeom prst="rect">
            <a:avLst/>
          </a:prstGeom>
          <a:ln w="0">
            <a:noFill/>
          </a:ln>
        </p:spPr>
      </p:pic>
      <p:pic>
        <p:nvPicPr>
          <p:cNvPr id="98" name="图片 3" descr=""/>
          <p:cNvPicPr/>
          <p:nvPr/>
        </p:nvPicPr>
        <p:blipFill>
          <a:blip r:embed="rId3"/>
          <a:stretch/>
        </p:blipFill>
        <p:spPr>
          <a:xfrm>
            <a:off x="2428920" y="2617920"/>
            <a:ext cx="3054240" cy="424008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cover dir="lu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"/>
                            </p:stCondLst>
                            <p:childTnLst>
                              <p:par>
                                <p:cTn id="9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44444E-006 L -0.53941 -0.00555 E">
                                      <p:cBhvr>
                                        <p:cTn id="93" dur="3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1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2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4" descr=""/>
          <p:cNvPicPr/>
          <p:nvPr/>
        </p:nvPicPr>
        <p:blipFill>
          <a:blip r:embed="rId2"/>
          <a:stretch/>
        </p:blipFill>
        <p:spPr>
          <a:xfrm>
            <a:off x="285840" y="303120"/>
            <a:ext cx="6500880" cy="466272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5" descr=""/>
          <p:cNvPicPr/>
          <p:nvPr/>
        </p:nvPicPr>
        <p:blipFill>
          <a:blip r:embed="rId3"/>
          <a:srcRect l="0" t="5564" r="0" b="0"/>
          <a:stretch/>
        </p:blipFill>
        <p:spPr>
          <a:xfrm>
            <a:off x="6429240" y="1530360"/>
            <a:ext cx="2714760" cy="5327640"/>
          </a:xfrm>
          <a:prstGeom prst="rect">
            <a:avLst/>
          </a:prstGeom>
          <a:ln w="0">
            <a:noFill/>
          </a:ln>
        </p:spPr>
      </p:pic>
      <p:sp>
        <p:nvSpPr>
          <p:cNvPr id="101" name="矩形 1"/>
          <p:cNvSpPr/>
          <p:nvPr/>
        </p:nvSpPr>
        <p:spPr>
          <a:xfrm>
            <a:off x="500040" y="571680"/>
            <a:ext cx="557208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妈妈，没有您就没有我，就没有我数十寒暑的快乐，也没有我春夏秋冬的欢笑，谢谢您给了我生命中美好的一切与成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亲爱的妈妈，我爱您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图片 3" descr=""/>
          <p:cNvPicPr/>
          <p:nvPr/>
        </p:nvPicPr>
        <p:blipFill>
          <a:blip r:embed="rId4"/>
          <a:stretch/>
        </p:blipFill>
        <p:spPr>
          <a:xfrm rot="19984800">
            <a:off x="7007040" y="4885920"/>
            <a:ext cx="1495080" cy="1924200"/>
          </a:xfrm>
          <a:prstGeom prst="rect">
            <a:avLst/>
          </a:prstGeom>
          <a:ln w="0">
            <a:noFill/>
          </a:ln>
        </p:spPr>
      </p:pic>
    </p:spTree>
  </p:cSld>
  <p:transition spd="med" advTm="26000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3" descr=""/>
          <p:cNvPicPr/>
          <p:nvPr/>
        </p:nvPicPr>
        <p:blipFill>
          <a:blip r:embed="rId2"/>
          <a:stretch/>
        </p:blipFill>
        <p:spPr>
          <a:xfrm>
            <a:off x="2428920" y="84240"/>
            <a:ext cx="6500880" cy="4987800"/>
          </a:xfrm>
          <a:prstGeom prst="rect">
            <a:avLst/>
          </a:prstGeom>
          <a:ln w="0">
            <a:noFill/>
          </a:ln>
        </p:spPr>
      </p:pic>
      <p:sp>
        <p:nvSpPr>
          <p:cNvPr id="104" name="矩形 1"/>
          <p:cNvSpPr/>
          <p:nvPr/>
        </p:nvSpPr>
        <p:spPr>
          <a:xfrm>
            <a:off x="3143160" y="714240"/>
            <a:ext cx="5715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妈妈，您在我眼中永远是最美的，每一个微笑都让我幸福。太多的语言也无法向您表达我对您深深的爱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2"/>
          <p:cNvSpPr/>
          <p:nvPr/>
        </p:nvSpPr>
        <p:spPr>
          <a:xfrm>
            <a:off x="3143160" y="2994120"/>
            <a:ext cx="542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爱您，亲爱的妈妈！祝您母亲节快乐，永远年轻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图片 4" descr=""/>
          <p:cNvPicPr/>
          <p:nvPr/>
        </p:nvPicPr>
        <p:blipFill>
          <a:blip r:embed="rId3"/>
          <a:stretch/>
        </p:blipFill>
        <p:spPr>
          <a:xfrm>
            <a:off x="5076720" y="4214880"/>
            <a:ext cx="905040" cy="167616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6" descr=""/>
          <p:cNvPicPr/>
          <p:nvPr/>
        </p:nvPicPr>
        <p:blipFill>
          <a:blip r:embed="rId4"/>
          <a:stretch/>
        </p:blipFill>
        <p:spPr>
          <a:xfrm>
            <a:off x="3643200" y="3929040"/>
            <a:ext cx="1343160" cy="2762280"/>
          </a:xfrm>
          <a:prstGeom prst="rect">
            <a:avLst/>
          </a:prstGeom>
          <a:ln w="0">
            <a:noFill/>
          </a:ln>
        </p:spPr>
      </p:pic>
      <p:sp>
        <p:nvSpPr>
          <p:cNvPr id="108" name="矩形 7"/>
          <p:cNvSpPr/>
          <p:nvPr/>
        </p:nvSpPr>
        <p:spPr>
          <a:xfrm>
            <a:off x="5000760" y="4071960"/>
            <a:ext cx="3286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爱您的宝贝女儿：晨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   </a:t>
            </a:r>
            <a:r>
              <a:rPr b="1" lang="en-US" sz="18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2011</a:t>
            </a:r>
            <a:r>
              <a:rPr b="1" lang="zh-CN" sz="18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年</a:t>
            </a:r>
            <a:r>
              <a:rPr b="1" lang="en-US" sz="18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5</a:t>
            </a:r>
            <a:r>
              <a:rPr b="1" lang="zh-CN" sz="18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月</a:t>
            </a:r>
            <a:r>
              <a:rPr b="1" lang="en-US" sz="18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8</a:t>
            </a:r>
            <a:r>
              <a:rPr b="1" lang="zh-CN" sz="18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8">
            <a:hlinkClick r:id="" action="ppaction://hlinkshowjump?jump=firstslide"/>
          </p:cNvPr>
          <p:cNvSpPr/>
          <p:nvPr/>
        </p:nvSpPr>
        <p:spPr>
          <a:xfrm>
            <a:off x="3593160" y="5934240"/>
            <a:ext cx="248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rush Script MT"/>
                <a:ea typeface="楷体_GB2312"/>
              </a:rPr>
              <a:t>Repl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9" descr=""/>
          <p:cNvPicPr/>
          <p:nvPr/>
        </p:nvPicPr>
        <p:blipFill>
          <a:blip r:embed="rId5"/>
          <a:srcRect l="0" t="5564" r="0" b="0"/>
          <a:stretch/>
        </p:blipFill>
        <p:spPr>
          <a:xfrm>
            <a:off x="6429240" y="1530360"/>
            <a:ext cx="2714760" cy="5327640"/>
          </a:xfrm>
          <a:prstGeom prst="rect">
            <a:avLst/>
          </a:prstGeom>
          <a:ln w="0">
            <a:noFill/>
          </a:ln>
        </p:spPr>
      </p:pic>
    </p:spTree>
  </p:cSld>
  <p:transition spd="med" advTm="32000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94798E-006 L -0.7059 0.00393 E">
                                      <p:cBhvr>
                                        <p:cTn id="135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8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9000"/>
                            </p:stCondLst>
                            <p:childTnLst>
                              <p:par>
                                <p:cTn id="1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5723E-006 C 0.00087 -0.00069 0.00278 -0.00046 0.00399 -0.00208 C 0.00521 -0.0037 0.00434 -0.00716 0.00573 -0.00855 C 0.00764 -0.01109 0.01441 -0.01271 0.01441 -0.01248 C 0.01892 -0.02266 0.01528 -0.01826 0.02587 -0.02335 C 0.02743 -0.02404 0.03003 -0.02543 0.03003 -0.0252 C 0.04271 -0.02242 0.03507 -0.0252 0.0434 -0.02104 C 0.04583 -0.01965 0.04913 -0.01826 0.05191 -0.01687 C 0.05312 -0.01618 0.05642 -0.01479 0.05642 -0.01456 C 0.05746 -0.01063 0.05851 -0.00624 0.0592 -0.00208 C 0.06042 0.0037 0.07274 0.00555 0.075 0.00625 C 0.08646 0.00463 0.08993 0.00578 0.09844 -0.00208 C 0.10208 -0.00994 0.10677 -0.01595 0.11285 -0.01896 C 0.11476 -0.01872 0.12743 -0.01942 0.13038 -0.01271 C 0.13177 -0.00901 0.13038 -0.00138 0.13316 -3.75723E-006 C 0.13611 0.00139 0.14201 0.00417 0.14201 0.0044 C 0.19097 0.00139 0.16684 0.00602 0.18854 -0.00416 C 0.19149 -0.01133 0.19531 -0.01318 0.19722 -0.02104 C 0.23403 -0.01734 0.20625 -0.02497 0.22326 -0.00855 C 0.22639 0.00486 0.23299 -0.00069 0.24201 -0.00208 C 0.24462 -0.01341 0.24965 -0.02104 0.25642 -0.02751 C 0.25764 -0.02705 0.2651 -0.02474 0.26684 -0.02335 C 0.26805 -0.02219 0.26858 -0.02011 0.26979 -0.01896 C 0.27344 -0.01572 0.27847 -0.01271 0.28299 -0.01063 C 0.28594 -0.00555 0.29427 0.00208 0.29427 0.00232 C 0.30555 -0.00323 0.29861 -0.00346 0.30469 -0.01687 C 0.30573 -0.01896 0.30677 -0.02104 0.30729 -0.02335 C 0.31111 -0.03491 0.30903 -0.03815 0.31753 -0.04231 C 0.32726 -0.03792 0.31788 -0.04416 0.32326 -0.03375 C 0.32448 -0.03167 0.32639 -0.03098 0.32795 -0.02959 C 0.33125 -0.01456 0.32917 -0.02057 0.33368 -0.01063 C 0.33472 -0.00647 0.3368 0.00208 0.3368 0.00232 E">
                                      <p:cBhvr>
                                        <p:cTn id="157" dur="3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6300"/>
                            </p:stCondLst>
                            <p:childTnLst>
                              <p:par>
                                <p:cTn id="162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73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1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0T05:42:00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48:16Z</dcterms:modified>
  <cp:revision>29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