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70D-80CF-4C45-91A1-F891ADFC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2D5-CF92-4B97-A976-FC0B7F6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4A9-47DF-4952-94A0-FCF21CD1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635-B6C8-430C-B783-526A4B76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6DC-7DCD-43D5-9F51-B4E53B9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C99-2F55-45C4-A6F6-0778C31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4CF-6242-428D-88BF-7DE579E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B5C-4707-4053-AB6B-C7870258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937-B5A0-4374-B562-7983846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4F9-0FCC-44E7-9667-277AA81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54F-1F8B-4A09-AA0E-AD412381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A0D-2009-415D-AEB6-19A7FB53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AE04-175F-41C0-9451-AF853138C1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"/>
          <p:cNvPicPr/>
          <p:nvPr/>
        </p:nvPicPr>
        <p:blipFill>
          <a:blip r:embed="rId1"/>
          <a:stretch/>
        </p:blipFill>
        <p:spPr>
          <a:xfrm>
            <a:off x="12600" y="3240"/>
            <a:ext cx="1228104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46520" y="2028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母亲节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2"/>
          <p:cNvPicPr/>
          <p:nvPr/>
        </p:nvPicPr>
        <p:blipFill>
          <a:blip r:embed="rId1"/>
          <a:stretch/>
        </p:blipFill>
        <p:spPr>
          <a:xfrm>
            <a:off x="-1440" y="-22320"/>
            <a:ext cx="121838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3"/>
          <p:cNvPicPr/>
          <p:nvPr/>
        </p:nvPicPr>
        <p:blipFill>
          <a:blip r:embed="rId1"/>
          <a:stretch/>
        </p:blipFill>
        <p:spPr>
          <a:xfrm>
            <a:off x="0" y="9360"/>
            <a:ext cx="121712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4"/>
          <p:cNvPicPr/>
          <p:nvPr/>
        </p:nvPicPr>
        <p:blipFill>
          <a:blip r:embed="rId1"/>
          <a:stretch/>
        </p:blipFill>
        <p:spPr>
          <a:xfrm>
            <a:off x="22320" y="-1440"/>
            <a:ext cx="12202920" cy="6883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780840" y="3650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08160" y="2013120"/>
            <a:ext cx="99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15"/>
          <p:cNvPicPr/>
          <p:nvPr/>
        </p:nvPicPr>
        <p:blipFill>
          <a:blip r:embed="rId1"/>
          <a:stretch/>
        </p:blipFill>
        <p:spPr>
          <a:xfrm>
            <a:off x="0" y="1440"/>
            <a:ext cx="12185640" cy="687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06920" y="258912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0:4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