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CAE-4A08-4872-ABFA-EA51FEB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8A9-A438-47F9-A79E-BBA27E9B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818-79C1-4225-9B06-C6D59D13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418-7011-45CE-8E5B-3BC6BF2A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DF4-D34C-4728-BC7A-2F360478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2CB-36EB-49C6-996C-2B031DDB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9CC3-87AD-4AC0-8F0A-DB66ACDC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D2B-715E-44D9-A7F4-57BFA05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6E4D-F2FA-46E2-970D-9C15103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0217-EED1-4D82-9579-F1C0046F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0FB-2E98-4A1C-AD9E-DE1EF48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10A-D00E-4D66-B56E-5EF12CFC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C68-6834-4650-9F29-6CC974A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9613-C6D5-4BEC-B7FD-CD1E691C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008-D8BF-41D5-9695-209EFC0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D948-8219-4DD0-84C1-1E99E3A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C66-1ECE-400F-B525-66CFE88E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68F-95FD-4258-AAC4-88BA4466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435-38C6-42D9-810E-0295FA6C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78C-8F43-44B4-8165-4FF30CEB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9C8-FD9F-49C1-9B3C-614D0D08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8A3-4925-4E47-894F-C1D8F5EB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D7C-3753-45F0-8B7B-655A517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9C5-CE3B-4F7A-B5F7-FAF165ED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21E-392C-46E4-9064-687D9C2E1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7620120" y="64771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7283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5428" y="3756"/>
                </a:lnTo>
                <a:lnTo>
                  <a:pt x="5428" y="17844"/>
                </a:lnTo>
                <a:lnTo>
                  <a:pt x="3756" y="1784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8001000" y="6477120"/>
            <a:ext cx="304920" cy="30456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76" y="1350"/>
                </a:lnTo>
                <a:lnTo>
                  <a:pt x="1350" y="135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76" y="20250"/>
                </a:lnTo>
                <a:lnTo>
                  <a:pt x="20276" y="135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6" y="2025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6" h="21600">
                <a:moveTo>
                  <a:pt x="3769" y="10800"/>
                </a:moveTo>
                <a:lnTo>
                  <a:pt x="17857" y="3756"/>
                </a:lnTo>
                <a:lnTo>
                  <a:pt x="17857" y="1784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nextslide"/>
          </p:cNvPr>
          <p:cNvSpPr/>
          <p:nvPr/>
        </p:nvSpPr>
        <p:spPr>
          <a:xfrm>
            <a:off x="8381880" y="6477120"/>
            <a:ext cx="304920" cy="304560"/>
          </a:xfrm>
          <a:custGeom>
            <a:avLst/>
            <a:gdLst>
              <a:gd name="textAreaLeft" fmla="*/ 18720 w 304920"/>
              <a:gd name="textAreaRight" fmla="*/ 286200 w 3049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76" y="1350"/>
                </a:lnTo>
                <a:lnTo>
                  <a:pt x="1350" y="135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76" y="20250"/>
                </a:lnTo>
                <a:lnTo>
                  <a:pt x="20276" y="135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76" y="2025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26" h="21600">
                <a:moveTo>
                  <a:pt x="3769" y="3756"/>
                </a:moveTo>
                <a:lnTo>
                  <a:pt x="17857" y="10800"/>
                </a:lnTo>
                <a:lnTo>
                  <a:pt x="3769" y="1784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lastslide"/>
          </p:cNvPr>
          <p:cNvSpPr/>
          <p:nvPr/>
        </p:nvSpPr>
        <p:spPr>
          <a:xfrm>
            <a:off x="8763120" y="64771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3756" y="17844"/>
                </a:lnTo>
                <a:lnTo>
                  <a:pt x="3756" y="3756"/>
                </a:lnTo>
                <a:close/>
              </a:path>
              <a:path fill="darken" w="21600" h="21600">
                <a:moveTo>
                  <a:pt x="16173" y="3756"/>
                </a:moveTo>
                <a:lnTo>
                  <a:pt x="16173" y="17844"/>
                </a:lnTo>
                <a:lnTo>
                  <a:pt x="17844" y="17844"/>
                </a:lnTo>
                <a:lnTo>
                  <a:pt x="17844" y="375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8B5-0E42-425E-8633-D9B39458BF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124-8408-45FF-96EE-E480069D6D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7"/>
          <p:cNvSpPr txBox="1"/>
          <p:nvPr/>
        </p:nvSpPr>
        <p:spPr>
          <a:xfrm rot="5400000">
            <a:off x="2124720" y="3076560"/>
            <a:ext cx="4613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1f00"/>
                  </a:outerShdw>
                </a:effectLst>
                <a:latin typeface="宋体"/>
              </a:rPr>
              <a:t>蚂蚁和蝈蝈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1f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39560" y="44784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教版小学语文第二册第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Object 12" descr=""/>
          <p:cNvPicPr/>
          <p:nvPr/>
        </p:nvPicPr>
        <p:blipFill>
          <a:blip r:embed="rId2"/>
          <a:stretch/>
        </p:blipFill>
        <p:spPr>
          <a:xfrm>
            <a:off x="762120" y="11239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Object 13" descr=""/>
          <p:cNvPicPr/>
          <p:nvPr/>
        </p:nvPicPr>
        <p:blipFill>
          <a:blip r:embed="rId3"/>
          <a:stretch/>
        </p:blipFill>
        <p:spPr>
          <a:xfrm>
            <a:off x="5292720" y="3068640"/>
            <a:ext cx="3581280" cy="32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rcRect l="9963" t="5532" r="4803" b="11611"/>
          <a:stretch/>
        </p:blipFill>
        <p:spPr>
          <a:xfrm>
            <a:off x="650880" y="604800"/>
            <a:ext cx="8097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260280"/>
            <a:ext cx="1839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68360" y="1555920"/>
            <a:ext cx="86756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5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蚂蚁们有的（      ），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5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的（       ），个个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       ）。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rcRect l="9963" t="5532" r="4803" b="11611"/>
          <a:stretch/>
        </p:blipFill>
        <p:spPr>
          <a:xfrm>
            <a:off x="611280" y="620640"/>
            <a:ext cx="8097840" cy="5904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042920" y="69228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蚂蚁躺在装满粮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洞里过冬了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794040" y="6364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躺  装满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57200" y="53020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9640" y="368280"/>
            <a:ext cx="1843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26920" y="197316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蝈蝈又冷又饿，再也神气不起来了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3565440" y="2247840"/>
            <a:ext cx="33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冷又饿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457200" y="530208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539640" y="368280"/>
            <a:ext cx="1843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331920"/>
            <a:ext cx="784872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蝈蝈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又冷又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再也神气不起来了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595920" y="353880"/>
            <a:ext cx="177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6" descr="蝈蝈过冬"/>
          <p:cNvPicPr/>
          <p:nvPr/>
        </p:nvPicPr>
        <p:blipFill>
          <a:blip r:embed="rId2"/>
          <a:srcRect l="0" t="6365" r="0" b="7913"/>
          <a:stretch/>
        </p:blipFill>
        <p:spPr>
          <a:xfrm>
            <a:off x="1346040" y="2176560"/>
            <a:ext cx="64105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343400" y="8380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冬天到了，西北风呼呼地刮起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蚂蚁躺在装满粮食的洞里过冬了。蝈蝈又冷又饿，再也神气不起来了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2"/>
          <a:srcRect l="13326" t="16882" r="6313" b="11616"/>
          <a:stretch/>
        </p:blipFill>
        <p:spPr>
          <a:xfrm>
            <a:off x="463680" y="442800"/>
            <a:ext cx="3778200" cy="3022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蝈蝈过冬"/>
          <p:cNvPicPr/>
          <p:nvPr/>
        </p:nvPicPr>
        <p:blipFill>
          <a:blip r:embed="rId3"/>
          <a:srcRect l="0" t="8793" r="1825" b="0"/>
          <a:stretch/>
        </p:blipFill>
        <p:spPr>
          <a:xfrm>
            <a:off x="468360" y="3519360"/>
            <a:ext cx="37782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蝈蝈过冬"/>
          <p:cNvPicPr/>
          <p:nvPr/>
        </p:nvPicPr>
        <p:blipFill>
          <a:blip r:embed="rId2"/>
          <a:stretch/>
        </p:blipFill>
        <p:spPr>
          <a:xfrm>
            <a:off x="4371840" y="3017880"/>
            <a:ext cx="4465800" cy="35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rcRect l="13895" t="10139" r="4803" b="14623"/>
          <a:stretch/>
        </p:blipFill>
        <p:spPr>
          <a:xfrm>
            <a:off x="539640" y="549360"/>
            <a:ext cx="44658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36" descr=""/>
          <p:cNvPicPr/>
          <p:nvPr/>
        </p:nvPicPr>
        <p:blipFill>
          <a:blip r:embed="rId2"/>
          <a:stretch/>
        </p:blipFill>
        <p:spPr>
          <a:xfrm>
            <a:off x="4643280" y="0"/>
            <a:ext cx="4032360" cy="6237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4" descr=""/>
          <p:cNvPicPr/>
          <p:nvPr/>
        </p:nvPicPr>
        <p:blipFill>
          <a:blip r:embed="rId3"/>
          <a:stretch/>
        </p:blipFill>
        <p:spPr>
          <a:xfrm>
            <a:off x="539640" y="0"/>
            <a:ext cx="410364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5148360" y="3573360"/>
          <a:ext cx="2808360" cy="280836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13"/>
          <p:cNvSpPr/>
          <p:nvPr/>
        </p:nvSpPr>
        <p:spPr>
          <a:xfrm>
            <a:off x="5184720" y="3213000"/>
            <a:ext cx="29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汗</a:t>
            </a:r>
            <a:endParaRPr b="0" lang="en-US" sz="19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6" name="Group 26"/>
          <p:cNvGrpSpPr/>
          <p:nvPr/>
        </p:nvGrpSpPr>
        <p:grpSpPr>
          <a:xfrm>
            <a:off x="1309680" y="3573360"/>
            <a:ext cx="2901960" cy="2808360"/>
            <a:chOff x="1309680" y="3573360"/>
            <a:chExt cx="2901960" cy="2808360"/>
          </a:xfrm>
        </p:grpSpPr>
        <p:sp>
          <p:nvSpPr>
            <p:cNvPr id="147" name="Rectangle 3"/>
            <p:cNvSpPr/>
            <p:nvPr/>
          </p:nvSpPr>
          <p:spPr>
            <a:xfrm>
              <a:off x="2761560" y="4978080"/>
              <a:ext cx="1449720" cy="140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1309680" y="4978080"/>
              <a:ext cx="1451880" cy="1403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2761560" y="3573360"/>
              <a:ext cx="1449720" cy="1404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309680" y="3573360"/>
              <a:ext cx="1451880" cy="1404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2761560" y="3573360"/>
              <a:ext cx="0" cy="2808360"/>
            </a:xfrm>
            <a:prstGeom prst="line">
              <a:avLst/>
            </a:prstGeom>
            <a:ln w="38160">
              <a:solidFill>
                <a:srgbClr val="00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1309680" y="4978080"/>
              <a:ext cx="29019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1309680" y="3573360"/>
              <a:ext cx="290196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309680" y="3573360"/>
              <a:ext cx="0" cy="280836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4211640" y="3573360"/>
              <a:ext cx="0" cy="280836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309680" y="6381720"/>
              <a:ext cx="290196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7" name="Text Box 25"/>
          <p:cNvSpPr/>
          <p:nvPr/>
        </p:nvSpPr>
        <p:spPr>
          <a:xfrm>
            <a:off x="1419120" y="3193920"/>
            <a:ext cx="2519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粮</a:t>
            </a:r>
            <a:endParaRPr b="0" lang="en-US" sz="19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7"/>
          <p:cNvSpPr/>
          <p:nvPr/>
        </p:nvSpPr>
        <p:spPr>
          <a:xfrm>
            <a:off x="7317000" y="106668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Picture 8" descr="bkcl1l"/>
          <p:cNvPicPr/>
          <p:nvPr/>
        </p:nvPicPr>
        <p:blipFill>
          <a:blip r:embed="rId2"/>
          <a:stretch/>
        </p:blipFill>
        <p:spPr>
          <a:xfrm>
            <a:off x="7451640" y="5300640"/>
            <a:ext cx="1692360" cy="155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1979640" y="1052640"/>
          <a:ext cx="4608360" cy="460836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20"/>
          <p:cNvSpPr/>
          <p:nvPr/>
        </p:nvSpPr>
        <p:spPr>
          <a:xfrm>
            <a:off x="2305080" y="692280"/>
            <a:ext cx="39225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粮</a:t>
            </a:r>
            <a:endParaRPr b="0" lang="en-US" sz="3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bkcl1l"/>
          <p:cNvPicPr/>
          <p:nvPr/>
        </p:nvPicPr>
        <p:blipFill>
          <a:blip r:embed="rId2"/>
          <a:stretch/>
        </p:blipFill>
        <p:spPr>
          <a:xfrm>
            <a:off x="7702560" y="5013360"/>
            <a:ext cx="14414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1835280" y="907920"/>
          <a:ext cx="4608360" cy="4608360"/>
        </p:xfrm>
        <a:graphic>
          <a:graphicData uri="http://schemas.openxmlformats.org/drawingml/2006/table">
            <a:tbl>
              <a:tblPr/>
              <a:tblGrid>
                <a:gridCol w="2305080"/>
                <a:gridCol w="2303280"/>
              </a:tblGrid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31"/>
          <p:cNvSpPr/>
          <p:nvPr/>
        </p:nvSpPr>
        <p:spPr>
          <a:xfrm>
            <a:off x="2052720" y="620640"/>
            <a:ext cx="3959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汗</a:t>
            </a:r>
            <a:endParaRPr b="0" lang="en-US" sz="30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5280" y="765000"/>
            <a:ext cx="84596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乘 凉      冬 天      呼呼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刮 起来   山洞     躺 着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满头大汗     自由自在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装满粮食     又冷又饿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之家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58920" y="1628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真热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insect016.wav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439560" cy="43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05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 flipV="1" rot="10800000">
            <a:off x="2409480" y="548640"/>
            <a:ext cx="54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天真热。一群蚂蚁在搬粮食。他们有的背，有的拉，个个满头大汗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409840" y="17701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545720" y="1762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693120" y="1762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617920" y="2381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339920" y="82692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只蝈蝈看到了，都笑蚂蚁是傻瓜。他们躲到大树下乘凉，有的唱歌，有的睡觉，个个自由自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533600" y="2655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唱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746360" y="3262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自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091040" y="2050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乘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092840" y="2655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睡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958400" y="1432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 flipV="1" rot="10800000">
            <a:off x="1187280" y="250200"/>
            <a:ext cx="547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夏天真热。一群蚂蚁在搬粮食。他们有的背，有的拉，个个满头大汗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58920" y="256536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几只蝈蝈看到了，都笑蚂蚁是傻瓜。他们躲到大树下乘凉，有的唱歌，有的睡觉，个个自由自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6"/>
          <p:cNvSpPr/>
          <p:nvPr/>
        </p:nvSpPr>
        <p:spPr>
          <a:xfrm>
            <a:off x="2340000" y="10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0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94760" cy="6910560"/>
          </a:xfrm>
          <a:prstGeom prst="rect">
            <a:avLst/>
          </a:prstGeom>
          <a:ln w="0">
            <a:noFill/>
          </a:ln>
        </p:spPr>
      </p:pic>
      <p:pic>
        <p:nvPicPr>
          <p:cNvPr id="111" name="ZR295.WAV" descr=""/>
          <p:cNvPicPr/>
          <p:nvPr/>
        </p:nvPicPr>
        <p:blipFill>
          <a:blip r:embed="rId3"/>
          <a:stretch/>
        </p:blipFill>
        <p:spPr>
          <a:xfrm>
            <a:off x="7956720" y="6093000"/>
            <a:ext cx="502920" cy="50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232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4" name="Picture 3" descr="1"/>
          <p:cNvPicPr/>
          <p:nvPr/>
        </p:nvPicPr>
        <p:blipFill>
          <a:blip r:embed="rId2"/>
          <a:stretch/>
        </p:blipFill>
        <p:spPr>
          <a:xfrm>
            <a:off x="0" y="14400"/>
            <a:ext cx="9194760" cy="6896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684360" y="197964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天到了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北风呼呼地刮起来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61560" y="2824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呼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916360" y="765000"/>
            <a:ext cx="53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26920" y="162864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蚂蚁躺在装满粮食的洞里过冬了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3:19:2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56Z</dcterms:modified>
  <cp:revision>1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