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gif" ContentType="image/gif"/>
  <Override PartName="/ppt/media/image10.gif" ContentType="image/gif"/>
  <Override PartName="/ppt/media/image12.jpeg" ContentType="image/jpeg"/>
  <Override PartName="/ppt/media/image9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8.jpeg" ContentType="image/jpeg"/>
  <Override PartName="/ppt/media/image5.png" ContentType="image/png"/>
  <Override PartName="/ppt/media/image25.gif" ContentType="image/gif"/>
  <Override PartName="/ppt/media/image4.png" ContentType="image/png"/>
  <Override PartName="/ppt/media/image24.gif" ContentType="image/gif"/>
  <Override PartName="/ppt/media/image3.wmf" ContentType="image/x-wmf"/>
  <Override PartName="/ppt/media/image27.jpeg" ContentType="image/jpeg"/>
  <Override PartName="/ppt/media/image26.jpeg" ContentType="image/jpeg"/>
  <Override PartName="/ppt/media/image23.gif" ContentType="image/gif"/>
  <Override PartName="/ppt/media/image15.gif" ContentType="image/gif"/>
  <Override PartName="/ppt/media/image28.jpeg" ContentType="image/jpeg"/>
  <Override PartName="/ppt/media/image22.gif" ContentType="image/gif"/>
  <Override PartName="/ppt/media/image21.gif" ContentType="image/gif"/>
  <Override PartName="/ppt/media/image20.gif" ContentType="image/gif"/>
  <Override PartName="/ppt/media/image18.gif" ContentType="image/gif"/>
  <Override PartName="/ppt/media/image16.gif" ContentType="image/gif"/>
  <Override PartName="/ppt/media/image17.png" ContentType="image/png"/>
  <Override PartName="/ppt/media/image14.gif" ContentType="image/gif"/>
  <Override PartName="/ppt/media/image2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9B77-083A-48ED-AEFC-C3D5965BD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94D4-8C34-4C61-83FF-D2885A78D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A707FC-7A43-436E-89F7-EB31AE67A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50C8D2-36D5-4ECD-AA2E-7BF5D61CF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496E7A-4940-42D9-8E7C-E713CE43B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DE0C7D-2F6D-4502-8896-96775E9A4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CF0A25-2028-4A0A-8A34-19E3B12CA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33C954-D257-4277-9019-65FA31185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B520C2-365F-4E62-B2A9-A1FD62DE6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D1C86F-533D-40B3-8F71-2D9331AE5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D021DF-6170-421C-989B-D1FCB0230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73F8-E117-4AFA-ABCF-FE254B9F6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8272-92B8-4B3D-9A30-8993F4B51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27487-85E6-4F1D-AAF6-7B3687569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2AA4B-443B-4E7F-BD0C-DAD76C002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BA4D1-11FE-4377-9B59-A2FC48D35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8B642-0B48-4955-813A-8A85CC07C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6D7E4-2858-4C42-9894-1B2041D14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D42B1-BDD8-4676-8F6A-BE41F8472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A468C-716F-4115-BF66-A327D05CA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A14F-98A4-483B-A9A1-B675141D9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7FDE5-FD2F-4A37-A24E-486F8C6E2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5AC29-96A1-465F-B24B-033A586B6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D23C7-1824-4348-B1F1-D4474BEE4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79166-378D-4E80-BADC-93E474EF3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D0E3B-EC06-4089-86D4-6B2A0949C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BD0C07-ED88-4DAE-AFAB-E2FD10F3E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8AF7A2-A938-427E-8C1E-F48DE6D47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C650BF-E58E-4689-B2CD-9356DFB50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EBF1DA-8A1E-47D1-B4A2-34BC7491D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DA2196-8FA2-4130-9B04-F2E222EAA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46E0-CE12-4693-B54B-498584197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87CD4C-94BF-4535-947D-A7C6EB18C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C8C425-DAE1-44FD-9A8B-FB9BE0172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9182D8-94C0-4E6E-86DB-4CBD4721C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AF45CB-3A7A-405A-9E67-021D4E0EB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BA8D49-8DE9-4CE9-8792-9ED50CB18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DE06B6-CB24-4D00-B88A-E0DC98E90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53F37A-63F9-41E6-A323-DE7131FDC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26E1F2-FE95-4905-813D-28D9E0441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1D3CC5-1BBE-4691-B4EF-51BA0FBD3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B71368-721E-4F88-A5D2-BA4BF9FCB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6656-E5AA-4FE7-8926-F48607514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05EA6C-2771-4B16-83FD-4C1A7F2C1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9DCAC1-9CC1-4AF6-B962-FC71C7DEF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FA0DA1-4304-4058-AABB-1A9C1D751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671CBA-0C17-4C35-BC7B-398C36A70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73C22C-0C84-42F5-895B-F8959D820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F56603-C4D8-4628-A4B2-17FBAE25D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FB52A3-C53A-427B-A2F9-EBBDB8986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B183DA-B9D0-4C8E-B68D-B60589902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4347C2-DC02-4685-B447-119428EDF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2D2A11-11E1-4547-8194-F82565049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A641-307D-456C-B529-0BF06A42C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488E35-F04F-4C77-85A5-88BBB770D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F5438C-A2AB-4BFE-ABB2-CA271F33F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B57DFA-23D5-4D88-B822-896FC3060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06E20A-7006-4C2A-8CAD-120717AB0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F04ABF-99A7-4DD8-963A-1EF2D12BE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BE8043-9C73-4A97-8443-5E5D12829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B21F25-AA8F-4993-805C-BA87E1FC5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119FAC-DEF7-4E18-80A7-23858F295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D04648-5D84-4B4F-AC7F-3F9DDEBF5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6ECE37-1FAD-425C-82E6-999B90E6B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10CD-9D14-4F0C-830B-72B667B92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0C1224-C50A-405B-92BA-512B9F920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08EC67-F347-4A4F-BA22-9E8410815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F11E5E-D3AC-4F22-8F61-2F10CAD44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5154B6-5A87-4B0F-A106-F61DB6218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561C73-D9DB-405F-8B1A-8CD92D57C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26AD71-21CC-4A5C-AAC4-AC950357E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FF1EC9-D5B9-401C-B48A-E7BA86D70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2CE96A-2B6D-46E7-8F49-028A292BA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BB2DE5-611E-40EC-BFB7-72CD81A0F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ECBE10-856B-4BD2-8349-B1FBC2D84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E36B-F3AD-4877-AE82-CD7240E27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E3DA23-29CF-47DB-8BFA-68C896629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40F628-85E5-48F6-97F6-378EDCD27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AE9B34-2166-4E51-B495-6B2648EE8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3494FE-80BB-4531-90F4-113315848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407DB6-FAA8-42FD-ACD4-601E4590D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1D3966-9D81-4891-8F34-DDF9722DB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D6A862-624B-49DF-8EAE-C8F857E76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2D5961-2003-4ABB-A2C7-859334899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CF5167-4DA9-4C2D-9C1E-2249EA258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E43656-0322-4A92-AB1B-A8F948AAA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C223-7A7E-4BE4-A754-547CA0C89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04861F-1CF0-47B5-B7A9-6727BFF90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A19E5A-A58D-4EC9-8CBB-D098E9446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80AC0D-0B52-4150-9B4C-ED200E603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5BC442-E387-4D4A-92F8-5829531DD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BA71F8-D1CA-49D0-805E-B7764A739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E6A8DA-F95C-4CE1-A7C7-6C5340459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48D7BF-E455-4CF6-AB89-650C830DB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C7B854-D022-474E-B26B-5CB64B094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AB463C-FB1E-4A6E-8583-AE0B43DBB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0E2C87-AABD-40E1-AD4B-5C3585235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2E72-5AAA-4118-BB8B-493A6A226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8BFAE8-EB15-482F-A803-71D4E80CA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359E10-5BED-4055-850C-BB7B60AD8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CCDA79-DD77-4DB4-A870-FFC7E2AD0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75967B-1811-43AC-90F1-42F25C122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3501AA-A983-404D-8494-852BB39E9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231B57-DC25-4DDA-9824-34B5E74B7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F35AC4-8877-4495-9389-CC7194DA9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7B60F2-9DE1-4D8C-BE0F-14863C0DD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AE725E-01BF-4E69-B45A-73E266A76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CECE72-8E3F-46DA-9041-D9FF4F38D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3.wmf"/><Relationship Id="rId12" Type="http://schemas.openxmlformats.org/officeDocument/2006/relationships/image" Target="../media/image3.wmf"/><Relationship Id="rId13" Type="http://schemas.openxmlformats.org/officeDocument/2006/relationships/image" Target="../media/image3.wmf"/><Relationship Id="rId14" Type="http://schemas.openxmlformats.org/officeDocument/2006/relationships/image" Target="../media/image3.wmf"/><Relationship Id="rId15" Type="http://schemas.openxmlformats.org/officeDocument/2006/relationships/image" Target="../media/image3.wmf"/><Relationship Id="rId16" Type="http://schemas.openxmlformats.org/officeDocument/2006/relationships/image" Target="../media/image3.wmf"/><Relationship Id="rId17" Type="http://schemas.openxmlformats.org/officeDocument/2006/relationships/image" Target="../media/image3.wmf"/><Relationship Id="rId18" Type="http://schemas.openxmlformats.org/officeDocument/2006/relationships/image" Target="../media/image3.wmf"/><Relationship Id="rId19" Type="http://schemas.openxmlformats.org/officeDocument/2006/relationships/image" Target="../media/image3.wmf"/><Relationship Id="rId20" Type="http://schemas.openxmlformats.org/officeDocument/2006/relationships/image" Target="../media/image3.wmf"/><Relationship Id="rId21" Type="http://schemas.openxmlformats.org/officeDocument/2006/relationships/image" Target="../media/image3.wmf"/><Relationship Id="rId22" Type="http://schemas.openxmlformats.org/officeDocument/2006/relationships/image" Target="../media/image3.wmf"/><Relationship Id="rId23" Type="http://schemas.openxmlformats.org/officeDocument/2006/relationships/image" Target="../media/image3.wmf"/><Relationship Id="rId24" Type="http://schemas.openxmlformats.org/officeDocument/2006/relationships/image" Target="../media/image3.wmf"/><Relationship Id="rId25" Type="http://schemas.openxmlformats.org/officeDocument/2006/relationships/image" Target="../media/image3.wmf"/><Relationship Id="rId26" Type="http://schemas.openxmlformats.org/officeDocument/2006/relationships/image" Target="../media/image3.wmf"/><Relationship Id="rId27" Type="http://schemas.openxmlformats.org/officeDocument/2006/relationships/image" Target="../media/image3.wmf"/><Relationship Id="rId28" Type="http://schemas.openxmlformats.org/officeDocument/2006/relationships/image" Target="../media/image3.wmf"/><Relationship Id="rId29" Type="http://schemas.openxmlformats.org/officeDocument/2006/relationships/image" Target="../media/image4.png"/><Relationship Id="rId30" Type="http://schemas.openxmlformats.org/officeDocument/2006/relationships/image" Target="../media/image4.png"/><Relationship Id="rId31" Type="http://schemas.openxmlformats.org/officeDocument/2006/relationships/image" Target="../media/image5.png"/><Relationship Id="rId32" Type="http://schemas.openxmlformats.org/officeDocument/2006/relationships/image" Target="../media/image6.png"/><Relationship Id="rId33" Type="http://schemas.openxmlformats.org/officeDocument/2006/relationships/image" Target="../media/image7.png"/><Relationship Id="rId34" Type="http://schemas.openxmlformats.org/officeDocument/2006/relationships/slideLayout" Target="../slideLayouts/slideLayout49.xml"/><Relationship Id="rId35" Type="http://schemas.openxmlformats.org/officeDocument/2006/relationships/slideLayout" Target="../slideLayouts/slideLayout50.xml"/><Relationship Id="rId36" Type="http://schemas.openxmlformats.org/officeDocument/2006/relationships/slideLayout" Target="../slideLayouts/slideLayout51.xml"/><Relationship Id="rId37" Type="http://schemas.openxmlformats.org/officeDocument/2006/relationships/slideLayout" Target="../slideLayouts/slideLayout52.xml"/><Relationship Id="rId38" Type="http://schemas.openxmlformats.org/officeDocument/2006/relationships/slideLayout" Target="../slideLayouts/slideLayout53.xml"/><Relationship Id="rId39" Type="http://schemas.openxmlformats.org/officeDocument/2006/relationships/slideLayout" Target="../slideLayouts/slideLayout54.xml"/><Relationship Id="rId40" Type="http://schemas.openxmlformats.org/officeDocument/2006/relationships/slideLayout" Target="../slideLayouts/slideLayout55.xml"/><Relationship Id="rId41" Type="http://schemas.openxmlformats.org/officeDocument/2006/relationships/slideLayout" Target="../slideLayouts/slideLayout56.xml"/><Relationship Id="rId42" Type="http://schemas.openxmlformats.org/officeDocument/2006/relationships/slideLayout" Target="../slideLayouts/slideLayout57.xml"/><Relationship Id="rId43" Type="http://schemas.openxmlformats.org/officeDocument/2006/relationships/slideLayout" Target="../slideLayouts/slideLayout58.xml"/><Relationship Id="rId44" Type="http://schemas.openxmlformats.org/officeDocument/2006/relationships/slideLayout" Target="../slideLayouts/slideLayout59.xml"/><Relationship Id="rId4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9F4C7-CBEA-4F6B-9C9C-EDD0E9E2C0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42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82f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CE2EE-A009-4675-B452-E3548D4E6E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86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50000">
                  <a:srgbClr val="bb5f03"/>
                </a:gs>
                <a:gs pos="100000">
                  <a:srgbClr val="99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50000">
                  <a:srgbClr val="bb5f03"/>
                </a:gs>
                <a:gs pos="100000">
                  <a:srgbClr val="99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3C948-E705-4B82-B9B2-871AAD26D4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6699"/>
              </a:buClr>
              <a:buSzPct val="7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6669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1ED38-5563-477F-9DA3-3571CEE9EB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8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0" name="Group 6"/>
            <p:cNvGrpSpPr/>
            <p:nvPr/>
          </p:nvGrpSpPr>
          <p:grpSpPr>
            <a:xfrm>
              <a:off x="7848720" y="1080"/>
              <a:ext cx="1294920" cy="6308640"/>
              <a:chOff x="7848720" y="1080"/>
              <a:chExt cx="1294920" cy="6308640"/>
            </a:xfrm>
          </p:grpSpPr>
          <p:grpSp>
            <p:nvGrpSpPr>
              <p:cNvPr id="191" name="Group 7"/>
              <p:cNvGrpSpPr/>
              <p:nvPr/>
            </p:nvGrpSpPr>
            <p:grpSpPr>
              <a:xfrm>
                <a:off x="8382240" y="1080"/>
                <a:ext cx="761400" cy="2270520"/>
                <a:chOff x="8382240" y="1080"/>
                <a:chExt cx="761400" cy="2270520"/>
              </a:xfrm>
            </p:grpSpPr>
            <p:grpSp>
              <p:nvGrpSpPr>
                <p:cNvPr id="192" name="Group 8"/>
                <p:cNvGrpSpPr/>
                <p:nvPr/>
              </p:nvGrpSpPr>
              <p:grpSpPr>
                <a:xfrm>
                  <a:off x="8704080" y="1080"/>
                  <a:ext cx="279000" cy="276120"/>
                  <a:chOff x="8704080" y="1080"/>
                  <a:chExt cx="279000" cy="276120"/>
                </a:xfrm>
              </p:grpSpPr>
              <p:grpSp>
                <p:nvGrpSpPr>
                  <p:cNvPr id="193" name="Group 9"/>
                  <p:cNvGrpSpPr/>
                  <p:nvPr/>
                </p:nvGrpSpPr>
                <p:grpSpPr>
                  <a:xfrm>
                    <a:off x="8704080" y="1080"/>
                    <a:ext cx="279000" cy="276120"/>
                    <a:chOff x="8704080" y="1080"/>
                    <a:chExt cx="279000" cy="276120"/>
                  </a:xfrm>
                </p:grpSpPr>
                <p:sp>
                  <p:nvSpPr>
                    <p:cNvPr id="194" name="Freeform 10"/>
                    <p:cNvSpPr/>
                    <p:nvPr/>
                  </p:nvSpPr>
                  <p:spPr>
                    <a:xfrm rot="16200000">
                      <a:off x="8742960" y="-37800"/>
                      <a:ext cx="201240" cy="27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5" name="Freeform 11"/>
                    <p:cNvSpPr/>
                    <p:nvPr/>
                  </p:nvSpPr>
                  <p:spPr>
                    <a:xfrm rot="16200000">
                      <a:off x="8751960" y="93600"/>
                      <a:ext cx="141120" cy="225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96" name="Oval 12"/>
                  <p:cNvSpPr/>
                  <p:nvPr/>
                </p:nvSpPr>
                <p:spPr>
                  <a:xfrm rot="16200000">
                    <a:off x="8823960" y="12888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" name="Freeform 13"/>
                  <p:cNvSpPr/>
                  <p:nvPr/>
                </p:nvSpPr>
                <p:spPr>
                  <a:xfrm rot="16200000">
                    <a:off x="8755920" y="74160"/>
                    <a:ext cx="43200" cy="5652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720" bIns="9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" name="Freeform 14"/>
                  <p:cNvSpPr/>
                  <p:nvPr/>
                </p:nvSpPr>
                <p:spPr>
                  <a:xfrm rot="16200000">
                    <a:off x="8829000" y="61200"/>
                    <a:ext cx="6372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" name="Freeform 15"/>
                  <p:cNvSpPr/>
                  <p:nvPr/>
                </p:nvSpPr>
                <p:spPr>
                  <a:xfrm rot="16200000">
                    <a:off x="8897040" y="11124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" name="Freeform 16"/>
                  <p:cNvSpPr/>
                  <p:nvPr/>
                </p:nvSpPr>
                <p:spPr>
                  <a:xfrm rot="16200000">
                    <a:off x="8823600" y="19080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" name="Freeform 17"/>
                  <p:cNvSpPr/>
                  <p:nvPr/>
                </p:nvSpPr>
                <p:spPr>
                  <a:xfrm rot="16200000">
                    <a:off x="8771400" y="165600"/>
                    <a:ext cx="38880" cy="4176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040" bIns="-50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20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2240" y="228600"/>
                  <a:ext cx="29484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44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160"/>
                  <a:ext cx="29484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16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44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8960"/>
                  <a:ext cx="29484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44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44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10" name="Group 26"/>
              <p:cNvGrpSpPr/>
              <p:nvPr/>
            </p:nvGrpSpPr>
            <p:grpSpPr>
              <a:xfrm>
                <a:off x="7848720" y="1600200"/>
                <a:ext cx="828720" cy="4709520"/>
                <a:chOff x="7848720" y="1600200"/>
                <a:chExt cx="828720" cy="4709520"/>
              </a:xfrm>
            </p:grpSpPr>
            <p:pic>
              <p:nvPicPr>
                <p:cNvPr id="21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640" y="16002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47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640" y="25142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2240" y="27428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1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0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2240" y="327636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56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5040" y="350496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5040" y="38858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640" y="41144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3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0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5040" y="487656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4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5040" y="54097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3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5040" y="601956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69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23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f0b854"/>
                </a:gs>
                <a:gs pos="50000">
                  <a:srgbClr val="dc893e"/>
                </a:gs>
                <a:gs pos="100000">
                  <a:srgbClr val="f0b85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79af7d"/>
                </a:gs>
                <a:gs pos="50000">
                  <a:srgbClr val="38513a"/>
                </a:gs>
                <a:gs pos="100000">
                  <a:srgbClr val="79af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0b854"/>
                </a:gs>
                <a:gs pos="50000">
                  <a:srgbClr val="dc893e"/>
                </a:gs>
                <a:gs pos="100000">
                  <a:srgbClr val="f0b85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c16059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dt" idx="13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ftr" idx="14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sldNum" idx="15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D4474-A4AC-4AD3-867B-19B9ECD2A64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4"/>
    <p:sldLayoutId id="2147483702" r:id="rId35"/>
    <p:sldLayoutId id="2147483703" r:id="rId36"/>
    <p:sldLayoutId id="2147483704" r:id="rId37"/>
    <p:sldLayoutId id="2147483705" r:id="rId38"/>
    <p:sldLayoutId id="2147483706" r:id="rId39"/>
    <p:sldLayoutId id="2147483707" r:id="rId40"/>
    <p:sldLayoutId id="2147483708" r:id="rId41"/>
    <p:sldLayoutId id="2147483709" r:id="rId42"/>
    <p:sldLayoutId id="2147483710" r:id="rId43"/>
    <p:sldLayoutId id="2147483711" r:id="rId44"/>
    <p:sldLayoutId id="2147483712" r:id="rId4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83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5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287" name="Freeform 7"/>
            <p:cNvSpPr/>
            <p:nvPr/>
          </p:nvSpPr>
          <p:spPr>
            <a:xfrm>
              <a:off x="2362320" y="6019920"/>
              <a:ext cx="5143320" cy="85104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8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289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Freeform 11"/>
              <p:cNvSpPr/>
              <p:nvPr/>
            </p:nvSpPr>
            <p:spPr>
              <a:xfrm>
                <a:off x="481032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Freeform 12"/>
              <p:cNvSpPr/>
              <p:nvPr/>
            </p:nvSpPr>
            <p:spPr>
              <a:xfrm>
                <a:off x="5759640" y="6137280"/>
                <a:ext cx="245880" cy="11772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Freeform 13"/>
              <p:cNvSpPr/>
              <p:nvPr/>
            </p:nvSpPr>
            <p:spPr>
              <a:xfrm>
                <a:off x="3946680" y="6126120"/>
                <a:ext cx="66600" cy="12888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4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96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20"/>
            <p:cNvSpPr/>
            <p:nvPr/>
          </p:nvSpPr>
          <p:spPr>
            <a:xfrm>
              <a:off x="1120680" y="6118200"/>
              <a:ext cx="9396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7705D-D20C-436D-83FE-F8945FEEB5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6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6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1B537-42A5-4B32-98D0-9FF3088CDE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761800"/>
              </a:gs>
              <a:gs pos="100000">
                <a:srgbClr val="ff3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10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dt" idx="22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ftr" idx="23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sldNum" idx="24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E0F36-BF67-442C-8843-4CA7F9A74E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F4B00-1D35-4081-B04E-7B86C06B8FD7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24F9A-E76B-425C-B5C3-FBE445C158A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gif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28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1ppt.com/kejian/" TargetMode="External"/><Relationship Id="rId3" Type="http://schemas.openxmlformats.org/officeDocument/2006/relationships/hyperlink" Target="http://www.1ppt.com/kejian/yuwen/" TargetMode="External"/><Relationship Id="rId4" Type="http://schemas.openxmlformats.org/officeDocument/2006/relationships/hyperlink" Target="http://www.1ppt.com/kejian/shuxue/" TargetMode="External"/><Relationship Id="rId5" Type="http://schemas.openxmlformats.org/officeDocument/2006/relationships/hyperlink" Target="http://www.1ppt.com/kejian/yingyu/" TargetMode="External"/><Relationship Id="rId6" Type="http://schemas.openxmlformats.org/officeDocument/2006/relationships/hyperlink" Target="http://www.1ppt.com/kejian/yuwen/138/" TargetMode="External"/><Relationship Id="rId7" Type="http://schemas.openxmlformats.org/officeDocument/2006/relationships/hyperlink" Target="http://www.1ppt.com/kejian/yuwen/160/" TargetMode="External"/><Relationship Id="rId8" Type="http://schemas.openxmlformats.org/officeDocument/2006/relationships/hyperlink" Target="http://www.1ppt.com/kejian/yuwen/161/" TargetMode="External"/><Relationship Id="rId9" Type="http://schemas.openxmlformats.org/officeDocument/2006/relationships/hyperlink" Target="http://www.1ppt.com/kejian/yuwen/162/" TargetMode="External"/><Relationship Id="rId10" Type="http://schemas.openxmlformats.org/officeDocument/2006/relationships/hyperlink" Target="http://www.1ppt.com/kejian/yuwen/163/" TargetMode="External"/><Relationship Id="rId11" Type="http://schemas.openxmlformats.org/officeDocument/2006/relationships/hyperlink" Target="http://www.1ppt.com/kejian/yuwen/164/" TargetMode="External"/><Relationship Id="rId12" Type="http://schemas.openxmlformats.org/officeDocument/2006/relationships/hyperlink" Target="http://www.1ppt.com/kejian/yuwen/165/" TargetMode="External"/><Relationship Id="rId13" Type="http://schemas.openxmlformats.org/officeDocument/2006/relationships/hyperlink" Target="http://www.1ppt.com/" TargetMode="External"/><Relationship Id="rId14" Type="http://schemas.openxmlformats.org/officeDocument/2006/relationships/hyperlink" Target="http://www.1ppt.com/kejian/yuwen/166/" TargetMode="External"/><Relationship Id="rId15" Type="http://schemas.openxmlformats.org/officeDocument/2006/relationships/hyperlink" Target="http://www.1ppt.com/shiti/" TargetMode="External"/><Relationship Id="rId16" Type="http://schemas.openxmlformats.org/officeDocument/2006/relationships/hyperlink" Target="http://www.1ppt.com/kejian/yuwen/167/" TargetMode="External"/><Relationship Id="rId17" Type="http://schemas.openxmlformats.org/officeDocument/2006/relationships/hyperlink" Target="file:///tmp/home/.config/libreoffice/4/user/gallery/explode.wav" TargetMode="External"/><Relationship Id="rId18" Type="http://schemas.openxmlformats.org/officeDocument/2006/relationships/image" Target="../media/image12.jpeg"/><Relationship Id="rId1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Picture 4" descr="pic136[1]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1" name="Text Box 7"/>
          <p:cNvSpPr/>
          <p:nvPr/>
        </p:nvSpPr>
        <p:spPr>
          <a:xfrm>
            <a:off x="8122320" y="252360"/>
            <a:ext cx="789840" cy="56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Arial"/>
                <a:ea typeface="黑体"/>
              </a:rPr>
              <a:t>义务教育语文第十一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10"/>
          <p:cNvSpPr/>
          <p:nvPr/>
        </p:nvSpPr>
        <p:spPr>
          <a:xfrm>
            <a:off x="250920" y="6093000"/>
            <a:ext cx="936360" cy="3603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YUE</a:t>
            </a:r>
            <a:r>
              <a:rPr b="1" lang="en-US" sz="1800" spc="-1" strike="noStrike" baseline="30000">
                <a:solidFill>
                  <a:srgbClr val="ffff99"/>
                </a:solidFill>
                <a:latin typeface="Arial"/>
              </a:rPr>
              <a:t>X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Picture 11" descr="兴明了00"/>
          <p:cNvPicPr/>
          <p:nvPr/>
        </p:nvPicPr>
        <p:blipFill>
          <a:blip r:embed="rId3"/>
          <a:stretch/>
        </p:blipFill>
        <p:spPr>
          <a:xfrm>
            <a:off x="6286680" y="5859360"/>
            <a:ext cx="2857320" cy="657360"/>
          </a:xfrm>
          <a:prstGeom prst="rect">
            <a:avLst/>
          </a:prstGeom>
          <a:ln w="0">
            <a:noFill/>
          </a:ln>
        </p:spPr>
      </p:pic>
      <p:pic>
        <p:nvPicPr>
          <p:cNvPr id="474" name="WordArt 12" descr=""/>
          <p:cNvPicPr/>
          <p:nvPr/>
        </p:nvPicPr>
        <p:blipFill>
          <a:blip r:embed="rId4"/>
          <a:stretch/>
        </p:blipFill>
        <p:spPr>
          <a:xfrm>
            <a:off x="347760" y="1042920"/>
            <a:ext cx="7327800" cy="245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ffcc"/>
                </a:solidFill>
                <a:latin typeface="Arial"/>
              </a:rPr>
              <a:t>复述：善良的牛郎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抓关键词：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哥嫂虐待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孤苦无依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老牛亲密             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6" name="Picture 4" descr="003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7380360" y="907920"/>
            <a:ext cx="1295280" cy="129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5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5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5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复述：美满的生活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抓关键词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老牛指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牛郎追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织女爱怜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男耕女织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生活美满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9" name="Picture 5" descr="tov-10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6948360" y="549360"/>
            <a:ext cx="1468440" cy="107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cc00"/>
                </a:solidFill>
                <a:latin typeface="Arial Black"/>
              </a:rPr>
              <a:t>复述：勇敢的抗争</a:t>
            </a:r>
            <a:endParaRPr b="0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826920" y="1412640"/>
            <a:ext cx="77724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抓关键词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王母下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捉拿织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牛郎追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天河阻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勇敢抗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鹊桥相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Picture 7" descr="Q_039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6948360" y="765000"/>
            <a:ext cx="1368720" cy="10274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5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5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5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5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5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5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5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5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5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5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5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5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539280" y="1773360"/>
            <a:ext cx="828036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zh-CN" sz="3600" spc="-1" strike="noStrike">
                <a:solidFill>
                  <a:srgbClr val="cc3300"/>
                </a:solidFill>
                <a:latin typeface="黑体"/>
                <a:ea typeface="黑体"/>
              </a:rPr>
              <a:t>牛郎织女传说是中国过去封建社        会男耕女织小农经济生活的艺术反映。它以封建家庭生活为背景，通过牛郎与织女结合又离散，只能七夕在天上相会一次的幻想情节，反映了封建宗法制度下的家庭关系及其造成的婚姻悲剧。</a:t>
            </a:r>
            <a:r>
              <a:rPr b="0" lang="zh-CN" sz="3600" spc="-1" strike="noStrike">
                <a:solidFill>
                  <a:srgbClr val="cc3300"/>
                </a:solidFill>
                <a:latin typeface="Arial"/>
                <a:ea typeface="黑体"/>
              </a:rPr>
              <a:t>   </a:t>
            </a:r>
            <a:r>
              <a:rPr b="0" lang="zh-CN" sz="3600" spc="-1" strike="noStrike">
                <a:solidFill>
                  <a:srgbClr val="cc3300"/>
                </a:solidFill>
                <a:latin typeface="黑体"/>
                <a:ea typeface="黑体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158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小结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167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Times New Roman"/>
              </a:rPr>
              <a:t>小结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539280" y="1989000"/>
            <a:ext cx="8820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民间故事幻想奇丽、情节动人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体现了我国古代劳动人民的聪明才智和丰富的想象力，从中寄托了爱憎褒贬之情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故事表达了我国古代劳动人民对自由幸福生活的向往和追求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7" name="Picture 6" descr="兴明了00"/>
          <p:cNvPicPr/>
          <p:nvPr/>
        </p:nvPicPr>
        <p:blipFill>
          <a:blip r:embed="rId1"/>
          <a:stretch/>
        </p:blipFill>
        <p:spPr>
          <a:xfrm>
            <a:off x="6286680" y="5950080"/>
            <a:ext cx="2857320" cy="65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2590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作业布置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415280" cy="17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华文行楷"/>
                <a:ea typeface="华文行楷"/>
              </a:rPr>
              <a:t>1</a:t>
            </a:r>
            <a:r>
              <a:rPr b="0" lang="zh-CN" sz="4800" spc="-1" strike="noStrike">
                <a:solidFill>
                  <a:srgbClr val="ff0000"/>
                </a:solidFill>
                <a:latin typeface="华文行楷"/>
                <a:ea typeface="华文行楷"/>
              </a:rPr>
              <a:t>、朗读与口述民间故事。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华文行楷"/>
                <a:ea typeface="华文行楷"/>
              </a:rPr>
              <a:t>2</a:t>
            </a:r>
            <a:r>
              <a:rPr b="0" lang="zh-CN" sz="4800" spc="-1" strike="noStrike">
                <a:solidFill>
                  <a:srgbClr val="ff0000"/>
                </a:solidFill>
                <a:latin typeface="华文行楷"/>
                <a:ea typeface="华文行楷"/>
              </a:rPr>
              <a:t>、完成课后练习三。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0" name="Picture 10" descr="WW_028"/>
          <p:cNvPicPr/>
          <p:nvPr/>
        </p:nvPicPr>
        <p:blipFill>
          <a:blip r:embed="rId2"/>
          <a:stretch/>
        </p:blipFill>
        <p:spPr>
          <a:xfrm>
            <a:off x="6804000" y="5229360"/>
            <a:ext cx="1368360" cy="10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Picture 5" descr="c09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2" name="WordArt 7"/>
          <p:cNvSpPr txBox="1"/>
          <p:nvPr/>
        </p:nvSpPr>
        <p:spPr>
          <a:xfrm>
            <a:off x="1835280" y="1846440"/>
            <a:ext cx="5113080" cy="316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38183" dir="2700000" blurRad="0" rotWithShape="0">
                    <a:srgbClr val="000000">
                      <a:alpha val="43000"/>
                    </a:srgbClr>
                  </a:outerShdw>
                </a:effectLst>
                <a:latin typeface="宋体"/>
              </a:rPr>
              <a:t>再见</a:t>
            </a:r>
            <a:endParaRPr b="0" lang="en-US" sz="8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38183" dir="2700000" blurRad="0" rotWithShape="0">
                  <a:srgbClr val="000000">
                    <a:alpha val="43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ff0033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ff0033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0033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ff0033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ff0033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0033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ff0033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ff0033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0033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ff0033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ff0033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0033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ff0033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0033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0033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6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37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8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9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矩形 7"/>
          <p:cNvSpPr/>
          <p:nvPr/>
        </p:nvSpPr>
        <p:spPr>
          <a:xfrm>
            <a:off x="325440" y="620640"/>
            <a:ext cx="62388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课件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www.1ppt.com/kejian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语文课件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1ppt.com/kejian/yuwen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数学课件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www.1ppt.com/kejian/shuxue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英语课件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www.1ppt.com/kejian/yingyu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一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6"/>
              </a:rPr>
              <a:t>www.1ppt.com/kejian/yuwen/138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二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7"/>
              </a:rPr>
              <a:t>www.1ppt.com/kejian/yuwen/160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三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8"/>
              </a:rPr>
              <a:t>www.1ppt.com/kejian/yuwen/161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四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9"/>
              </a:rPr>
              <a:t>www.1ppt.com/kejian/yuwen/162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五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0"/>
              </a:rPr>
              <a:t>www.1ppt.com/kejian/yuwen/163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六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1"/>
              </a:rPr>
              <a:t>www.1ppt.com/kejian/yuwen/164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七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2"/>
              </a:rPr>
              <a:t>www.1ppt.com/kejian/yuwen/165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八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3"/>
              </a:rPr>
              <a:t>www.1ppt.com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4"/>
              </a:rPr>
              <a:t>/kejian/yuwen/166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5"/>
              </a:rPr>
              <a:t>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九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6"/>
              </a:rPr>
              <a:t>www.1ppt.com/kejian/yuwen/167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6" name="Picture 6" descr="织女星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268360" y="4220640"/>
            <a:ext cx="6400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这是牛郎织女星座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title"/>
          </p:nvPr>
        </p:nvSpPr>
        <p:spPr>
          <a:xfrm>
            <a:off x="250920" y="1915920"/>
            <a:ext cx="55814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</a:rPr>
              <a:t>遥望夜空，你</a:t>
            </a:r>
            <a:br>
              <a:rPr sz="6000"/>
            </a:br>
            <a:r>
              <a:rPr b="1" lang="zh-CN" sz="6000" spc="-1" strike="noStrike">
                <a:solidFill>
                  <a:srgbClr val="ff3300"/>
                </a:solidFill>
                <a:latin typeface="Arial"/>
              </a:rPr>
              <a:t>发现了什么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Picture 24" descr="A1_226"/>
          <p:cNvPicPr/>
          <p:nvPr/>
        </p:nvPicPr>
        <p:blipFill>
          <a:blip r:embed="rId2"/>
          <a:stretch/>
        </p:blipFill>
        <p:spPr>
          <a:xfrm>
            <a:off x="6732720" y="3141720"/>
            <a:ext cx="2089080" cy="183996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25" descr="A3_107"/>
          <p:cNvPicPr/>
          <p:nvPr/>
        </p:nvPicPr>
        <p:blipFill>
          <a:blip r:embed="rId3"/>
          <a:stretch/>
        </p:blipFill>
        <p:spPr>
          <a:xfrm>
            <a:off x="250920" y="378000"/>
            <a:ext cx="952560" cy="6480000"/>
          </a:xfrm>
          <a:prstGeom prst="rect">
            <a:avLst/>
          </a:prstGeom>
          <a:ln w="0">
            <a:noFill/>
          </a:ln>
        </p:spPr>
      </p:pic>
      <p:sp>
        <p:nvSpPr>
          <p:cNvPr id="481" name="WordArt 27"/>
          <p:cNvSpPr txBox="1"/>
          <p:nvPr/>
        </p:nvSpPr>
        <p:spPr>
          <a:xfrm>
            <a:off x="1258920" y="1341360"/>
            <a:ext cx="2160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宋体"/>
              </a:rPr>
              <a:t>教学目标</a:t>
            </a: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82" name="WordArt 29"/>
          <p:cNvSpPr txBox="1"/>
          <p:nvPr/>
        </p:nvSpPr>
        <p:spPr>
          <a:xfrm>
            <a:off x="1187280" y="2349360"/>
            <a:ext cx="2089440" cy="57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宋体"/>
              </a:rPr>
              <a:t>教学过程</a:t>
            </a: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83" name="WordArt 30"/>
          <p:cNvSpPr txBox="1"/>
          <p:nvPr/>
        </p:nvSpPr>
        <p:spPr>
          <a:xfrm>
            <a:off x="1258920" y="3141720"/>
            <a:ext cx="1944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宋体"/>
              </a:rPr>
              <a:t>作业布置</a:t>
            </a: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84" name="WordArt 31"/>
          <p:cNvSpPr txBox="1"/>
          <p:nvPr/>
        </p:nvSpPr>
        <p:spPr>
          <a:xfrm>
            <a:off x="1476360" y="4149720"/>
            <a:ext cx="12952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宋体"/>
              </a:rPr>
              <a:t>结束</a:t>
            </a: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" dur="2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3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3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3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25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教学目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字词教学：掌握“舔、咧、偎、簪、拗、刷”等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知识教学：了解民间故事幻想奇丽、情节动人的特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能力教学：赏析、复述民间故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情感教学：感受我国古代劳动人民对自由幸福生活的向往并为之斗争的精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7" name="Picture 9" descr="ZW_072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6659640" y="5157720"/>
            <a:ext cx="1171440" cy="11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296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  <a:ea typeface="隶书"/>
              </a:rPr>
              <a:t>文体知识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94920" y="1628280"/>
            <a:ext cx="792180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4800" spc="-1" strike="noStrike">
                <a:solidFill>
                  <a:srgbClr val="000066"/>
                </a:solidFill>
                <a:latin typeface="黑体"/>
                <a:ea typeface="黑体"/>
              </a:rPr>
              <a:t>民间故事</a:t>
            </a:r>
            <a:r>
              <a:rPr b="0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是在人民群众中间产生、流传的口头创作。它是以广阔的社会生活为背景，通过人们丰富的想象，以鲜明的人物形象、完整曲折的情节反映现实生活和人民愿望的口头文学作品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" name="Picture 6" descr="Musbv5el"/>
          <p:cNvPicPr/>
          <p:nvPr/>
        </p:nvPicPr>
        <p:blipFill>
          <a:blip r:embed="rId2"/>
          <a:stretch/>
        </p:blipFill>
        <p:spPr>
          <a:xfrm>
            <a:off x="7956720" y="5950080"/>
            <a:ext cx="431640" cy="43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1" name=""/>
          <p:cNvGraphicFramePr/>
          <p:nvPr/>
        </p:nvGraphicFramePr>
        <p:xfrm>
          <a:off x="-4581360" y="3816360"/>
          <a:ext cx="2724120" cy="625320"/>
        </p:xfrm>
        <a:graphic>
          <a:graphicData uri="http://schemas.openxmlformats.org/drawingml/2006/table">
            <a:tbl>
              <a:tblPr/>
              <a:tblGrid>
                <a:gridCol w="2724120"/>
              </a:tblGrid>
              <a:tr h="383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中国民间年画中表现牛郎织女七夕相会的情景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2" name="AutoShape 6"/>
          <p:cNvSpPr/>
          <p:nvPr/>
        </p:nvSpPr>
        <p:spPr>
          <a:xfrm>
            <a:off x="-3510000" y="386244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17"/>
          <p:cNvSpPr/>
          <p:nvPr/>
        </p:nvSpPr>
        <p:spPr>
          <a:xfrm>
            <a:off x="324000" y="0"/>
            <a:ext cx="8353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Arial"/>
              </a:rPr>
              <a:t>牛郎织女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   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中国民间传说中的人物。牛郎和织女是从牛郎星和织女星的星名衍化而来的。汉魏间，民间即有此故事。故事中牛郎是人间的看牛郎，织女则是天帝之女。织女与牛郎婚配 ，并生一男一女，最后王母将其捉回，在两人之间划成一道天河，二人只能靠鹊桥每年七夕相会。它与孟姜女传说、白蛇传说、梁祝传说被称为中国四大传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18"/>
          <p:cNvSpPr/>
          <p:nvPr/>
        </p:nvSpPr>
        <p:spPr>
          <a:xfrm>
            <a:off x="2624040" y="6165720"/>
            <a:ext cx="383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中国民间年画中表现牛郎织女七夕相会的情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AutoShape 20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AutoShape 23"/>
          <p:cNvSpPr/>
          <p:nvPr/>
        </p:nvSpPr>
        <p:spPr>
          <a:xfrm>
            <a:off x="42847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7" name="Picture 24" descr="牛郎织女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16000" y="2852640"/>
            <a:ext cx="6769080" cy="331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7" dur="1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" dur="5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2"/>
          <p:cNvSpPr/>
          <p:nvPr/>
        </p:nvSpPr>
        <p:spPr>
          <a:xfrm>
            <a:off x="380880" y="609480"/>
            <a:ext cx="3038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cc66"/>
                </a:solidFill>
                <a:latin typeface="Arial"/>
                <a:ea typeface="黑体"/>
              </a:rPr>
              <a:t>教学过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3"/>
          <p:cNvSpPr/>
          <p:nvPr/>
        </p:nvSpPr>
        <p:spPr>
          <a:xfrm>
            <a:off x="539640" y="3213000"/>
            <a:ext cx="8604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cc66"/>
                </a:solidFill>
                <a:latin typeface="方正姚体"/>
                <a:ea typeface="方正姚体"/>
              </a:rPr>
              <a:t>听课文录音，欣赏民间故事：</a:t>
            </a:r>
            <a:br>
              <a:rPr sz="4800"/>
            </a:br>
            <a:br>
              <a:rPr sz="4800"/>
            </a:br>
            <a:r>
              <a:rPr b="1" lang="zh-CN" sz="4800" spc="-1" strike="noStrike">
                <a:solidFill>
                  <a:srgbClr val="ffcc66"/>
                </a:solidFill>
                <a:latin typeface="方正姚体"/>
                <a:ea typeface="方正姚体"/>
              </a:rPr>
              <a:t>   </a:t>
            </a:r>
            <a:r>
              <a:rPr b="1" lang="en-US" sz="4800" spc="-1" strike="noStrike">
                <a:solidFill>
                  <a:srgbClr val="ffcc66"/>
                </a:solidFill>
                <a:latin typeface="方正姚体"/>
                <a:ea typeface="方正姚体"/>
              </a:rPr>
              <a:t>1</a:t>
            </a:r>
            <a:r>
              <a:rPr b="1" lang="zh-CN" sz="4800" spc="-1" strike="noStrike">
                <a:solidFill>
                  <a:srgbClr val="ffcc66"/>
                </a:solidFill>
                <a:latin typeface="方正姚体"/>
                <a:ea typeface="方正姚体"/>
              </a:rPr>
              <a:t>、抓关键词，注意生字词。</a:t>
            </a:r>
            <a:br>
              <a:rPr sz="4800"/>
            </a:br>
            <a:r>
              <a:rPr b="1" lang="zh-CN" sz="4800" spc="-1" strike="noStrike">
                <a:solidFill>
                  <a:srgbClr val="ffcc66"/>
                </a:solidFill>
                <a:latin typeface="方正姚体"/>
                <a:ea typeface="方正姚体"/>
              </a:rPr>
              <a:t>   </a:t>
            </a:r>
            <a:r>
              <a:rPr b="1" lang="en-US" sz="4800" spc="-1" strike="noStrike">
                <a:solidFill>
                  <a:srgbClr val="ffcc66"/>
                </a:solidFill>
                <a:latin typeface="方正姚体"/>
                <a:ea typeface="方正姚体"/>
              </a:rPr>
              <a:t>2</a:t>
            </a:r>
            <a:r>
              <a:rPr b="1" lang="zh-CN" sz="4800" spc="-1" strike="noStrike">
                <a:solidFill>
                  <a:srgbClr val="ffcc66"/>
                </a:solidFill>
                <a:latin typeface="方正姚体"/>
                <a:ea typeface="方正姚体"/>
              </a:rPr>
              <a:t>、按练习一提示口述课文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0" name="Picture 7" descr="QT_065"/>
          <p:cNvPicPr/>
          <p:nvPr/>
        </p:nvPicPr>
        <p:blipFill>
          <a:blip r:embed="rId2"/>
          <a:stretch/>
        </p:blipFill>
        <p:spPr>
          <a:xfrm>
            <a:off x="1619280" y="5805360"/>
            <a:ext cx="807840" cy="80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2446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检查预习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440" y="19890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注音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4400" spc="-1" strike="noStrike">
                <a:solidFill>
                  <a:srgbClr val="ffff66"/>
                </a:solidFill>
                <a:latin typeface="Times New Roman"/>
              </a:rPr>
              <a:t>舔（              ）咧（             ）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imes New Roman"/>
              </a:rPr>
              <a:t>     </a:t>
            </a:r>
            <a:r>
              <a:rPr b="1" lang="zh-CN" sz="4400" spc="-1" strike="noStrike">
                <a:solidFill>
                  <a:srgbClr val="ffff66"/>
                </a:solidFill>
                <a:latin typeface="Times New Roman"/>
              </a:rPr>
              <a:t>偎（              ）簪（             ）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imes New Roman"/>
              </a:rPr>
              <a:t>     </a:t>
            </a:r>
            <a:r>
              <a:rPr b="1" lang="zh-CN" sz="4400" spc="-1" strike="noStrike">
                <a:solidFill>
                  <a:srgbClr val="ffff66"/>
                </a:solidFill>
                <a:latin typeface="Times New Roman"/>
              </a:rPr>
              <a:t>拗（              ）刷（             ）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3" name="Picture 4" descr="0311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6804000" y="5589720"/>
            <a:ext cx="1081080" cy="876240"/>
          </a:xfrm>
          <a:prstGeom prst="rect">
            <a:avLst/>
          </a:prstGeom>
          <a:ln w="0">
            <a:noFill/>
          </a:ln>
        </p:spPr>
      </p:pic>
      <p:sp>
        <p:nvSpPr>
          <p:cNvPr id="504" name="Text Box 5"/>
          <p:cNvSpPr/>
          <p:nvPr/>
        </p:nvSpPr>
        <p:spPr>
          <a:xfrm>
            <a:off x="2987640" y="2349360"/>
            <a:ext cx="54007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i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ăn                    liě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wēi                     zā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niù                 sh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ā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5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5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80"/>
                                        <p:tgtEl>
                                          <p:spTgt spid="5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244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7d47d"/>
                </a:solidFill>
                <a:latin typeface="Arial"/>
              </a:rPr>
              <a:t>理清结构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11280" y="1412640"/>
            <a:ext cx="77724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2f1311"/>
                </a:solidFill>
                <a:latin typeface="Arial"/>
              </a:rPr>
              <a:t>结合文后练习一，同桌间讨论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07" name="Text Box 4"/>
          <p:cNvSpPr/>
          <p:nvPr/>
        </p:nvSpPr>
        <p:spPr>
          <a:xfrm>
            <a:off x="1187280" y="2565360"/>
            <a:ext cx="86364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AutoShape 5"/>
          <p:cNvSpPr/>
          <p:nvPr/>
        </p:nvSpPr>
        <p:spPr>
          <a:xfrm>
            <a:off x="2124000" y="2421000"/>
            <a:ext cx="432000" cy="3816360"/>
          </a:xfrm>
          <a:custGeom>
            <a:avLst/>
            <a:gdLst>
              <a:gd name="textAreaLeft" fmla="*/ 276120 w 432000"/>
              <a:gd name="textAreaRight" fmla="*/ 432360 w 43200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6"/>
          <p:cNvSpPr/>
          <p:nvPr/>
        </p:nvSpPr>
        <p:spPr>
          <a:xfrm>
            <a:off x="2700360" y="2060640"/>
            <a:ext cx="381636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一、善良的牛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二、美满的生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三、勇敢的抗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7"/>
          <p:cNvSpPr/>
          <p:nvPr/>
        </p:nvSpPr>
        <p:spPr>
          <a:xfrm>
            <a:off x="6084720" y="2060640"/>
            <a:ext cx="28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 —— 8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8"/>
          <p:cNvSpPr/>
          <p:nvPr/>
        </p:nvSpPr>
        <p:spPr>
          <a:xfrm>
            <a:off x="6084720" y="3933720"/>
            <a:ext cx="305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（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9——23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9"/>
          <p:cNvSpPr/>
          <p:nvPr/>
        </p:nvSpPr>
        <p:spPr>
          <a:xfrm>
            <a:off x="6046920" y="5805360"/>
            <a:ext cx="30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4——29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3" name="Picture 12" descr="10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7740720" y="333360"/>
            <a:ext cx="865080" cy="79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0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7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30T11:26:05Z</dcterms:created>
  <dc:creator>www.eeppt.com</dc:creator>
  <dc:description>ppt模板下载网站 http://www.eeppt.com</dc:description>
  <cp:keywords>ppt模板下载网站 http:/www.eeppt.com</cp:keywords>
  <dc:language>en-US</dc:language>
  <cp:lastModifiedBy/>
  <dcterms:modified xsi:type="dcterms:W3CDTF">2015-05-20T13:49:28Z</dcterms:modified>
  <cp:revision>1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