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5E1-1FD8-4BDE-A552-2A89EDB9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35D-C469-4E2E-8353-F6536133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EE2-14D1-4996-B2E6-EE11CAAC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6FF-201B-4A8B-ACBB-E36CF56C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5DCC-940E-44E8-B3FE-7BE5DE6B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2904-F66E-4CE1-9F96-F3A8B420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2CDA-586E-4AD9-8B4F-0BA83902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02DE-A136-4014-A7A5-0074DEE7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FAD6-BE1C-49CA-977A-8E4B88E6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BD44-5B17-4202-8EA3-ECF786C1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D3B4-5282-462E-BC2A-B41A3862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972-0A37-4F7C-90B0-1FE35C75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A970-4D95-4D08-9439-E1E01B41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317D-D667-4C70-888D-69E0F9BD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7A10-BA23-47EB-A6FD-1B2061B3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4D08-5B4A-4ACC-8F61-E02D63B1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DF62-8C79-417D-A6F4-AC9A9F16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F7D-12EF-4D7A-8661-8E2E1E69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638-5DB5-4E2A-B46F-0303D92A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413-BD42-444F-B078-4E17E749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151-6EDD-450C-A0EF-A66FA096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EB79-0EEF-4BB6-8F6E-A6E81871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F0B-D72E-4B74-9B1F-09CE62B1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3BA-5018-4AF1-BF16-87D887A7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360D-D48E-473D-80D8-11627D28A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9C75-975E-4835-9D73-90B36540BFF3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256,34,&#24187;&#28783;&#29255; 34" TargetMode="External"/><Relationship Id="rId2" Type="http://schemas.openxmlformats.org/officeDocument/2006/relationships/hyperlink" Target="256,35,&#24187;&#28783;&#29255; 35" TargetMode="Externa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6.jpeg"/><Relationship Id="rId1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 Box 3" descr=""/>
          <p:cNvPicPr/>
          <p:nvPr/>
        </p:nvPicPr>
        <p:blipFill>
          <a:blip r:embed="rId2"/>
          <a:stretch/>
        </p:blipFill>
        <p:spPr>
          <a:xfrm>
            <a:off x="523800" y="987480"/>
            <a:ext cx="1542960" cy="45655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1982880" y="2619360"/>
            <a:ext cx="1003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Times New Roman"/>
                <a:ea typeface="华文行楷"/>
              </a:rPr>
              <a:t>     </a:t>
            </a:r>
            <a:r>
              <a:rPr b="1" lang="zh-CN" sz="5400" spc="-1" strike="noStrike">
                <a:solidFill>
                  <a:srgbClr val="0039ac"/>
                </a:solidFill>
                <a:latin typeface="Times New Roman"/>
              </a:rPr>
              <a:t>袁    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4" name="图片 1" descr=""/>
          <p:cNvPicPr/>
          <p:nvPr/>
        </p:nvPicPr>
        <p:blipFill>
          <a:blip r:embed="rId3"/>
          <a:stretch/>
        </p:blipFill>
        <p:spPr>
          <a:xfrm>
            <a:off x="3218040" y="2397240"/>
            <a:ext cx="5948280" cy="446076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4145040" y="260280"/>
            <a:ext cx="43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4000" y="764640"/>
            <a:ext cx="813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通常说天地开辟以后，还没有人类，女娲揉团黄土造成人。这项工作太费力了，女娲忙不过来，就把一根绳子放到泥浆中拉出来，溅出的泥点子就成了人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女娲在神祠里祷告，祈求神任命她做女媒。于是女娲就安排男女婚配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411280" y="54421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ac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9ac"/>
                </a:solidFill>
                <a:latin typeface="Arial"/>
              </a:rPr>
              <a:t>古籍</a:t>
            </a:r>
            <a:r>
              <a:rPr b="1" lang="en-US" sz="3200" spc="-1" strike="noStrike">
                <a:solidFill>
                  <a:srgbClr val="0039a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9ac"/>
                </a:solidFill>
                <a:latin typeface="Arial"/>
              </a:rPr>
              <a:t>风俗通</a:t>
            </a:r>
            <a:r>
              <a:rPr b="1" lang="en-US" sz="3200" spc="-1" strike="noStrike">
                <a:solidFill>
                  <a:srgbClr val="0039a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9ac"/>
                </a:solidFill>
                <a:latin typeface="Arial"/>
              </a:rPr>
              <a:t>有关内容译文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未标题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-1000800" y="0"/>
            <a:ext cx="2191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80808"/>
                </a:solidFill>
                <a:latin typeface="Times New Roman"/>
                <a:ea typeface="隶书"/>
              </a:rPr>
              <a:t>女娲造人</a:t>
            </a:r>
            <a:endParaRPr b="0" lang="en-US" sz="6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684360" y="5493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Times New Roman"/>
                <a:ea typeface="华文隶书"/>
              </a:rPr>
              <a:t>探究品味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57200" y="1752480"/>
            <a:ext cx="83059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   </a:t>
            </a:r>
            <a:r>
              <a:rPr b="1" lang="zh-CN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复述课文，对照</a:t>
            </a:r>
            <a:r>
              <a:rPr b="1" lang="en-US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《</a:t>
            </a:r>
            <a:r>
              <a:rPr b="1" lang="zh-CN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风俗通</a:t>
            </a:r>
            <a:r>
              <a:rPr b="1" lang="en-US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》</a:t>
            </a:r>
            <a:r>
              <a:rPr b="1" lang="zh-CN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中关于女娲的</a:t>
            </a:r>
            <a:r>
              <a:rPr b="0" lang="zh-CN" sz="4400" spc="-1" strike="noStrike" u="sng">
                <a:solidFill>
                  <a:srgbClr val="0066ff"/>
                </a:solidFill>
                <a:uFillTx/>
                <a:latin typeface="华文新魏"/>
                <a:ea typeface="华文新魏"/>
                <a:hlinkClick r:id="rId1"/>
              </a:rPr>
              <a:t>记载</a:t>
            </a:r>
            <a:r>
              <a:rPr b="1" lang="zh-CN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，找出课文丰富了哪些</a:t>
            </a:r>
            <a:r>
              <a:rPr b="0" lang="zh-CN" sz="4400" spc="-1" strike="noStrike" u="sng">
                <a:solidFill>
                  <a:srgbClr val="0066ff"/>
                </a:solidFill>
                <a:uFillTx/>
                <a:latin typeface="华文新魏"/>
                <a:ea typeface="华文新魏"/>
                <a:hlinkClick r:id="rId2"/>
              </a:rPr>
              <a:t>内容，</a:t>
            </a:r>
            <a:r>
              <a:rPr b="1" lang="zh-CN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哪里最见出作者的想像力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6" name="Picture 4" descr="wend6"/>
          <p:cNvPicPr/>
          <p:nvPr/>
        </p:nvPicPr>
        <p:blipFill>
          <a:blip r:embed="rId3"/>
          <a:stretch/>
        </p:blipFill>
        <p:spPr>
          <a:xfrm>
            <a:off x="6629400" y="4775040"/>
            <a:ext cx="251460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1359000" y="287280"/>
            <a:ext cx="59896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丰富了以下内容：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01680" y="1600200"/>
            <a:ext cx="854064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造人动机的产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造人的具体过程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3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人造出后的欢快场面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4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女娲的情绪和心理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5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作者的评述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95480" y="579132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中宋"/>
              </a:rPr>
              <a:t>足见作者想像的丰富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原短文内容框架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6880" y="3124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女娲造人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836440" y="2590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揉黄泥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765160" y="3733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挥洒泥浆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807440" y="3124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人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3371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人类绵延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5797800" y="2743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男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5797800" y="3733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女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48" name="Group 10"/>
          <p:cNvGrpSpPr/>
          <p:nvPr/>
        </p:nvGrpSpPr>
        <p:grpSpPr>
          <a:xfrm>
            <a:off x="1752480" y="2971440"/>
            <a:ext cx="576360" cy="864000"/>
            <a:chOff x="1752480" y="2971440"/>
            <a:chExt cx="576360" cy="864000"/>
          </a:xfrm>
        </p:grpSpPr>
        <p:sp>
          <p:nvSpPr>
            <p:cNvPr id="149" name="Line 11"/>
            <p:cNvSpPr/>
            <p:nvPr/>
          </p:nvSpPr>
          <p:spPr>
            <a:xfrm>
              <a:off x="1752480" y="3403440"/>
              <a:ext cx="28908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" name="Line 12"/>
            <p:cNvSpPr/>
            <p:nvPr/>
          </p:nvSpPr>
          <p:spPr>
            <a:xfrm flipV="1">
              <a:off x="2041560" y="2971440"/>
              <a:ext cx="287280" cy="43164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" name="Line 13"/>
            <p:cNvSpPr/>
            <p:nvPr/>
          </p:nvSpPr>
          <p:spPr>
            <a:xfrm>
              <a:off x="2041560" y="3403440"/>
              <a:ext cx="287280" cy="43200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52" name="Line 14"/>
          <p:cNvSpPr/>
          <p:nvPr/>
        </p:nvSpPr>
        <p:spPr>
          <a:xfrm>
            <a:off x="4114800" y="3429000"/>
            <a:ext cx="577800" cy="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53" name="Group 15"/>
          <p:cNvGrpSpPr/>
          <p:nvPr/>
        </p:nvGrpSpPr>
        <p:grpSpPr>
          <a:xfrm>
            <a:off x="5257440" y="3048120"/>
            <a:ext cx="360360" cy="864720"/>
            <a:chOff x="5257440" y="3048120"/>
            <a:chExt cx="360360" cy="864720"/>
          </a:xfrm>
        </p:grpSpPr>
        <p:sp>
          <p:nvSpPr>
            <p:cNvPr id="154" name="Line 16"/>
            <p:cNvSpPr/>
            <p:nvPr/>
          </p:nvSpPr>
          <p:spPr>
            <a:xfrm flipH="1">
              <a:off x="5257440" y="3048120"/>
              <a:ext cx="360360" cy="43164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 flipH="1" flipV="1">
              <a:off x="5257440" y="3481200"/>
              <a:ext cx="360360" cy="43164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56" name="Line 18"/>
          <p:cNvSpPr/>
          <p:nvPr/>
        </p:nvSpPr>
        <p:spPr>
          <a:xfrm>
            <a:off x="6400800" y="3581280"/>
            <a:ext cx="577800" cy="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500"/>
                            </p:stCondLst>
                            <p:childTnLst>
                              <p:par>
                                <p:cTn id="2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58920" y="1412640"/>
            <a:ext cx="5113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神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性和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人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性的结合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奇特和合理的统一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873000" y="240840"/>
            <a:ext cx="65786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【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中宋"/>
              </a:rPr>
              <a:t>合作探究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】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95280" y="3141720"/>
            <a:ext cx="85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080808"/>
                </a:solidFill>
                <a:latin typeface="幼圆"/>
                <a:ea typeface="幼圆"/>
              </a:rPr>
              <a:t>、故事中哪些内容体现出女娲的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幼圆"/>
                <a:ea typeface="幼圆"/>
              </a:rPr>
              <a:t>神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幼圆"/>
              </a:rPr>
              <a:t>”</a:t>
            </a:r>
            <a:r>
              <a:rPr b="1" lang="zh-CN" sz="3200" spc="-1" strike="noStrike">
                <a:solidFill>
                  <a:srgbClr val="080808"/>
                </a:solidFill>
                <a:latin typeface="幼圆"/>
                <a:ea typeface="幼圆"/>
              </a:rPr>
              <a:t>性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幼圆"/>
                <a:ea typeface="幼圆"/>
              </a:rPr>
              <a:t>、故事中哪些内容体现出女娲的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幼圆"/>
                <a:ea typeface="幼圆"/>
              </a:rPr>
              <a:t>人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幼圆"/>
              </a:rPr>
              <a:t>”</a:t>
            </a:r>
            <a:r>
              <a:rPr b="1" lang="zh-CN" sz="3200" spc="-1" strike="noStrike">
                <a:solidFill>
                  <a:srgbClr val="080808"/>
                </a:solidFill>
                <a:latin typeface="幼圆"/>
                <a:ea typeface="幼圆"/>
              </a:rPr>
              <a:t>性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826920" y="494172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要求：分小组讨论，并由小组代表作好讨论记录，然后由小组代表发言交流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92120" y="1574640"/>
            <a:ext cx="256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主题</a:t>
            </a:r>
            <a:r>
              <a:rPr b="0" lang="en-US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——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3467160" cy="21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一天变化七十次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揉黄泥造人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挥洒泥浆造人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华文中宋"/>
              </a:rPr>
              <a:t>…………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68360" y="3716280"/>
            <a:ext cx="34671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寂寞孤独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自豪欣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忙碌疲倦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华文中宋"/>
              </a:rPr>
              <a:t>…………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3851280" y="3860640"/>
            <a:ext cx="289080" cy="1727280"/>
          </a:xfrm>
          <a:custGeom>
            <a:avLst/>
            <a:gdLst>
              <a:gd name="textAreaLeft" fmla="*/ 0 w 289080"/>
              <a:gd name="textAreaRight" fmla="*/ 104400 w 28908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51280" y="1413000"/>
            <a:ext cx="289080" cy="1726920"/>
          </a:xfrm>
          <a:custGeom>
            <a:avLst/>
            <a:gdLst>
              <a:gd name="textAreaLeft" fmla="*/ 0 w 289080"/>
              <a:gd name="textAreaRight" fmla="*/ 104400 w 28908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356000" y="1557360"/>
            <a:ext cx="18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神”的非凡能力和神奇方法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427640" y="4005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人”的心理、情感、活动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6732720" y="1413000"/>
            <a:ext cx="216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方正姚体"/>
              </a:rPr>
              <a:t>想像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大胆奇特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732720" y="3860640"/>
            <a:ext cx="241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方正姚体"/>
              </a:rPr>
              <a:t>想像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真实合理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 flipV="1">
            <a:off x="304920" y="99036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80880" y="1295280"/>
            <a:ext cx="8763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华文行楷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080808"/>
                </a:solidFill>
                <a:latin typeface="华文行楷"/>
                <a:ea typeface="华文行楷"/>
              </a:rPr>
              <a:t>、你也发挥自己的想像，对女娲造人的动机、经过做另一种推测，说给大家听听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2" name="Picture 4" descr="gaofeng179"/>
          <p:cNvPicPr/>
          <p:nvPr/>
        </p:nvPicPr>
        <p:blipFill>
          <a:blip r:embed="rId1"/>
          <a:stretch/>
        </p:blipFill>
        <p:spPr>
          <a:xfrm>
            <a:off x="6705720" y="4417920"/>
            <a:ext cx="2438280" cy="2440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80880" y="380988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华文行楷"/>
                <a:ea typeface="华文行楷"/>
              </a:rPr>
              <a:t>2</a:t>
            </a:r>
            <a:r>
              <a:rPr b="1" lang="zh-CN" sz="4800" spc="-1" strike="noStrike">
                <a:solidFill>
                  <a:srgbClr val="080808"/>
                </a:solidFill>
                <a:latin typeface="华文行楷"/>
                <a:ea typeface="华文行楷"/>
              </a:rPr>
              <a:t>、说 说你对女娲的认识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57200" y="3049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Times New Roman"/>
                <a:ea typeface="幼圆"/>
              </a:rPr>
              <a:t>研读课文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宋体"/>
                <a:ea typeface="Times New Roman"/>
              </a:rPr>
              <a:t>【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中宋"/>
              </a:rPr>
              <a:t>争论题</a:t>
            </a:r>
            <a:r>
              <a:rPr b="0" lang="en-US" sz="6000" spc="-1" strike="noStrike">
                <a:solidFill>
                  <a:srgbClr val="000000"/>
                </a:solidFill>
                <a:latin typeface="宋体"/>
                <a:ea typeface="Times New Roman"/>
              </a:rPr>
              <a:t>】</a:t>
            </a:r>
            <a:endParaRPr b="0" lang="en-US" sz="6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63480" y="26798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80808"/>
                </a:solidFill>
                <a:latin typeface="Arial"/>
              </a:rPr>
              <a:t>这个神话故事的内容违背了科学性，今天学习这个故事是否有意义？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914400" y="609480"/>
            <a:ext cx="4495680" cy="9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33520" y="37339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华文行楷"/>
                <a:ea typeface="华文行楷"/>
              </a:rPr>
              <a:t>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神话是通过人民的幻想，用一种不自觉的艺术方式加工过的自然和社会形态本身。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”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马克思</a:t>
            </a:r>
            <a:r>
              <a:rPr b="1" lang="zh-CN" sz="4400" spc="-1" strike="noStrike">
                <a:solidFill>
                  <a:srgbClr val="080808"/>
                </a:solidFill>
                <a:latin typeface="华文行楷"/>
                <a:ea typeface="华文行楷"/>
              </a:rPr>
              <a:t>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609480" y="457200"/>
            <a:ext cx="74278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  <a:ea typeface="华文新魏"/>
              </a:rPr>
              <a:t>关于神仙或神化的古代英雄的故事。是古代人民对自然现象和社会生活的一种天真的解释和美丽的向往，常有浓厚的幻想色彩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900000" y="83664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想像为生活添翼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627280" y="299736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神话令你我心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95280" y="33336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华文中宋"/>
              </a:rPr>
              <a:t>上帝在创造天地和万物以后，在第六日造人。上帝按照自己的形象，用地上的尘土造一个人，往他的鼻孔里吹一口气，有了灵气，人就活了。能说话，能行走，上帝给他取一个名字叫亚当。后来，亚当成了伊甸园的守护神。亚当给伊甸园里的各种飞禽走兽起了名字，它们都听从于亚当。上帝看亚当辛苦，决定为他造一个配偶，以便帮助他工作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华文中宋"/>
              </a:rPr>
              <a:t>于是，上帝在亚当睡觉时，抽了亚当的一根肋骨造成一个女人叫夏娃，做了亚当的妻子。从此，亚当和夏娃在伊甸园里无忧无虑，过着和谐美满的生活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042920" y="98100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             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在中国有女娲造人美丽神话，在西方有上帝造人的宗教神话，人类的起源到底是什么，要依赖科学的解释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914400" y="620640"/>
            <a:ext cx="72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80808"/>
                </a:solidFill>
                <a:latin typeface="Times New Roman"/>
                <a:ea typeface="华文新魏"/>
              </a:rPr>
              <a:t>女娲造人，体现了人类可贵的创造力和探求精神，也使我们感受到生而为人的自豪。今天，我们面对的广大世界，依然有许多未知领域，等待我们去探求，去追索，去感受那种创造成功的喜悦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m106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WordArt 3"/>
          <p:cNvSpPr txBox="1"/>
          <p:nvPr/>
        </p:nvSpPr>
        <p:spPr>
          <a:xfrm>
            <a:off x="609480" y="480060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让我们去探索宇宙的奥秘吧</a:t>
            </a:r>
            <a:endParaRPr b="0" i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夸父逐日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380880" y="304920"/>
            <a:ext cx="8305920" cy="50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夸父逐日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夸父与日逐走，入日。渴，欲得饮，饮于河、渭；河、渭不足，北饮大泽。未至，道渴而死。弃其杖，化为邓林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逐走：竞跑，赛跑。  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入日：追赶到太阳落下的地方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河、渭：即黄河、渭水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大泽：大湖。传说其大纵横千里，在燕门山北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道渴而死：在半路因口渴而死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邓林：桃林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838080" y="990720"/>
            <a:ext cx="7239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夸父与太阳竞跑，一直追赶到太阳落下的地方；他感到口渴，想要喝水，就到黄河、渭水喝水。黄河、渭水的水不够，又去北方的大湖喝水。还没赶到大湖，就半路渴死了。他遗弃的手杖，化成桃林。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【</a:t>
            </a:r>
            <a:r>
              <a:rPr b="0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拓展延伸</a:t>
            </a:r>
            <a:r>
              <a:rPr b="0" lang="en-US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】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天地浑如鸡子，盘古生其中，万八千岁。开天辟地，阳清为天，阴浊为地，盘古在其中。一日九变，神于天，圣于地。天日高一尺，盘古日长一丈。如此万八千岁，天数极高，地数极深，盘古极长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盘古开天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Arial"/>
                <a:ea typeface="楷体_GB2312"/>
              </a:rPr>
              <a:t>请围绕下面几方面展开想像，扩充这个神话故事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、天地混沌的景象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、盘古开天的过程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、盘古顶天立地的情景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、天地成形后，盘古化成了什么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8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500"/>
                            </p:stCondLst>
                            <p:childTnLst>
                              <p:par>
                                <p:cTn id="4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3419640" y="260280"/>
            <a:ext cx="4105080" cy="1440000"/>
          </a:xfrm>
          <a:prstGeom prst="cloudCallout">
            <a:avLst>
              <a:gd name="adj1" fmla="val 25791"/>
              <a:gd name="adj2" fmla="val 119018"/>
            </a:avLst>
          </a:prstGeom>
          <a:solidFill>
            <a:srgbClr val="66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250920" y="0"/>
            <a:ext cx="41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9ac"/>
                </a:solidFill>
                <a:latin typeface="Times New Roman"/>
                <a:ea typeface="华文新魏"/>
              </a:rPr>
              <a:t>拓展迁移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24000" y="1268280"/>
            <a:ext cx="38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有一天，他忽然醒过来。睁开眼睛一看，啊呀，什么也看不见，眼前只是模糊的一片，闷的怪心慌。不知道从哪里抓过来一把大板斧，朝着眼前的混沌用力这么一挥，只听得一声霹雳巨响，大混沌忽然破裂开来。其中有些轻而清的东西，冉冉上升，变成天；另外有些重而浊的东西，沉沉下降，变成地。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------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当初是混沌不分的天地，就这样给盘古板斧一挥，划分开来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763640" y="765000"/>
            <a:ext cx="64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阅读神话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盘古开天地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选段，回答问题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284720" y="1413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从选段中找出三个反义词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4140360" y="19890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清</a:t>
            </a:r>
            <a:r>
              <a:rPr b="1" lang="en-US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-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浊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5076720" y="1989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轻</a:t>
            </a:r>
            <a:r>
              <a:rPr b="1" lang="en-US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-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重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6264360" y="1989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冉冉上升</a:t>
            </a:r>
            <a:r>
              <a:rPr b="1" lang="en-US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-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沉沉下降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4284720" y="24922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用简洁的话叙述天和地是怎样形成的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3924360" y="5493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盘古用大板斧劈开了混沌，分出了开地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356000" y="3500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找出描写盘古开天劈地动作的动词，这些动词表现了盘古的什么特点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4356000" y="4797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这段文字主要运用了的修辞手法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Oval 14"/>
          <p:cNvSpPr/>
          <p:nvPr/>
        </p:nvSpPr>
        <p:spPr>
          <a:xfrm>
            <a:off x="1979640" y="2781360"/>
            <a:ext cx="360360" cy="360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Oval 15"/>
          <p:cNvSpPr/>
          <p:nvPr/>
        </p:nvSpPr>
        <p:spPr>
          <a:xfrm>
            <a:off x="1042920" y="3500280"/>
            <a:ext cx="360360" cy="360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AutoShape 16"/>
          <p:cNvSpPr/>
          <p:nvPr/>
        </p:nvSpPr>
        <p:spPr>
          <a:xfrm>
            <a:off x="1066680" y="4038480"/>
            <a:ext cx="3024360" cy="2232000"/>
          </a:xfrm>
          <a:prstGeom prst="cloudCallout">
            <a:avLst>
              <a:gd name="adj1" fmla="val -18611"/>
              <a:gd name="adj2" fmla="val -91037"/>
            </a:avLst>
          </a:prstGeom>
          <a:solidFill>
            <a:srgbClr val="66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1332000" y="4941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豪壮  威力巨大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5580000" y="5300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夸张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07" name="Picture 19" descr="biblesw"/>
          <p:cNvPicPr/>
          <p:nvPr/>
        </p:nvPicPr>
        <p:blipFill>
          <a:blip r:embed="rId1"/>
          <a:stretch/>
        </p:blipFill>
        <p:spPr>
          <a:xfrm>
            <a:off x="0" y="0"/>
            <a:ext cx="11160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0" y="228600"/>
            <a:ext cx="89154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想象力比知识更重要。因为知识是有限的，而想象概括着世界上的一切，推动着社会的进步，成为知识进化的源泉。</a:t>
            </a: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爱因斯坦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宋体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  <a:ea typeface="楷体_GB2312"/>
              </a:rPr>
              <a:t>想象力是发明、发现及其他创造活动的源泉。</a:t>
            </a: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  <a:ea typeface="楷体_GB2312"/>
              </a:rPr>
              <a:t>古希腊的亚里士多德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宋体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  <a:ea typeface="楷体_GB2312"/>
              </a:rPr>
              <a:t>想象力是人类能力的试金石，人们正是依靠想象力征服世界！ </a:t>
            </a: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  <a:ea typeface="楷体_GB2312"/>
              </a:rPr>
              <a:t>被誉为创造学之父的奥斯本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9" name="射日.MPG" descr=""/>
          <p:cNvPicPr/>
          <p:nvPr/>
        </p:nvPicPr>
        <p:blipFill>
          <a:blip r:embed="rId17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2411280" y="278136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飞向未知的世界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900000" y="69228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插上想像的翅膀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39640" y="692280"/>
            <a:ext cx="806472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宋体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关于神话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神话是人类社会幼年时期的产物，是人类早期不自觉的艺术创作，是原始社会最早的艺术形式之一。是古代劳动人民对社会和自然现象的美妙解释和奇特想象，他们把自然力神化、人格化，在幻想中不自觉地进行艺术加工，创造出许多神的故事，这就是神话。神话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表现了远古人民对自然力的抗争和提高人类自身能力的渴望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其中的人物形象，大多具有超人的力量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gkt"/>
          <p:cNvPicPr/>
          <p:nvPr/>
        </p:nvPicPr>
        <p:blipFill>
          <a:blip r:embed="rId2"/>
          <a:stretch/>
        </p:blipFill>
        <p:spPr>
          <a:xfrm>
            <a:off x="0" y="0"/>
            <a:ext cx="9144000" cy="7045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hysr"/>
          <p:cNvPicPr/>
          <p:nvPr/>
        </p:nvPicPr>
        <p:blipFill>
          <a:blip r:embed="rId3"/>
          <a:stretch/>
        </p:blipFill>
        <p:spPr>
          <a:xfrm>
            <a:off x="0" y="0"/>
            <a:ext cx="9524880" cy="7086600"/>
          </a:xfrm>
          <a:prstGeom prst="rect">
            <a:avLst/>
          </a:prstGeom>
          <a:ln w="0">
            <a:noFill/>
          </a:ln>
        </p:spPr>
      </p:pic>
      <p:pic>
        <p:nvPicPr>
          <p:cNvPr id="92" name="Ink 4" descr=""/>
          <p:cNvPicPr/>
          <p:nvPr/>
        </p:nvPicPr>
        <p:blipFill>
          <a:blip r:embed="rId4"/>
          <a:stretch/>
        </p:blipFill>
        <p:spPr>
          <a:xfrm>
            <a:off x="2552760" y="5456160"/>
            <a:ext cx="84240" cy="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4140360" y="7650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  <a:ea typeface="华文隶书"/>
              </a:rPr>
              <a:t>盘古开天辟地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211640" y="3716280"/>
            <a:ext cx="136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  <a:ea typeface="华文隶书"/>
              </a:rPr>
              <a:t>女娲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" name="Line 4"/>
          <p:cNvSpPr/>
          <p:nvPr/>
        </p:nvSpPr>
        <p:spPr>
          <a:xfrm>
            <a:off x="5796000" y="1773360"/>
            <a:ext cx="0" cy="1092240"/>
          </a:xfrm>
          <a:prstGeom prst="line">
            <a:avLst/>
          </a:prstGeom>
          <a:ln w="28440">
            <a:solidFill>
              <a:srgbClr val="080808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6" name="Picture 5" descr="女娲像01"/>
          <p:cNvPicPr/>
          <p:nvPr/>
        </p:nvPicPr>
        <p:blipFill>
          <a:blip r:embed="rId1"/>
          <a:stretch/>
        </p:blipFill>
        <p:spPr>
          <a:xfrm>
            <a:off x="755640" y="620640"/>
            <a:ext cx="2344680" cy="5029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7093080" y="393372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084720" y="4292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华文隶书"/>
              </a:rPr>
              <a:t>补天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7164360" y="4797360"/>
            <a:ext cx="86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720" y="321300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华文隶书"/>
              </a:rPr>
              <a:t>造人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5651640" y="342900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71640" y="907920"/>
            <a:ext cx="6840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作者简介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        </a:t>
            </a:r>
            <a:r>
              <a:rPr b="1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袁珂，生于</a:t>
            </a:r>
            <a:r>
              <a:rPr b="1" lang="en-US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1916</a:t>
            </a:r>
            <a:r>
              <a:rPr b="1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年，神话学家。四川省新繁县人。论著有</a:t>
            </a:r>
            <a:r>
              <a:rPr b="1" lang="en-US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《</a:t>
            </a:r>
            <a:r>
              <a:rPr b="1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中国古代神话</a:t>
            </a:r>
            <a:r>
              <a:rPr b="1" lang="en-US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》</a:t>
            </a:r>
            <a:r>
              <a:rPr b="1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、</a:t>
            </a:r>
            <a:r>
              <a:rPr b="1" lang="en-US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《</a:t>
            </a:r>
            <a:r>
              <a:rPr b="1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山海经校注</a:t>
            </a:r>
            <a:r>
              <a:rPr b="1" lang="en-US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》</a:t>
            </a:r>
            <a:r>
              <a:rPr b="1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等。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华文楷体"/>
                <a:ea typeface="华文楷体"/>
              </a:rPr>
              <a:t>     </a:t>
            </a:r>
            <a:r>
              <a:rPr b="1" lang="en-US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《</a:t>
            </a:r>
            <a:r>
              <a:rPr b="1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中国古代神话</a:t>
            </a:r>
            <a:r>
              <a:rPr b="1" lang="en-US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》</a:t>
            </a:r>
            <a:r>
              <a:rPr b="1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是中国第一部汉民族古代神话</a:t>
            </a:r>
            <a:r>
              <a:rPr b="1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专著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28600" y="22860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读出画线字的正确读音：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419720" y="30481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莽莽</a:t>
            </a: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榛榛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990720" y="18288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澄</a:t>
            </a: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澈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066680" y="31240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幽</a:t>
            </a: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光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990720" y="57150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灵</a:t>
            </a: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敏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914400" y="44197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绵</a:t>
            </a: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延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4495680" y="42670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神</a:t>
            </a: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通广大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495680" y="19051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生气</a:t>
            </a: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蓬勃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572000" y="57913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枯    </a:t>
            </a: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藤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2514600" y="18288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imes New Roman"/>
              </a:rPr>
              <a:t>chè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6705720" y="19051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imes New Roman"/>
              </a:rPr>
              <a:t>péng bó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2590920" y="30481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imes New Roman"/>
              </a:rPr>
              <a:t>yōu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6858000" y="3124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imes New Roman"/>
              </a:rPr>
              <a:t>zhēn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2590920" y="44197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imes New Roman"/>
              </a:rPr>
              <a:t>mián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6781680" y="579132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imes New Roman"/>
              </a:rPr>
              <a:t>téng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2438280" y="57150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imes New Roman"/>
              </a:rPr>
              <a:t>mǐn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934320" y="41911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imes New Roman"/>
              </a:rPr>
              <a:t>shén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295280" y="1700280"/>
            <a:ext cx="784872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宋体"/>
              </a:rPr>
              <a:t>莽莽榛榛：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9079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9ac"/>
                </a:solidFill>
                <a:latin typeface="Times New Roman"/>
              </a:rPr>
              <a:t>词语解释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258920" y="2708280"/>
            <a:ext cx="586728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宋体"/>
              </a:rPr>
              <a:t>澄澈</a:t>
            </a:r>
            <a:r>
              <a:rPr b="1" lang="en-US" sz="4400" spc="-1" strike="noStrike">
                <a:solidFill>
                  <a:srgbClr val="080808"/>
                </a:solidFill>
                <a:latin typeface="宋体"/>
              </a:rPr>
              <a:t>:</a:t>
            </a:r>
            <a:r>
              <a:rPr b="1" lang="zh-CN" sz="4400" spc="-1" strike="noStrike">
                <a:solidFill>
                  <a:srgbClr val="080808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87280" y="39337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宋体"/>
              </a:rPr>
              <a:t>绵延：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140360" y="1916280"/>
            <a:ext cx="50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9ac"/>
                </a:solidFill>
                <a:latin typeface="Times New Roman"/>
              </a:rPr>
              <a:t>草木丛生的样子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987640" y="2924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9ac"/>
                </a:solidFill>
                <a:latin typeface="Times New Roman"/>
              </a:rPr>
              <a:t>清澈透明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843280" y="3933720"/>
            <a:ext cx="367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9ac"/>
                </a:solidFill>
                <a:latin typeface="Times New Roman"/>
              </a:rPr>
              <a:t>延续不断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228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风俗通</a:t>
            </a:r>
            <a:r>
              <a:rPr b="1" lang="en-US" sz="4400" spc="-1" strike="noStrike">
                <a:solidFill>
                  <a:srgbClr val="080808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中关于女娲的记载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040120" y="1066680"/>
            <a:ext cx="4586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ac"/>
                </a:solidFill>
                <a:latin typeface="Wingdings"/>
                <a:ea typeface="Wingdings"/>
              </a:rPr>
              <a:t>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通常说天地开辟以后，还没有人类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Wingdings"/>
                <a:ea typeface="Wingdings"/>
              </a:rPr>
              <a:t>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女娲揉团黄土造成人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Wingdings"/>
                <a:ea typeface="Wingdings"/>
              </a:rPr>
              <a:t>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这项工作太费力了，女娲忙不过来，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就把一根绳子放到泥浆中，拉出来，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溅出的泥点子就成了人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Wingdings"/>
                <a:ea typeface="Wingdings"/>
              </a:rPr>
              <a:t>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女娲在神祠里祷告，祈求神任命她做女媒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于是女娲就安排男女婚配。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9" name="Picture 4" descr="a93a84aded912e2f8810b55bcb12827b"/>
          <p:cNvPicPr/>
          <p:nvPr/>
        </p:nvPicPr>
        <p:blipFill>
          <a:blip r:embed="rId1"/>
          <a:stretch/>
        </p:blipFill>
        <p:spPr>
          <a:xfrm>
            <a:off x="5943600" y="419112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1:38:01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33:53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